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30EF-568D-42E7-964E-1276802B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2279-D09B-4486-BDAA-01A198FB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6894-6919-4C88-B3E3-3095DD71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2DA8-1C2A-45EB-AB0F-4ADD1547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99CE-5C42-4D0F-ABDC-BC1B03EF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6E3A-27FA-43F7-B1E8-B2AEF9FC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C4C3-1A48-40A1-831C-3F7DAB57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0FC6-4D17-47A0-9387-854FBCAE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2798-3BF3-425D-9CE7-640F0D72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A905-DCE1-41F1-B1EE-25EC6371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E097-F84F-4DB3-9F47-9C32FED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80B4-C138-4C6C-A96E-38C8D5F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87D9-6684-4B5B-B647-1AA959E1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2DB7-8059-45DC-B5CF-82DF8FBA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8649-98D7-4C40-B7AE-19C9EB6E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901E-BA03-44AF-BC10-31A6D579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B57D-0BEE-4BE8-9DBB-C1CB34B0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BA41-B88D-48D7-B0A9-19C22A98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3488-AE8B-4AAC-8797-A36AE4CD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7A8C-293F-4A5F-8CF1-30F8C813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BFFC-068D-4A69-92F0-C474E47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406A-374D-4BC3-AF1B-FF27F17C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25BF-5096-4C52-A58B-193F521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8563-978A-4989-977C-1D18E722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D395-0380-4938-8DFF-FB746CF80D12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18D3-DB4F-4E0E-81F8-89623C38C8B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736640"/>
            <a:ext cx="806292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INCIDÊNCIAS....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RÁ???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42210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A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batatas doce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são idênticas a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pâncreas</a:t>
            </a:r>
            <a:r>
              <a:rPr b="0" lang="pt-PT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e de fat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equilibram o índice glicémico de diabético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, principalmente a batata yaco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3024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zeitona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ão semelhantes aos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ovário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 de fato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judam a saúde e funcionamento dos ovário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302400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26654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400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cc00"/>
                </a:solidFill>
                <a:latin typeface="Garamond"/>
              </a:rPr>
              <a:t>Toranjas, laranjas e outros citrinos</a:t>
            </a:r>
            <a:r>
              <a:rPr b="0" lang="pt-PT" sz="3000" spc="-1" strike="noStrike">
                <a:solidFill>
                  <a:srgbClr val="ffffff"/>
                </a:solidFill>
                <a:latin typeface="Garamond"/>
              </a:rPr>
              <a:t> assemelham-se a </a:t>
            </a:r>
            <a:r>
              <a:rPr b="1" lang="pt-PT" sz="3000" spc="-1" strike="noStrike">
                <a:solidFill>
                  <a:srgbClr val="ffcc00"/>
                </a:solidFill>
                <a:latin typeface="Garamond"/>
              </a:rPr>
              <a:t>glândulas mamárias femininas</a:t>
            </a:r>
            <a:r>
              <a:rPr b="0" lang="pt-PT" sz="3000" spc="-1" strike="noStrike">
                <a:solidFill>
                  <a:srgbClr val="ffffff"/>
                </a:solidFill>
                <a:latin typeface="Garamond"/>
              </a:rPr>
              <a:t> e realmente </a:t>
            </a:r>
            <a:r>
              <a:rPr b="1" lang="pt-PT" sz="3000" spc="-1" strike="noStrike">
                <a:solidFill>
                  <a:srgbClr val="ffcc00"/>
                </a:solidFill>
                <a:latin typeface="Garamond"/>
              </a:rPr>
              <a:t>ajudam à saúde das mamas e à circulação linfática</a:t>
            </a:r>
            <a:r>
              <a:rPr b="0" lang="pt-PT" sz="3000" spc="-1" strike="noStrike">
                <a:solidFill>
                  <a:srgbClr val="ffffff"/>
                </a:solidFill>
                <a:latin typeface="Garamond"/>
              </a:rPr>
              <a:t>, dentro e fora das mama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3600720" cy="2257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2097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3357720"/>
            <a:ext cx="822960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A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cebola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parecem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células do corpo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. A investigação atual mostra que a cebola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juda a limpar materiais excedentes de todas as célula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corporais. Até produzem lágrimas que lavam as camadas epiteliais dos olhos...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194652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35280" y="692280"/>
            <a:ext cx="18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96000" y="692280"/>
            <a:ext cx="27367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c00"/>
                </a:solidFill>
                <a:latin typeface="Garamond"/>
              </a:rPr>
              <a:t>Fonte: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 Texto recebido pela inter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c00"/>
                </a:solidFill>
                <a:latin typeface="Garamond"/>
              </a:rPr>
              <a:t>Formatação: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Adroaldo E. R. Sa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Fisioterapeuta e Terapeuta Naturi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R. Padre Anchieta, 1846 conj. 50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Curitiba - P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Fone: 3521-7577 e 9607-45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E-mail: adrofisio@hotmail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Garamond"/>
              </a:rPr>
              <a:t>Uma rodela de </a:t>
            </a:r>
            <a:r>
              <a:rPr b="1" lang="pt-PT" sz="2800" spc="-1" strike="noStrike">
                <a:solidFill>
                  <a:srgbClr val="ffcc00"/>
                </a:solidFill>
                <a:latin typeface="Garamond"/>
              </a:rPr>
              <a:t>cenoura</a:t>
            </a:r>
            <a:r>
              <a:rPr b="0" lang="pt-PT" sz="2800" spc="-1" strike="noStrike">
                <a:solidFill>
                  <a:srgbClr val="ffffff"/>
                </a:solidFill>
                <a:latin typeface="Garamond"/>
              </a:rPr>
              <a:t> parece um </a:t>
            </a:r>
            <a:r>
              <a:rPr b="1" lang="pt-PT" sz="2800" spc="-1" strike="noStrike">
                <a:solidFill>
                  <a:srgbClr val="ffcc00"/>
                </a:solidFill>
                <a:latin typeface="Garamond"/>
              </a:rPr>
              <a:t>olho humano</a:t>
            </a:r>
            <a:r>
              <a:rPr b="0" lang="pt-PT" sz="2800" spc="-1" strike="noStrike">
                <a:solidFill>
                  <a:srgbClr val="ffffff"/>
                </a:solidFill>
                <a:latin typeface="Garamond"/>
              </a:rPr>
              <a:t>. A pupila, íris e linhas raiadas são semelhantes ao olho humano... e SIM, a ciência agora mostra que </a:t>
            </a:r>
            <a:r>
              <a:rPr b="1" lang="pt-PT" sz="2800" spc="-1" strike="noStrike">
                <a:solidFill>
                  <a:srgbClr val="ffcc00"/>
                </a:solidFill>
                <a:latin typeface="Garamond"/>
              </a:rPr>
              <a:t>a cenoura fortalece a circulação sanguínea e o funcionamento dos olhos.</a:t>
            </a:r>
            <a:r>
              <a:rPr b="1" lang="pt-BR" sz="28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549360"/>
            <a:ext cx="2334960" cy="2282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28083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36446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Um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tomate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tem quatro câmaras e é vermelho. 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coração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é vermelho e têm quatro câmaras. Toda a investigação mostra que 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tomate é de fato um puro alimento para o coração e circulação sanguínea.</a:t>
            </a:r>
            <a:r>
              <a:rPr b="1" lang="pt-BR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2448000" cy="232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2864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3357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s </a:t>
            </a:r>
            <a:r>
              <a:rPr b="1" lang="pt-BR" sz="3200" spc="-1" strike="noStrike">
                <a:solidFill>
                  <a:srgbClr val="ffcc00"/>
                </a:solidFill>
                <a:latin typeface="Garamond"/>
              </a:rPr>
              <a:t>uvas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crescem em cacho que tem a forma do </a:t>
            </a:r>
            <a:r>
              <a:rPr b="1" lang="pt-BR" sz="3200" spc="-1" strike="noStrike">
                <a:solidFill>
                  <a:srgbClr val="ffcc00"/>
                </a:solidFill>
                <a:latin typeface="Garamond"/>
              </a:rPr>
              <a:t>coração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. Cada uva assemelha-se a uma </a:t>
            </a:r>
            <a:r>
              <a:rPr b="1" lang="pt-BR" sz="3200" spc="-1" strike="noStrike">
                <a:solidFill>
                  <a:srgbClr val="ffcc00"/>
                </a:solidFill>
                <a:latin typeface="Garamond"/>
              </a:rPr>
              <a:t>célula sanguínea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e toda a investigação hoje em dia mostra que as </a:t>
            </a:r>
            <a:r>
              <a:rPr b="1" lang="pt-BR" sz="3200" spc="-1" strike="noStrike">
                <a:solidFill>
                  <a:srgbClr val="ffcc00"/>
                </a:solidFill>
                <a:latin typeface="Garamond"/>
              </a:rPr>
              <a:t>uvas são também um alimento profundamente vitalizador para o coração e sang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2374920" cy="2149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1549440" cy="23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56360" y="836640"/>
            <a:ext cx="2419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39333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O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feijões 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são exatamente idênticos ao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rin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humanos e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realmente curam e ajudam a manter a função renal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2860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ffcc00"/>
                </a:solidFill>
                <a:latin typeface="Garamond"/>
              </a:rPr>
              <a:t>Berinjelas, abacates e pêras </a:t>
            </a:r>
            <a:r>
              <a:rPr b="0" lang="pt-PT" sz="2700" spc="-1" strike="noStrike">
                <a:solidFill>
                  <a:srgbClr val="ffffff"/>
                </a:solidFill>
                <a:latin typeface="Garamond"/>
              </a:rPr>
              <a:t>são parecidos com o </a:t>
            </a:r>
            <a:r>
              <a:rPr b="1" lang="pt-PT" sz="2700" spc="-1" strike="noStrike">
                <a:solidFill>
                  <a:srgbClr val="ffcc00"/>
                </a:solidFill>
                <a:latin typeface="Garamond"/>
              </a:rPr>
              <a:t>ventre e cervix feminino</a:t>
            </a:r>
            <a:r>
              <a:rPr b="0" lang="pt-PT" sz="2700" spc="-1" strike="noStrike">
                <a:solidFill>
                  <a:srgbClr val="ffffff"/>
                </a:solidFill>
                <a:latin typeface="Garamond"/>
              </a:rPr>
              <a:t> e realmente </a:t>
            </a:r>
            <a:r>
              <a:rPr b="1" lang="pt-PT" sz="2700" spc="-1" strike="noStrike">
                <a:solidFill>
                  <a:srgbClr val="ffcc00"/>
                </a:solidFill>
                <a:latin typeface="Garamond"/>
              </a:rPr>
              <a:t>ajudam à saúde e funcionamento destes.</a:t>
            </a:r>
            <a:r>
              <a:rPr b="0" lang="pt-PT" sz="2700" spc="-1" strike="noStrike">
                <a:solidFill>
                  <a:srgbClr val="ffffff"/>
                </a:solidFill>
                <a:latin typeface="Garamond"/>
              </a:rPr>
              <a:t> Atualmente a investigação mostra que quando uma mulher come um abacate por semana, equilibra os hormônios, não acumula gordura indesejada na gravidez e previne cancros cervicais. E que profundo é isto?... Demora exatamente 9 meses para um cultivar um abacate da flor a fruta. Existem mais de 14 000 componentes químicos fotolíticos em cada um destes alimentos (a ciência moderna apenas estudou e nomeou cerca de 141)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187164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23763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316872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Uma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noz 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parece um pequeno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 cérebro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, com hemisférios esquerdo e direito, cerebelos superiores e inferiores. Até as rugas e folhos de uma noz são semelhantes ao neo-cortex. Agora sabemos que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s nozes ajudam a desenvolver mais de 3 dúzias de neurotransmissores para o funcionamento do cérebr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2952720" cy="2287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16872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ipo, bok choy, ruibarbo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e outros são idênticos a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osso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. Estes alimento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tingem especificamente a força dos osso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. Os ossos são compostos por 23% de sódio e estes alimentos têm 23% de sódio. Se não tiver sódio suficiente na sua dieta o organismo retira sódio dos ossos, deixando-os fracos. Estes alimentos reabastecem as necessidades do esquelet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35280" y="404640"/>
            <a:ext cx="1357560" cy="1810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80000" y="404640"/>
            <a:ext cx="26319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3429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Figos 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estão cheios de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semente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semelhantes a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espermatozóide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que estão pendurados aos pares quando crescem. Os figo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umentam a mobilidade e aumentam os números do esperma masculino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, assim com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judam a ultrapassar a esterilidade masculina</a:t>
            </a:r>
            <a:r>
              <a:rPr b="1" lang="pt-P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64000" y="765000"/>
            <a:ext cx="22226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1:19:08Z</dcterms:created>
  <dc:creator>Cliente</dc:creator>
  <dc:description/>
  <dc:language>en-US</dc:language>
  <cp:lastModifiedBy>Cliente</cp:lastModifiedBy>
  <dcterms:modified xsi:type="dcterms:W3CDTF">2009-01-21T21:02:00Z</dcterms:modified>
  <cp:revision>16</cp:revision>
  <dc:subject/>
  <dc:title>SERÁ    PURA  COINCIDÊNCIA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