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35ED5-FE71-4C82-A4BB-FEA2AE4E0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A065F-C0E0-4E5D-AC40-2753E10D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FFA39-A157-41EB-8B07-884490F18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46506-E66C-4130-8AD1-F0F77F3C5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FC98-3AE1-4638-BB81-7D194DEEF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D14A-9C2B-48C8-B593-00563F9B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A5A4-2283-44FA-A659-6A1796DF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E170-F9FF-4B2D-82F5-8F9FCB71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5751-83A4-446D-9869-FAD298D1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0B6A-9C8F-4881-B95C-B0AEFE0D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6C21-DA39-4170-832A-36E60F11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FDF9F-83F1-4CC0-892F-926B7FF9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2716-C7AF-4459-BA39-82C4C023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7C3B-0B53-4563-A28F-511DDA8F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1354-20A4-4937-851C-0E3AFF96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19E7-06B5-476C-835D-E33939D4E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6F31-0B41-4E60-8F4F-421CBDC57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70687-DCA5-4D61-8BF6-1BF2DC6B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4A3B1-2D80-4110-99BF-C1587F29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7E33C-2F67-4FCD-909D-7C00CD6A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7343E-14A2-4C19-B407-75808F53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BA83E-2C2A-42D4-B0C2-6A2E814E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A0C12-F4DD-487F-9739-8461ED45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CBB1F-D249-46B4-8D76-7C1606E3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5202-3200-4B15-AFA8-2E137A424D59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B4EF-4B58-4CA1-AE2F-D5B03EC81FD8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1736640"/>
            <a:ext cx="8062920" cy="34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OINCIDÊNCIAS....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ERÁ????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9640" y="42210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As </a:t>
            </a:r>
            <a:r>
              <a:rPr b="1" lang="pt-PT" sz="3200" spc="-1" strike="noStrike">
                <a:solidFill>
                  <a:srgbClr val="ffcc00"/>
                </a:solidFill>
                <a:latin typeface="Garamond"/>
              </a:rPr>
              <a:t>batatas doces</a:t>
            </a: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 são idênticas ao </a:t>
            </a:r>
            <a:r>
              <a:rPr b="1" lang="pt-PT" sz="3200" spc="-1" strike="noStrike">
                <a:solidFill>
                  <a:srgbClr val="ffcc00"/>
                </a:solidFill>
                <a:latin typeface="Garamond"/>
              </a:rPr>
              <a:t>pâncreas</a:t>
            </a:r>
            <a:r>
              <a:rPr b="0" lang="pt-PT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e de fato </a:t>
            </a:r>
            <a:r>
              <a:rPr b="1" lang="pt-PT" sz="3200" spc="-1" strike="noStrike">
                <a:solidFill>
                  <a:srgbClr val="ffcc00"/>
                </a:solidFill>
                <a:latin typeface="Garamond"/>
              </a:rPr>
              <a:t>equilibram o índice glicémico de diabéticos</a:t>
            </a: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, principalmente a batata yaco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3095640" cy="2641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148360" y="476280"/>
            <a:ext cx="302400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5280" y="4365360"/>
            <a:ext cx="8229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zeitona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ão semelhantes aos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ovário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 de fato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judam a saúde e funcionamento dos ovário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3024000" cy="2185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859280" y="1197000"/>
            <a:ext cx="266544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39640" y="4005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cc00"/>
                </a:solidFill>
                <a:latin typeface="Garamond"/>
              </a:rPr>
              <a:t>Toranjas, laranjas e outros citrinos</a:t>
            </a:r>
            <a:r>
              <a:rPr b="0" lang="pt-PT" sz="3000" spc="-1" strike="noStrike">
                <a:solidFill>
                  <a:srgbClr val="ffffff"/>
                </a:solidFill>
                <a:latin typeface="Garamond"/>
              </a:rPr>
              <a:t> assemelham-se a </a:t>
            </a:r>
            <a:r>
              <a:rPr b="1" lang="pt-PT" sz="3000" spc="-1" strike="noStrike">
                <a:solidFill>
                  <a:srgbClr val="ffcc00"/>
                </a:solidFill>
                <a:latin typeface="Garamond"/>
              </a:rPr>
              <a:t>glândulas mamárias femininas</a:t>
            </a:r>
            <a:r>
              <a:rPr b="0" lang="pt-PT" sz="3000" spc="-1" strike="noStrike">
                <a:solidFill>
                  <a:srgbClr val="ffffff"/>
                </a:solidFill>
                <a:latin typeface="Garamond"/>
              </a:rPr>
              <a:t> e realmente </a:t>
            </a:r>
            <a:r>
              <a:rPr b="1" lang="pt-PT" sz="3000" spc="-1" strike="noStrike">
                <a:solidFill>
                  <a:srgbClr val="ffcc00"/>
                </a:solidFill>
                <a:latin typeface="Garamond"/>
              </a:rPr>
              <a:t>ajudam à saúde das mamas e à circulação linfática</a:t>
            </a:r>
            <a:r>
              <a:rPr b="0" lang="pt-PT" sz="3000" spc="-1" strike="noStrike">
                <a:solidFill>
                  <a:srgbClr val="ffffff"/>
                </a:solidFill>
                <a:latin typeface="Garamond"/>
              </a:rPr>
              <a:t>, dentro e fora das mama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3600720" cy="2257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932360" y="765000"/>
            <a:ext cx="320976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11280" y="3357720"/>
            <a:ext cx="8229600" cy="26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As </a:t>
            </a:r>
            <a:r>
              <a:rPr b="1" lang="pt-PT" sz="3200" spc="-1" strike="noStrike">
                <a:solidFill>
                  <a:srgbClr val="ffcc00"/>
                </a:solidFill>
                <a:latin typeface="Garamond"/>
              </a:rPr>
              <a:t>cebolas</a:t>
            </a: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 parecem </a:t>
            </a:r>
            <a:r>
              <a:rPr b="1" lang="pt-PT" sz="3200" spc="-1" strike="noStrike">
                <a:solidFill>
                  <a:srgbClr val="ffcc00"/>
                </a:solidFill>
                <a:latin typeface="Garamond"/>
              </a:rPr>
              <a:t>células do corpo</a:t>
            </a: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. A investigação atual mostra que a cebola </a:t>
            </a:r>
            <a:r>
              <a:rPr b="1" lang="pt-PT" sz="3200" spc="-1" strike="noStrike">
                <a:solidFill>
                  <a:srgbClr val="ffcc00"/>
                </a:solidFill>
                <a:latin typeface="Garamond"/>
              </a:rPr>
              <a:t>ajuda a limpar materiais excedentes de todas as células</a:t>
            </a: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 corporais. Até produzem lágrimas que lavam as camadas epiteliais dos olhos...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87280" y="692280"/>
            <a:ext cx="1946520" cy="2016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635280" y="692280"/>
            <a:ext cx="1836720" cy="2016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796000" y="692280"/>
            <a:ext cx="273672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50920" y="2421000"/>
            <a:ext cx="8642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cc00"/>
                </a:solidFill>
                <a:latin typeface="Garamond"/>
              </a:rPr>
              <a:t>Fonte: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 Texto recebido pela intern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cc00"/>
                </a:solidFill>
                <a:latin typeface="Garamond"/>
              </a:rPr>
              <a:t>Formatação: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Adroaldo E. R. Sant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Fisioterapeuta e Terapeuta Naturis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R. Padre Anchieta, 1846 conj. 504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Curitiba - P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Fone: 3521-7577 e 9607-456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E-mail: adrofisio@hotmail.c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4360" y="371628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Garamond"/>
              </a:rPr>
              <a:t>Uma rodela de </a:t>
            </a:r>
            <a:r>
              <a:rPr b="1" lang="pt-PT" sz="2800" spc="-1" strike="noStrike">
                <a:solidFill>
                  <a:srgbClr val="ffcc00"/>
                </a:solidFill>
                <a:latin typeface="Garamond"/>
              </a:rPr>
              <a:t>cenoura</a:t>
            </a:r>
            <a:r>
              <a:rPr b="0" lang="pt-PT" sz="2800" spc="-1" strike="noStrike">
                <a:solidFill>
                  <a:srgbClr val="ffffff"/>
                </a:solidFill>
                <a:latin typeface="Garamond"/>
              </a:rPr>
              <a:t> parece um </a:t>
            </a:r>
            <a:r>
              <a:rPr b="1" lang="pt-PT" sz="2800" spc="-1" strike="noStrike">
                <a:solidFill>
                  <a:srgbClr val="ffcc00"/>
                </a:solidFill>
                <a:latin typeface="Garamond"/>
              </a:rPr>
              <a:t>olho humano</a:t>
            </a:r>
            <a:r>
              <a:rPr b="0" lang="pt-PT" sz="2800" spc="-1" strike="noStrike">
                <a:solidFill>
                  <a:srgbClr val="ffffff"/>
                </a:solidFill>
                <a:latin typeface="Garamond"/>
              </a:rPr>
              <a:t>. A pupila, íris e linhas raiadas são semelhantes ao olho humano... e SIM, a ciência agora mostra que </a:t>
            </a:r>
            <a:r>
              <a:rPr b="1" lang="pt-PT" sz="2800" spc="-1" strike="noStrike">
                <a:solidFill>
                  <a:srgbClr val="ffcc00"/>
                </a:solidFill>
                <a:latin typeface="Garamond"/>
              </a:rPr>
              <a:t>a cenoura fortalece a circulação sanguínea e o funcionamento dos olhos.</a:t>
            </a:r>
            <a:r>
              <a:rPr b="1" lang="pt-BR" sz="28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835280" y="549360"/>
            <a:ext cx="2334960" cy="2282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148360" y="620640"/>
            <a:ext cx="280836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9640" y="36446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Um </a:t>
            </a:r>
            <a:r>
              <a:rPr b="1" lang="pt-PT" sz="3200" spc="-1" strike="noStrike">
                <a:solidFill>
                  <a:srgbClr val="ffcc00"/>
                </a:solidFill>
                <a:latin typeface="Garamond"/>
              </a:rPr>
              <a:t>tomate</a:t>
            </a: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 tem quatro câmaras e é vermelho. O </a:t>
            </a:r>
            <a:r>
              <a:rPr b="1" lang="pt-PT" sz="3200" spc="-1" strike="noStrike">
                <a:solidFill>
                  <a:srgbClr val="ffcc00"/>
                </a:solidFill>
                <a:latin typeface="Garamond"/>
              </a:rPr>
              <a:t>coração</a:t>
            </a: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 é vermelho e têm quatro câmaras. Toda a investigação mostra que o </a:t>
            </a:r>
            <a:r>
              <a:rPr b="1" lang="pt-PT" sz="3200" spc="-1" strike="noStrike">
                <a:solidFill>
                  <a:srgbClr val="ffcc00"/>
                </a:solidFill>
                <a:latin typeface="Garamond"/>
              </a:rPr>
              <a:t>tomate é de fato um puro alimento para o coração e circulação sanguínea.</a:t>
            </a:r>
            <a:r>
              <a:rPr b="1" lang="pt-BR" sz="32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2448000" cy="2328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43280" y="692280"/>
            <a:ext cx="328644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9640" y="33577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As </a:t>
            </a:r>
            <a:r>
              <a:rPr b="1" lang="pt-BR" sz="3200" spc="-1" strike="noStrike">
                <a:solidFill>
                  <a:srgbClr val="ffcc00"/>
                </a:solidFill>
                <a:latin typeface="Garamond"/>
              </a:rPr>
              <a:t>uvas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 crescem em cacho que tem a forma do </a:t>
            </a:r>
            <a:r>
              <a:rPr b="1" lang="pt-BR" sz="3200" spc="-1" strike="noStrike">
                <a:solidFill>
                  <a:srgbClr val="ffcc00"/>
                </a:solidFill>
                <a:latin typeface="Garamond"/>
              </a:rPr>
              <a:t>coração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. Cada uva assemelha-se a uma </a:t>
            </a:r>
            <a:r>
              <a:rPr b="1" lang="pt-BR" sz="3200" spc="-1" strike="noStrike">
                <a:solidFill>
                  <a:srgbClr val="ffcc00"/>
                </a:solidFill>
                <a:latin typeface="Garamond"/>
              </a:rPr>
              <a:t>célula sanguínea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 e toda a investigação hoje em dia mostra que as </a:t>
            </a:r>
            <a:r>
              <a:rPr b="1" lang="pt-BR" sz="3200" spc="-1" strike="noStrike">
                <a:solidFill>
                  <a:srgbClr val="ffcc00"/>
                </a:solidFill>
                <a:latin typeface="Garamond"/>
              </a:rPr>
              <a:t>uvas são também um alimento profundamente vitalizador para o coração e sangu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2374920" cy="2149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067280" y="476280"/>
            <a:ext cx="1549440" cy="2376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156360" y="836640"/>
            <a:ext cx="241920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95280" y="39333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Os </a:t>
            </a:r>
            <a:r>
              <a:rPr b="1" lang="pt-PT" sz="3200" spc="-1" strike="noStrike">
                <a:solidFill>
                  <a:srgbClr val="ffcc00"/>
                </a:solidFill>
                <a:latin typeface="Garamond"/>
              </a:rPr>
              <a:t>feijões </a:t>
            </a: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são exatamente idênticos aos </a:t>
            </a:r>
            <a:r>
              <a:rPr b="1" lang="pt-PT" sz="3200" spc="-1" strike="noStrike">
                <a:solidFill>
                  <a:srgbClr val="ffcc00"/>
                </a:solidFill>
                <a:latin typeface="Garamond"/>
              </a:rPr>
              <a:t>rins</a:t>
            </a: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 humanos e </a:t>
            </a:r>
            <a:r>
              <a:rPr b="1" lang="pt-PT" sz="3200" spc="-1" strike="noStrike">
                <a:solidFill>
                  <a:srgbClr val="ffcc00"/>
                </a:solidFill>
                <a:latin typeface="Garamond"/>
              </a:rPr>
              <a:t>realmente curam e ajudam a manter a função renal</a:t>
            </a: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788000" y="620640"/>
            <a:ext cx="32860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640" y="299736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700" spc="-1" strike="noStrike">
                <a:solidFill>
                  <a:srgbClr val="ffcc00"/>
                </a:solidFill>
                <a:latin typeface="Garamond"/>
              </a:rPr>
              <a:t>Berinjelas, abacates e pêras </a:t>
            </a:r>
            <a:r>
              <a:rPr b="0" lang="pt-PT" sz="2700" spc="-1" strike="noStrike">
                <a:solidFill>
                  <a:srgbClr val="ffffff"/>
                </a:solidFill>
                <a:latin typeface="Garamond"/>
              </a:rPr>
              <a:t>são parecidos com o </a:t>
            </a:r>
            <a:r>
              <a:rPr b="1" lang="pt-PT" sz="2700" spc="-1" strike="noStrike">
                <a:solidFill>
                  <a:srgbClr val="ffcc00"/>
                </a:solidFill>
                <a:latin typeface="Garamond"/>
              </a:rPr>
              <a:t>ventre e cervix feminino</a:t>
            </a:r>
            <a:r>
              <a:rPr b="0" lang="pt-PT" sz="2700" spc="-1" strike="noStrike">
                <a:solidFill>
                  <a:srgbClr val="ffffff"/>
                </a:solidFill>
                <a:latin typeface="Garamond"/>
              </a:rPr>
              <a:t> e realmente </a:t>
            </a:r>
            <a:r>
              <a:rPr b="1" lang="pt-PT" sz="2700" spc="-1" strike="noStrike">
                <a:solidFill>
                  <a:srgbClr val="ffcc00"/>
                </a:solidFill>
                <a:latin typeface="Garamond"/>
              </a:rPr>
              <a:t>ajudam à saúde e funcionamento destes.</a:t>
            </a:r>
            <a:r>
              <a:rPr b="0" lang="pt-PT" sz="2700" spc="-1" strike="noStrike">
                <a:solidFill>
                  <a:srgbClr val="ffffff"/>
                </a:solidFill>
                <a:latin typeface="Garamond"/>
              </a:rPr>
              <a:t> Atualmente a investigação mostra que quando uma mulher come um abacate por semana, equilibra os hormônios, não acumula gordura indesejada na gravidez e previne cancros cervicais. E que profundo é isto?... Demora exatamente 9 meses para um cultivar um abacate da flor a fruta. Existem mais de 14 000 componentes químicos fotolíticos em cada um destes alimentos (a ciência moderna apenas estudou e nomeou cerca de 141)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1871640" cy="2016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148360" y="260280"/>
            <a:ext cx="237636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11280" y="316872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Uma </a:t>
            </a:r>
            <a:r>
              <a:rPr b="1" lang="pt-PT" sz="3200" spc="-1" strike="noStrike">
                <a:solidFill>
                  <a:srgbClr val="ffcc00"/>
                </a:solidFill>
                <a:latin typeface="Garamond"/>
              </a:rPr>
              <a:t>noz </a:t>
            </a: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parece um pequeno</a:t>
            </a:r>
            <a:r>
              <a:rPr b="1" lang="pt-PT" sz="3200" spc="-1" strike="noStrike">
                <a:solidFill>
                  <a:srgbClr val="ffcc00"/>
                </a:solidFill>
                <a:latin typeface="Garamond"/>
              </a:rPr>
              <a:t> cérebro</a:t>
            </a: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, com hemisférios esquerdo e direito, cerebelos superiores e inferiores. Até as rugas e folhos de uma noz são semelhantes ao neo-cortex. Agora sabemos que </a:t>
            </a:r>
            <a:r>
              <a:rPr b="1" lang="pt-PT" sz="3200" spc="-1" strike="noStrike">
                <a:solidFill>
                  <a:srgbClr val="ffcc00"/>
                </a:solidFill>
                <a:latin typeface="Garamond"/>
              </a:rPr>
              <a:t>as nozes ajudam a desenvolver mais de 3 dúzias de neurotransmissores para o funcionamento do cérebr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2952720" cy="2287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148360" y="404640"/>
            <a:ext cx="316872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360" y="249192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O </a:t>
            </a:r>
            <a:r>
              <a:rPr b="1" lang="pt-PT" sz="3200" spc="-1" strike="noStrike">
                <a:solidFill>
                  <a:srgbClr val="ffcc00"/>
                </a:solidFill>
                <a:latin typeface="Garamond"/>
              </a:rPr>
              <a:t>aipo, bok choy, ruibarbo</a:t>
            </a: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 e outros são idênticos a </a:t>
            </a:r>
            <a:r>
              <a:rPr b="1" lang="pt-PT" sz="3200" spc="-1" strike="noStrike">
                <a:solidFill>
                  <a:srgbClr val="ffcc00"/>
                </a:solidFill>
                <a:latin typeface="Garamond"/>
              </a:rPr>
              <a:t>ossos</a:t>
            </a: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. Estes alimentos </a:t>
            </a:r>
            <a:r>
              <a:rPr b="1" lang="pt-PT" sz="3200" spc="-1" strike="noStrike">
                <a:solidFill>
                  <a:srgbClr val="ffcc00"/>
                </a:solidFill>
                <a:latin typeface="Garamond"/>
              </a:rPr>
              <a:t>atingem especificamente a força dos ossos</a:t>
            </a: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. Os ossos são compostos por 23% de sódio e estes alimentos têm 23% de sódio. Se não tiver sódio suficiente na sua dieta o organismo retira sódio dos ossos, deixando-os fracos. Estes alimentos reabastecem as necessidades do esqueleto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635280" y="404640"/>
            <a:ext cx="1357560" cy="1810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580000" y="404640"/>
            <a:ext cx="26319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360" y="34290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cc00"/>
                </a:solidFill>
                <a:latin typeface="Garamond"/>
              </a:rPr>
              <a:t>Figos </a:t>
            </a: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estão cheios de </a:t>
            </a:r>
            <a:r>
              <a:rPr b="1" lang="pt-PT" sz="3200" spc="-1" strike="noStrike">
                <a:solidFill>
                  <a:srgbClr val="ffcc00"/>
                </a:solidFill>
                <a:latin typeface="Garamond"/>
              </a:rPr>
              <a:t>sementes</a:t>
            </a: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 semelhantes ao </a:t>
            </a:r>
            <a:r>
              <a:rPr b="1" lang="pt-PT" sz="3200" spc="-1" strike="noStrike">
                <a:solidFill>
                  <a:srgbClr val="ffcc00"/>
                </a:solidFill>
                <a:latin typeface="Garamond"/>
              </a:rPr>
              <a:t>espermatozóide</a:t>
            </a: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 que estão pendurados aos pares quando crescem. Os figos </a:t>
            </a:r>
            <a:r>
              <a:rPr b="1" lang="pt-PT" sz="3200" spc="-1" strike="noStrike">
                <a:solidFill>
                  <a:srgbClr val="ffcc00"/>
                </a:solidFill>
                <a:latin typeface="Garamond"/>
              </a:rPr>
              <a:t>aumentam a mobilidade e aumentam os números do esperma masculino</a:t>
            </a:r>
            <a:r>
              <a:rPr b="0" lang="pt-PT" sz="3200" spc="-1" strike="noStrike">
                <a:solidFill>
                  <a:srgbClr val="ffffff"/>
                </a:solidFill>
                <a:latin typeface="Garamond"/>
              </a:rPr>
              <a:t>, assim como </a:t>
            </a:r>
            <a:r>
              <a:rPr b="1" lang="pt-PT" sz="3200" spc="-1" strike="noStrike">
                <a:solidFill>
                  <a:srgbClr val="ffcc00"/>
                </a:solidFill>
                <a:latin typeface="Garamond"/>
              </a:rPr>
              <a:t>ajudam a ultrapassar a esterilidade masculina</a:t>
            </a:r>
            <a:r>
              <a:rPr b="1" lang="pt-PT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76360" y="836640"/>
            <a:ext cx="2736720" cy="1824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364000" y="765000"/>
            <a:ext cx="222264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11:19:08Z</dcterms:created>
  <dc:creator>Cliente</dc:creator>
  <dc:description/>
  <dc:language>en-US</dc:language>
  <cp:lastModifiedBy>Cliente</cp:lastModifiedBy>
  <dcterms:modified xsi:type="dcterms:W3CDTF">2009-01-21T21:02:00Z</dcterms:modified>
  <cp:revision>16</cp:revision>
  <dc:subject/>
  <dc:title>SERÁ    PURA  COINCIDÊNCIA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