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ravelli%20-%20feelings.wav(montado)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1C6-82DB-4A73-B0DC-DA3BE1EF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714-24CE-42F1-A79C-15E96D91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5E9-5494-4D9D-AA69-E5088E3F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4CE-DF34-428E-B5ED-272CABA7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BC8-1E6C-495A-87C8-71C07092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183-3D1E-438D-B9EF-82D65B1B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1EA-0BDB-4D59-A2BA-83C4F14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5CF-20E1-47AC-AA43-2E3934E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9A4-23C4-4114-B384-7013484B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9AF-1760-4349-8F1E-9B8E007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0D8-3A0C-4FF0-97A7-FADCA318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0EC-0988-47C9-B514-85054333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E04-55E9-4D41-A7C1-AAA07CA66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avelli%20-%20feelings.wav(montado)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9440"/>
          </a:xfrm>
          <a:prstGeom prst="rect">
            <a:avLst/>
          </a:prstGeom>
          <a:solidFill>
            <a:srgbClr val="000000"/>
          </a:solidFill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0"/>
            <a:ext cx="5042160" cy="6728400"/>
          </a:xfrm>
          <a:prstGeom prst="rect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A far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lberto Co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noiteceu. Quase é chegada a h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aqueles meus fantasmas na portei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oltando para a farra costume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uma casa sem dono e sem senho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atreiros, vão entrando de mansinh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nvadem sala, quartos, corredo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rindo e chorando, baile dos horr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m que, mais uma vez, estou sozi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Se tento adormecer, mexem comig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ostram cartas, retrato muito anti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com a dedicatória de paix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scondem-se, afinal, quando amanhe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té que a noite venha e recome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 farra de saudade e solid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4312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2:30:43Z</dcterms:created>
  <dc:creator>user</dc:creator>
  <dc:description/>
  <dc:language>en-US</dc:language>
  <cp:lastModifiedBy>user</cp:lastModifiedBy>
  <dcterms:modified xsi:type="dcterms:W3CDTF">2009-06-16T05:30:43Z</dcterms:modified>
  <cp:revision>4</cp:revision>
  <dc:subject/>
  <dc:title>Slide 1</dc:title>
</cp:coreProperties>
</file>