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ravelli%20-%20feelings.wav(montado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6C0-FC85-4EAF-9BE7-11CB427D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0E9-E69D-4741-9709-0570910A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47D-4008-4BA4-B4C4-4B50BBA3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EAF-1FD8-4939-B20C-8516FEAB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D66-8DEB-4F01-84AD-06629F4D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254-19CD-4049-8287-CDCFD05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F30-565A-4718-A599-C4C53D1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E6B-DFF0-42A3-9F61-1370E4E4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93D-0669-4290-91F6-98AAD5BA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900-E444-4256-9235-B0E32C66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07E-2504-4497-BE21-7BF201F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368-404C-45BA-84E4-18A8970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BBF5-8889-481C-B402-43A35FB64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avelli%20-%20feelings.wav(montado)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0"/>
            <a:ext cx="5042160" cy="6728400"/>
          </a:xfrm>
          <a:prstGeom prst="rect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 far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lberto Co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noiteceu. Quase é chegada a h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aqueles meus fantasmas na portei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oltando para a farra costum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uma casa sem dono e sem senho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atreiros, vão entrando de mansinh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nvadem sala, quartos, corredo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rindo e chorando, baile dos horr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m que, mais uma vez, estou sozi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Se tento adormecer, mexem comi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ostram cartas, retrato muito anti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com a dedicatória de paix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scondem-se, afinal, quando amanhe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té que a noite venha e recome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 farra de saudade e solid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4312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2:30:43Z</dcterms:created>
  <dc:creator>user</dc:creator>
  <dc:description/>
  <dc:language>en-US</dc:language>
  <cp:lastModifiedBy>user</cp:lastModifiedBy>
  <dcterms:modified xsi:type="dcterms:W3CDTF">2009-06-16T05:30:43Z</dcterms:modified>
  <cp:revision>4</cp:revision>
  <dc:subject/>
  <dc:title>Slide 1</dc:title>
</cp:coreProperties>
</file>