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oberto%20Carlos%20-%20Coisa%20bonita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475-41B8-4505-993A-FFCB514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DA3-D883-46F7-99EE-67BFB57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C39-B4D4-4C85-8D87-3DF4650A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EB1-6FBC-45D2-A323-5168444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C5-CE81-4A47-8962-8D579C4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CDB-A668-4C66-A6D2-1228D85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2E8-B371-4D37-B63F-8A30222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9A0-E47B-478E-A60B-149FDF4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FD2-872C-4975-8E89-589B478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DE3-0069-4435-8C1F-C7324EC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200-B43E-496D-AA75-0A0A43A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CBC-67DD-465D-AED6-F3AA53B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18A3-BA47-4B8D-A510-157AD81714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oberto%20Carlos%20-%20Coisa%20boni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...E Daí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3716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Que triste é sentir na pele, preconc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Uma dor que fere e machuca o p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Seja negro, pobre, deficiente, gord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Nada no mundo justifica o preconceito. Sim, sou gordinha e daí?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inhas curvas são delineadas, estrada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eu sorriso é doce e terno, liberdade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Carrego no olhar a ternura, suavidade.</a:t>
            </a:r>
            <a:r>
              <a:rPr b="1" i="1" lang="en-US" sz="2800" spc="-1" strike="noStrike">
                <a:solidFill>
                  <a:srgbClr val="49497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vert"/>
    <p:sndAc>
      <p:stSnd>
        <p:snd r:embed="rId2" name="Roberto%20Carlos%20-%20Coisa%20bon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Adoro chocolate, um orgasmo verdad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Melhor que estar em braços traiço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Não creio em valor frio, sórdido e rançoso Creio no amor superando tudo, esperançoso 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Tenho um pouco de anjo, voar livrement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s bruxas herdei o feitiço, encantament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mulher, a delicadeza, a feminilidad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canção, um coração ditando a poesia Da música todas as notas, multiform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838080"/>
            <a:ext cx="65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todos os sons que a vida interpre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harmonia da sinfonia que encan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força do viver edificando tud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creio em mim e meus valores, contudo Não creio na sensibilidade do preconceito Sim, eu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Meu espelho não mente, não me engana Vejo refletir meu corpo e sinto minh'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ão tantos rumores, falsos pudores corações de cera fria, perseguidores vou juntando os cacos, pondo no lixo não entro em conflitos, sou a paz sou eu amando, chorando e sorrindo pela vida afora, segura vou andando Sim, sou gordinha e daí? Sou menina, mulher, mãe, avó sou amiga, vizinha, tia... Sou feirante, florista ou va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029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Arial"/>
              </a:rPr>
              <a:t>Marillena S. Ribeiro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Roberto Carlos - Coisa b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3716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495680"/>
            <a:ext cx="73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6:37:17Z</dcterms:created>
  <dc:creator>ssoliver@terra.com.br </dc:creator>
  <dc:description/>
  <dc:language>en-US</dc:language>
  <cp:lastModifiedBy>Leticia Thompson</cp:lastModifiedBy>
  <dcterms:modified xsi:type="dcterms:W3CDTF">2004-11-02T20:16:12Z</dcterms:modified>
  <cp:revision>5</cp:revision>
  <dc:subject/>
  <dc:title>Preconceito</dc:title>
</cp:coreProperties>
</file>