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Roberto%20Carlos%20-%20Coisa%20bonita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E39-038C-41A4-953C-50C849A5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D7E-7A9E-428F-B4DA-7A52958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65A-2DC5-459E-A324-27BB12DD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822-18D0-4204-8BA4-C26DD25A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2EF-80AA-477C-8AA3-64B8A0EC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607-3177-452C-A9B5-D78687F2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FC7-D0D7-4F0F-910A-D586757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635-1368-4EFD-8E7F-4270F08E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6D9-DAD5-4EFA-B44F-44FD7592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E54-1301-4E4F-B730-DCA4C3D2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866-5920-4EC9-9A50-CBF9257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0A2-EAD0-492F-8844-B66DAA5E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FB3-8A1A-4867-BDF9-55C07180B1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oberto%20Carlos%20-%20Coisa%20bonit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04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...E Daí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13716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Que triste é sentir na pele, preconc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Uma dor que fere e machuca o peit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Seja negro, pobre, deficiente, gordo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Nada no mundo justifica o preconceito. Sim, sou gordinha e daí?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inhas curvas são delineadas, estrada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Meu sorriso é doce e terno, liberdade</a:t>
            </a:r>
            <a:br>
              <a:rPr sz="2800"/>
            </a:br>
            <a:r>
              <a:rPr b="0" lang="en-US" sz="2800" spc="-1" strike="noStrike">
                <a:solidFill>
                  <a:srgbClr val="99cc00"/>
                </a:solidFill>
                <a:latin typeface="Times New Roman"/>
              </a:rPr>
              <a:t>Carrego no olhar a ternura, suavidade.</a:t>
            </a:r>
            <a:r>
              <a:rPr b="1" i="1" lang="en-US" sz="2800" spc="-1" strike="noStrike">
                <a:solidFill>
                  <a:srgbClr val="49497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randomBar dir="vert"/>
    <p:sndAc>
      <p:stSnd>
        <p:snd r:embed="rId2" name="Roberto%20Carlos%20-%20Coisa%20bon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838080"/>
            <a:ext cx="746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Adoro chocolate, um orgasmo verdad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Melhor que estar em braços traiçoeir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Não creio em valor frio, sórdido e rançoso Creio no amor superando tudo, esperançoso 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Tenho um pouco de anjo, voar livrement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s bruxas herdei o feitiço, encantament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mulher, a delicadeza, a feminilidade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</a:rPr>
              <a:t>Da canção, um coração ditando a poesia Da música todas as notas, multiform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838080"/>
            <a:ext cx="65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im,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todos os sons que a vida interpre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harmonia da sinfonia que encanta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sou a força do viver edificando tudo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Eu creio em mim e meus valores, contudo Não creio na sensibilidade do preconceito Sim, eu sou gordinha e daí?</a:t>
            </a:r>
            <a:br>
              <a:rPr sz="2800"/>
            </a:b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Meu espelho não mente, não me engana Vejo refletir meu corpo e sinto minh'al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762120"/>
            <a:ext cx="71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São tantos rumores, falsos pudores corações de cera fria, perseguidores vou juntando os cacos, pondo no lixo não entro em conflitos, sou a paz sou eu amando, chorando e sorrindo pela vida afora, segura vou andando Sim, sou gordinha e daí? Sou menina, mulher, mãe, avó sou amiga, vizinha, tia... Sou feirante, florista ou va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029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cc00"/>
                </a:solidFill>
                <a:latin typeface="Times New Roman"/>
                <a:ea typeface="Arial"/>
              </a:rPr>
              <a:t>Marillena S. Ribeiro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Roberto Carlos - Coisa b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137160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8954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495680"/>
            <a:ext cx="73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1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25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06:37:17Z</dcterms:created>
  <dc:creator>ssoliver@terra.com.br </dc:creator>
  <dc:description/>
  <dc:language>en-US</dc:language>
  <cp:lastModifiedBy>Leticia Thompson</cp:lastModifiedBy>
  <dcterms:modified xsi:type="dcterms:W3CDTF">2004-11-02T20:16:12Z</dcterms:modified>
  <cp:revision>5</cp:revision>
  <dc:subject/>
  <dc:title>Preconceito</dc:title>
</cp:coreProperties>
</file>