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Richard%20Clayderman%20-%20Perhaps.wav" ContentType="audio/x-wav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242-BD7A-4E81-92DB-63B82623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77A-A5AA-4CF4-8A5D-AF9D0F61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8AE-066E-4860-B0FC-0055AC89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54A-F458-477C-8C01-BFEB1511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6AE-CE0A-4108-AC84-D876E1B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2AE-183F-4269-85FD-6F06F1FB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A31-3F83-4C16-A61E-C3D0C0F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E0F-EBBF-480D-A64D-3DCAEDAD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B90-85A0-44A6-95CA-6F09FFF4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856-70D0-4CFF-919E-C9DAF5C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B89-AB27-477B-AF6F-B7A6DEE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780-2615-4E0C-B464-83CE1C18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5E21-519C-4B94-94C0-24F038045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4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audio" Target="../media/Richard%20Clayderman%20-%20Perhaps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hyperlink" Target="http://www.leticiathompson.net/" TargetMode="External"/><Relationship Id="rId21" Type="http://schemas.openxmlformats.org/officeDocument/2006/relationships/hyperlink" Target="mailto:bethnorling@globo.com" TargetMode="Externa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8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9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0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1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2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3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4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15.jpe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58920" y="1125360"/>
            <a:ext cx="6553080" cy="4680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197000"/>
            <a:ext cx="6408720" cy="4537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84360" y="2492280"/>
            <a:ext cx="42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O SAL DA TERRA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4076640"/>
            <a:ext cx="25243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16000" y="205092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Texto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1e16b"/>
                </a:solidFill>
                <a:uFillTx/>
                <a:latin typeface="Verdana"/>
                <a:hlinkClick r:id="rId2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Música: Richard Clayderman – </a:t>
            </a:r>
            <a:r>
              <a:rPr b="1" lang="en-US" sz="2000" spc="-1" strike="noStrike">
                <a:solidFill>
                  <a:srgbClr val="f1e16b"/>
                </a:solidFill>
                <a:latin typeface="Verdana"/>
              </a:rPr>
              <a:t>Perhap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1e16b"/>
                </a:solidFill>
                <a:uFillTx/>
                <a:latin typeface="Verdana"/>
                <a:hlinkClick r:id="rId21"/>
              </a:rPr>
              <a:t>bethnorling@globo.com</a:t>
            </a:r>
            <a:r>
              <a:rPr b="1" lang="pt-BR" sz="2000" spc="-1" strike="noStrike">
                <a:solidFill>
                  <a:srgbClr val="f1e16b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87280" y="981000"/>
            <a:ext cx="6645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Todas as manhãs Deus nos dá a oportunidade de recomeçar alguma co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É por isso que dizem que nada como uma boa noite para colocar as idéias no lug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7280" y="981000"/>
            <a:ext cx="67899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E não nos levantamos com o pé direito ou esquerdo, nos levantamos com os dois e carregando o mesmo corpo que no dia anterior, talvez até os mesmos problemas não resolv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941720"/>
            <a:ext cx="6932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Mas tivemos essas importantes horas de descanso para recuperar as forças e energias para continuar o caminh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1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16000" y="907920"/>
            <a:ext cx="6789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Podemos decidir então que nada estragará nosso dia e que daremos a oportunidade para que as soluções chegu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5013360"/>
            <a:ext cx="6861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É evidente que um coração alegre e esperançoso terá mais vitórias que aquele que deixa afogar pelas tristezas suas ou alhe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1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16000" y="4076640"/>
            <a:ext cx="69120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e16b"/>
                </a:solidFill>
                <a:latin typeface="Verdana"/>
              </a:rPr>
              <a:t>A pessoa mal-humorada pode acordar com o mais lindo raio de sol invadindo a janela que ela ainda vai encontrar algum motivo para criticar e saciar sua insatisfação, como se ela tivesse a necessidade de encontrar algo negativo para continuar tendo razão.</a:t>
            </a:r>
            <a:r>
              <a:rPr b="0" lang="en-US" sz="2000" spc="-1" strike="noStrike">
                <a:solidFill>
                  <a:srgbClr val="f1e16b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4581360"/>
            <a:ext cx="6932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Inversamente, aquele que carrega consigo a paz interior e o desejo de ser feliz verá flores até nos desertos mais ermos. E ele as colherá, com certeza!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16000" y="765000"/>
            <a:ext cx="6789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Não penso que seja simplesmente uma questão de pensar positivo, mas de cultivar dentro de si as coisas boas, a paz, o desejo de ser uma pessoa melhor na qual outros possam se espelh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5084640"/>
            <a:ext cx="68407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É plantar a semente da serenidade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terra do coração e deixar que ela floresça e enfeite a vida.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87280" y="4653000"/>
            <a:ext cx="67183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Viver bem é uma questão de escol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A fé nos sustenta. A esperança nos mantém vivos e o amor nos torna diferentes aos olhos do mundo.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75640" y="0"/>
            <a:ext cx="46836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0"/>
            <a:ext cx="7128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48000" y="0"/>
            <a:ext cx="7308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0"/>
            <a:ext cx="7128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7128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72720" y="0"/>
            <a:ext cx="7128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04360" y="0"/>
            <a:ext cx="7128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692280"/>
            <a:ext cx="7344000" cy="554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765000"/>
            <a:ext cx="7200720" cy="540072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6"/>
          <a:stretch/>
        </p:blipFill>
        <p:spPr>
          <a:xfrm>
            <a:off x="0" y="624672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7"/>
          <a:stretch/>
        </p:blipFill>
        <p:spPr>
          <a:xfrm>
            <a:off x="8524800" y="907920"/>
            <a:ext cx="619200" cy="506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8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9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87280" y="907920"/>
            <a:ext cx="67899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Pouco importa se chove ou se faz sol, o dia fica estragado quando decidimos que assim será. Somos, nos passos de Cristo, o sal que tempera a terra e a luz que ilumina o mundo.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941720"/>
            <a:ext cx="6932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dd7c"/>
                </a:solidFill>
                <a:latin typeface="Verdana"/>
              </a:rPr>
              <a:t>Podemos dar sabor, cor e vida, deixando atrás de nós a semente do bem e rastros que conduzem ao céu.</a:t>
            </a:r>
            <a:r>
              <a:rPr b="0" lang="en-US" sz="2000" spc="-1" strike="noStrike">
                <a:solidFill>
                  <a:srgbClr val="f4dd7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21:20:46Z</dcterms:created>
  <dc:creator>Beth Norling</dc:creator>
  <dc:description/>
  <dc:language>en-US</dc:language>
  <cp:lastModifiedBy>Beth Norling</cp:lastModifiedBy>
  <dcterms:modified xsi:type="dcterms:W3CDTF">2008-08-13T18:34:49Z</dcterms:modified>
  <cp:revision>7</cp:revision>
  <dc:subject/>
  <dc:title>O_sal_da_terra</dc:title>
</cp:coreProperties>
</file>