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0050-A4B3-4CFC-9F18-E3A4E8851A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D6B4-A2ED-46A0-A6A2-A8B9A74F32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AB4-A40C-4D3B-9790-A7F76B41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9A7-9947-4BAC-A0B7-CE0D3DE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3E5-397C-44C7-B9D0-B1916BBD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7FE-1387-43A7-A874-B9765BD6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693-75CE-4C9E-8912-3577DC18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EF9-C1E7-422C-AF26-DB4619F5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5BD-FCDE-4332-A786-C459393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E06-8E66-458C-B8F6-0C6ABEDC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8BE-11F8-47BA-B3B1-33E0AFD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760-F50E-44DF-8F84-5A08469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2D6-153C-4D37-8751-3BF7D29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61D-E73E-41DC-B68B-0793D83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4C5-7E13-4E23-841A-91E9CE229AF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360360" y="3013200"/>
            <a:ext cx="842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fbfbf"/>
                </a:solidFill>
                <a:latin typeface="Tahoma"/>
                <a:ea typeface="Tahoma"/>
              </a:rPr>
              <a:t>A NOVA FEBRE NA EUROP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360360" y="322884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E, finalmente, em Portug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tângulo 1"/>
          <p:cNvSpPr/>
          <p:nvPr/>
        </p:nvSpPr>
        <p:spPr>
          <a:xfrm>
            <a:off x="360360" y="126828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O MEIOMUSTANG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86040" y="1717560"/>
            <a:ext cx="35719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360360" y="6523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Primeiro veio o Smart C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25892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tângulo 3"/>
          <p:cNvSpPr/>
          <p:nvPr/>
        </p:nvSpPr>
        <p:spPr>
          <a:xfrm>
            <a:off x="360360" y="322884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Depois do Smart Car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ixaDeTexto 2"/>
          <p:cNvSpPr/>
          <p:nvPr/>
        </p:nvSpPr>
        <p:spPr>
          <a:xfrm>
            <a:off x="360360" y="619776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PETIT CORVET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8423280" cy="581184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4"/>
          <p:cNvSpPr/>
          <p:nvPr/>
        </p:nvSpPr>
        <p:spPr>
          <a:xfrm>
            <a:off x="360360" y="61657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AUDI A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2"/>
          <p:cNvSpPr/>
          <p:nvPr/>
        </p:nvSpPr>
        <p:spPr>
          <a:xfrm>
            <a:off x="360360" y="580536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LAMBORGHINI N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72072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aixaDeTexto 2"/>
          <p:cNvSpPr/>
          <p:nvPr/>
        </p:nvSpPr>
        <p:spPr>
          <a:xfrm>
            <a:off x="360360" y="63817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MICRO DA PORSC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60360" y="63360"/>
            <a:ext cx="84232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40160"/>
          </a:xfrm>
          <a:prstGeom prst="rect">
            <a:avLst/>
          </a:prstGeom>
          <a:ln w="0">
            <a:noFill/>
          </a:ln>
        </p:spPr>
      </p:pic>
      <p:sp>
        <p:nvSpPr>
          <p:cNvPr id="61" name="CaixaDeTexto 2"/>
          <p:cNvSpPr/>
          <p:nvPr/>
        </p:nvSpPr>
        <p:spPr>
          <a:xfrm>
            <a:off x="360360" y="61657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BABY DA FERR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60360" y="58680"/>
            <a:ext cx="8423280" cy="674064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2"/>
          <p:cNvSpPr/>
          <p:nvPr/>
        </p:nvSpPr>
        <p:spPr>
          <a:xfrm>
            <a:off x="360360" y="600084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ORSCHE TAR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8:57:17Z</dcterms:created>
  <dc:creator/>
  <dc:description/>
  <dc:language>en-US</dc:language>
  <cp:lastModifiedBy>Ferrari</cp:lastModifiedBy>
  <dcterms:modified xsi:type="dcterms:W3CDTF">2010-07-26T12:00:50Z</dcterms:modified>
  <cp:revision>0</cp:revision>
  <dc:subject/>
  <dc:title/>
</cp:coreProperties>
</file>