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9.wav" ContentType="audio/x-wav"/>
  <Override PartName="/ppt/media/image4.png" ContentType="image/png"/>
  <Override PartName="/ppt/media/S8.wav" ContentType="audio/x-wav"/>
  <Override PartName="/ppt/media/image3.png" ContentType="image/png"/>
  <Override PartName="/ppt/media/S7.wav" ContentType="audio/x-wav"/>
  <Override PartName="/ppt/media/image2.png" ContentType="image/png"/>
  <Override PartName="/ppt/media/S6.wav" ContentType="audio/x-wav"/>
  <Override PartName="/ppt/media/image1.png" ContentType="image/png"/>
  <Override PartName="/ppt/media/S5.wav" ContentType="audio/x-wav"/>
  <Override PartName="/ppt/media/S4.wav" ContentType="audio/x-wav"/>
  <Override PartName="/ppt/media/S19.wav" ContentType="audio/x-wav"/>
  <Override PartName="/ppt/media/S21.wav" ContentType="audio/x-wav"/>
  <Override PartName="/ppt/media/image5.gif" ContentType="image/gif"/>
  <Override PartName="/ppt/media/S13.wav" ContentType="audio/x-wav"/>
  <Override PartName="/ppt/media/S15.wav" ContentType="audio/x-wav"/>
  <Override PartName="/ppt/media/S14.wav" ContentType="audio/x-wav"/>
  <Override PartName="/ppt/media/S12.wav" ContentType="audio/x-wav"/>
  <Override PartName="/ppt/media/S11.wav" ContentType="audio/x-wav"/>
  <Override PartName="/ppt/media/S10.wav" ContentType="audio/x-wav"/>
  <Override PartName="/ppt/media/S16.wav" ContentType="audio/x-wav"/>
  <Override PartName="/ppt/media/S1.wav" ContentType="audio/x-wav"/>
  <Override PartName="/ppt/media/S17.wav" ContentType="audio/x-wav"/>
  <Override PartName="/ppt/media/S2.wav" ContentType="audio/x-wav"/>
  <Override PartName="/ppt/media/S3.wav" ContentType="audio/x-wav"/>
  <Override PartName="/ppt/media/S20.wav" ContentType="audio/x-wav"/>
  <Override PartName="/ppt/media/S18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AE44-13AD-47B3-95D4-934F4DA4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191-A88B-416A-BAAC-1904D88D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B2F-56EE-4C42-BB14-B761C530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8C4-FF49-4CDF-9755-07A5E710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3FF0-D114-4D71-B1B1-085FE1AB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F96F-4755-43B5-80FA-9FF85DB5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FAFB-3BD7-4514-8FE5-487D63CF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22A0-C0C8-4F59-AA3F-2DC1BB1C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0282-9598-4D08-9510-76752330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AF28-D8E1-4D86-8B1C-BE0A723F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6A1-581B-4F35-BCE0-592934BF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162-CC96-4602-8FD4-BE9ED48C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50CF-B16F-4016-AE69-FC28B0A60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S1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S10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S11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S12.wav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S13.wav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S14.wav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S15.wav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S16.wav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S17.wav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S18.wav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S19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2.wav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S20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S21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S3.wav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S4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S5.wav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6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7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8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9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920" y="189000"/>
            <a:ext cx="8820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ocê sabe usar seu e-mail?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Tem certeza?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Então vejamos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45240" y="2349360"/>
            <a:ext cx="2390760" cy="3265560"/>
          </a:xfrm>
          <a:prstGeom prst="rect">
            <a:avLst/>
          </a:prstGeom>
          <a:ln w="0">
            <a:noFill/>
          </a:ln>
        </p:spPr>
      </p:pic>
    </p:spTree>
  </p:cSld>
  <p:transition>
    <p:pull dir="ru"/>
    <p:sndAc>
      <p:stSnd>
        <p:snd r:embed="rId2" name="S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ÃO</a:t>
            </a:r>
            <a:r>
              <a:rPr b="0" lang="pt-B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istem os vírus: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Good Times”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Bad Times”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Sapinhos Budweiser”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0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NCA, mas NUNCA mesmo!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e qualquer e-mail alertando sobre vírus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quiser enviar, confirme antes nos sites: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symantec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antivirus.com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mbre-se, alguns vírus podem infectar a máquina só depois de serem lidos no Outloo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1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PASSAR UMA MENSAGEM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j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ucad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or favor!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ire aqueles 8 quilômetros de cabeçalhos de todos que a receberam, deixe apenas a mensagem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ÃO envie de volta a quem te mandou..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 já le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6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2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04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m mulheres sofrendo no Afeganistão!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finanças de diversas entidades estão vulneráveis!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 enviar/reenviar e-mai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ÃO AJUDARÁ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 causa.</a:t>
            </a:r>
            <a:br>
              <a:rPr sz="3000"/>
            </a:br>
            <a:br>
              <a:rPr sz="3000"/>
            </a:b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 ajudar?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ure entidades, Igrejas ou a Cruz Vermelha.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s de "abaixo-assinado'‘, são falsos e nada significam.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São apenas meios de obterem endereços eletrônicos"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7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3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Ã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istem projetos para ser votado no Congresso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reduzirá a área da Floresta Amazônica em 50%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eixar de cobrar pedági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qualquer outro que um e-mail ajudará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ã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Ã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erca tempo nem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pague mico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sinando e repassando esses protestos e comunicados furios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8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4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cê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Ã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ai..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Morrer”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Ficar doente”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Ter má sorte no amor”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Nem ganhará nada”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REBENTA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m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rrent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ja religios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u nã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9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5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crever ou enviar qualquer e-mai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qualquer coisa é tão fácil quanto rabiscar os muros de uma área pública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Ã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redite automaticamente em tudo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erve o texto..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ita..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ise...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ja inteligente, nada cai do céu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640" y="146160"/>
            <a:ext cx="9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0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6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6043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sagens pedindo ajuda com fotos comoventes..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ÃO repasse!!!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Fazer a sua parte, não é dessa forma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ique a veracidade das informaçõ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9,99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ão falsa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 ajudar efetivamente? Fazer essa opção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óximo de sua casa, há sempre alguém carente ou entidade precisando de aju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36000" y="-100080"/>
            <a:ext cx="9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1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7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IDADO!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idado ao repassar mensagens com lista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, principalmente, com dados reai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so pode facilitar para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altantes..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qüestradores..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liantes..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us elementos..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ão se esqueça que eles também tem acesso a e-mails e Internet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280" y="44280"/>
            <a:ext cx="9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2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8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or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ENVI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 mensagem!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jude a coloca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DE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ssa imensa casa chamada Interne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se tipo de informação irá ajudar a quem não tem muita prática nesse meio chamado Interne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 não esqueça: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CCO”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ixe apenas o nome do assunto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ire o lixo que vem antes da mensag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280" y="44280"/>
            <a:ext cx="9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3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9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9880" y="155700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ras importantes: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2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e atenção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ÃO se melindre por alguém estar lhe corrigindo sobre o que foi mencionado neste e-mail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uma apenas uma forma de melhorar a vida de todos.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De boas intenções o inferno está cheio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280" y="44280"/>
            <a:ext cx="9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4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20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800" y="325080"/>
            <a:ext cx="8964360" cy="17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É um serviço de utilidade pública por uma</a:t>
            </a: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INTERNET (</a:t>
            </a: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international network</a:t>
            </a: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- rede internacional)</a:t>
            </a: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livre de criminalidade virtu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332160" y="2205000"/>
            <a:ext cx="26701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6697440" cy="48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924360" y="2421000"/>
            <a:ext cx="3168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4160" y="162864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pre utiliz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ENCAMINHA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 repassa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us e-m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2" name="S3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961400" cy="485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722880" y="369720"/>
            <a:ext cx="76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ze sempre 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“CCO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 inserir os destinat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ÃO UTILIZ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“Para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“CC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 colocar os destinat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258920" y="765000"/>
            <a:ext cx="1728720" cy="2159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90760" y="3700440"/>
            <a:ext cx="6176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ATE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tilizando o “CCO” seus amigos não verão para quem mais você enviou esse e-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berão apenas que receberam de voc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sim, diminui a propagação de spams e ví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2" name="S4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4723920"/>
            <a:ext cx="878544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ire do assun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EN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ENC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FWD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RE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RES”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ixe somente o assunto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mui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selegan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se tipo de indicação no assunto.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ém de ser uma formas de utilizarem os e-mails de seus amigos para passar SP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57440" y="115920"/>
            <a:ext cx="7378560" cy="4505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684000" y="1628640"/>
            <a:ext cx="1871640" cy="316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2" name="S5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6197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ém disso...</a:t>
            </a:r>
            <a:br>
              <a:rPr sz="7000"/>
            </a:br>
            <a:br>
              <a:rPr sz="7000"/>
            </a:br>
            <a:r>
              <a:rPr b="0" lang="en-US" sz="7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ão acredite em tudo o que você lê!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6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ÃO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é porque alguém escreveu quatro degraus anteriores da pirâmide que é verdade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serve: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mais uma mera menti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7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2800" y="549000"/>
            <a:ext cx="877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ÃO EXIXT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ganizaçã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drões de fígado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nguém está acordando numa banheira cheia de gelo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serve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só mais uma forma de consegui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s para enviar SP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8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496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NCA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bra anexos com: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“.exe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lua esses e-mails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uriosidade matou o gato”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ó abra esse arquivo se a pessoa que o mandou é de sua inteira confiança.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firme se essa pessoa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alment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e mandou este arquiv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9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6:34:07Z</dcterms:created>
  <dc:creator/>
  <dc:description/>
  <dc:language>en-US</dc:language>
  <cp:lastModifiedBy>fptoller</cp:lastModifiedBy>
  <cp:lastPrinted>2005-02-10T16:27:29Z</cp:lastPrinted>
  <dcterms:modified xsi:type="dcterms:W3CDTF">2010-01-28T13:59:56Z</dcterms:modified>
  <cp:revision>189</cp:revision>
  <dc:subject/>
  <dc:title>Slide sem título </dc:title>
</cp:coreProperties>
</file>