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9.wav" ContentType="audio/x-wav"/>
  <Override PartName="/ppt/media/image4.png" ContentType="image/png"/>
  <Override PartName="/ppt/media/S8.wav" ContentType="audio/x-wav"/>
  <Override PartName="/ppt/media/image3.png" ContentType="image/png"/>
  <Override PartName="/ppt/media/S7.wav" ContentType="audio/x-wav"/>
  <Override PartName="/ppt/media/image2.png" ContentType="image/png"/>
  <Override PartName="/ppt/media/S6.wav" ContentType="audio/x-wav"/>
  <Override PartName="/ppt/media/image1.png" ContentType="image/png"/>
  <Override PartName="/ppt/media/S5.wav" ContentType="audio/x-wav"/>
  <Override PartName="/ppt/media/S4.wav" ContentType="audio/x-wav"/>
  <Override PartName="/ppt/media/S19.wav" ContentType="audio/x-wav"/>
  <Override PartName="/ppt/media/S21.wav" ContentType="audio/x-wav"/>
  <Override PartName="/ppt/media/image5.gif" ContentType="image/gif"/>
  <Override PartName="/ppt/media/S13.wav" ContentType="audio/x-wav"/>
  <Override PartName="/ppt/media/S15.wav" ContentType="audio/x-wav"/>
  <Override PartName="/ppt/media/S14.wav" ContentType="audio/x-wav"/>
  <Override PartName="/ppt/media/S12.wav" ContentType="audio/x-wav"/>
  <Override PartName="/ppt/media/S11.wav" ContentType="audio/x-wav"/>
  <Override PartName="/ppt/media/S10.wav" ContentType="audio/x-wav"/>
  <Override PartName="/ppt/media/S16.wav" ContentType="audio/x-wav"/>
  <Override PartName="/ppt/media/S1.wav" ContentType="audio/x-wav"/>
  <Override PartName="/ppt/media/S17.wav" ContentType="audio/x-wav"/>
  <Override PartName="/ppt/media/S2.wav" ContentType="audio/x-wav"/>
  <Override PartName="/ppt/media/S3.wav" ContentType="audio/x-wav"/>
  <Override PartName="/ppt/media/S20.wav" ContentType="audio/x-wav"/>
  <Override PartName="/ppt/media/S18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9C5-7165-4019-97B5-7EB8D0E9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56F-0CF3-4EC5-A2FA-921667E4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659-DDEB-46DA-A998-8319B856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F95-3788-480C-809C-0831BF21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6D8-BF76-4918-8E38-638AFC0A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991-25C2-4178-92A2-9AB7DD78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4FB-902E-44C7-A5DE-E984E59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FF4-C07E-481E-B254-CF56E98E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EA3-A984-47A9-971F-063036C8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D02-3901-4B20-89D2-73FA74A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8DF-9CFB-4514-8BAF-0908771A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AAA-5A01-4B8C-B3C0-22A4DE7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322C-D3DB-4023-A92C-DDD8AEA26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10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11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12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S13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S14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S15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S16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S17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S18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S19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2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20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S21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S3.wav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S4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S5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6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7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8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9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18900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ocê sabe usar seu e-mail?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Tem certeza?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Então vejamos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45240" y="2349360"/>
            <a:ext cx="2390760" cy="326556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2" name="S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em os vírus: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Good Times”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Bad Times”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Sapinhos Budweiser”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0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NCA, mas NUNCA mesmo!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e qualquer e-mail alertando sobre vírus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quiser enviar, confirme antes nos sites: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ymantec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antivirus.com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mbre-se, alguns vírus podem infectar a máquina só depois de serem lidos no Outloo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ASSAR UMA MENSAGEM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ucad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or favor!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re aqueles 8 quilômetros de cabeçalhos de todos que a receberam, deixe apenas a mensage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envie de volta a quem te mandou..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 já le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6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2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04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m mulheres sofrendo no Afeganistão!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inanças de diversas entidades estão vulneráveis!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enviar/reenviar e-mai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ÃO AJUDARÁ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 causa.</a:t>
            </a:r>
            <a:br>
              <a:rPr sz="3000"/>
            </a:br>
            <a:br>
              <a:rPr sz="3000"/>
            </a:b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 ajudar?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ure entidades, Igrejas ou a Cruz Vermelha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s de "abaixo-assinado'‘, são falsos e nada significam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São apenas meios de obterem endereços eletrônicos"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7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3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em projetos para ser votado no Congresso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reduzirá a área da Floresta Amazônica em 50%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eixar de cobrar pedági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qualquer outro que um e-mail ajudará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ã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ca tempo ne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pague mico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sinando e repassando esses protestos e comunicados furios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8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4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cê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ai..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Morrer”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Ficar doente”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Ter má sorte no amor”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Nem ganhará nada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EBENTA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m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rren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religios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u n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9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5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rever ou enviar qualquer e-mai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qualquer coisa é tão fácil quanto rabiscar os muros de uma área pública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redite automaticamente em tudo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o texto..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ita..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ise...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ja inteligente, nada cai do céu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640" y="14616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6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604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sagens pedindo ajuda com fotos comoventes..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 repasse!!!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Fazer a sua parte, não é dessa forma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ique a veracidade das informaçõ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9,99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ão fals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 ajudar efetivamente? Fazer essa opção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óximo de sua casa, há sempre alguém carente ou entidade precisando de aju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6000" y="-1000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1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7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IDADO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idado ao repassar mensagens com lista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, principalmente, com dados reai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o pode facilitar para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altante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qüestradore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liantes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us elementos..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e esqueça que eles também tem acesso a e-mails e Internet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80" y="442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2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8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r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ENVI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 mensagem!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jude a coloca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ssa imensa casa chamada Interne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 tipo de informação irá ajudar a quem não tem muita prática nesse meio chamado Interne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não esqueça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CCO”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ixe apenas o nome do assunto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re o lixo que vem antes da mensag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280" y="442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3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19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9880" y="155700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ras importantes: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2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e atenção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ÃO se melindre por alguém estar lhe corrigindo sobre o que foi mencionado neste e-mail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uma apenas uma forma de melhorar a vida de todos.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De boas intenções o inferno está chei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80" y="442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4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20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800" y="325080"/>
            <a:ext cx="896436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É um serviço de utilidade pública por uma</a:t>
            </a: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INTERNET (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international network</a:t>
            </a: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- rede internacional)</a:t>
            </a: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Times New Roman"/>
              </a:rPr>
              <a:t>livre de criminalidade virtu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32160" y="2205000"/>
            <a:ext cx="26701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69744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924360" y="2421000"/>
            <a:ext cx="3168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4160" y="162864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pre utiliz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ENCAMINHA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repassa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us e-m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S3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614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722880" y="369720"/>
            <a:ext cx="76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e sempre 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“CCO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inserir os destina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ÃO UTILIZ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“Para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“CC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colocar os destina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258920" y="765000"/>
            <a:ext cx="1728720" cy="215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90760" y="3700440"/>
            <a:ext cx="6176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tilizando o “CCO” seus amigos não verão para quem mais você enviou esse e-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berão apenas que receberam de voc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im, diminui a propagação de spams e ví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S4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4723920"/>
            <a:ext cx="87854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ire do assun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EN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ENC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FWD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R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RES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ixe somente o assunt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mui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eleg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se tipo de indicação no assunto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ém de ser uma formas de utilizarem os e-mails de seus amigos para passar SP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57440" y="115920"/>
            <a:ext cx="7378560" cy="4505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684000" y="1628640"/>
            <a:ext cx="1871640" cy="316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2" name="S5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6197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ém disso...</a:t>
            </a:r>
            <a:br>
              <a:rPr sz="7000"/>
            </a:br>
            <a:br>
              <a:rPr sz="7000"/>
            </a:br>
            <a:r>
              <a:rPr b="0" lang="en-US" sz="7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ão acredite em tudo o que você lê!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6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porque alguém escreveu quatro degraus anteriores da pirâmide que é verdad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e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mais uma mera menti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7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2800" y="549000"/>
            <a:ext cx="877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ÃO EXIXT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ganizaçã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drões de fígado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nguém está acordando numa banheira cheia de gelo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só mais uma forma de consegui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s para enviar SP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8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NC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bra anexos com: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“.exe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lua esses e-mails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uriosidade matou o gato”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ó abra esse arquivo se a pessoa que o mandou é de sua inteira confiança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firme se essa pesso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lment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 mandou este arquiv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0000" y="146160"/>
            <a:ext cx="63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S9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6:34:07Z</dcterms:created>
  <dc:creator/>
  <dc:description/>
  <dc:language>en-US</dc:language>
  <cp:lastModifiedBy>fptoller</cp:lastModifiedBy>
  <cp:lastPrinted>2005-02-10T16:27:29Z</cp:lastPrinted>
  <dcterms:modified xsi:type="dcterms:W3CDTF">2010-01-28T13:59:56Z</dcterms:modified>
  <cp:revision>189</cp:revision>
  <dc:subject/>
  <dc:title>Slide sem título </dc:title>
</cp:coreProperties>
</file>