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ntrumentalPian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CF98-8B78-4897-A5C5-925799BDB57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A1E-6EAA-44EB-BAED-70D7B0CF4CDE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3F5-F5EA-4CD8-BCA4-61837C33AAFC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492F-9704-4835-B002-F7AF6C0B6087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214-2277-4E96-B3FB-BFC87BB299B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014-9108-4288-B5ED-7317D04F5E9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8A6C-3D73-4FD9-BCD1-E4E640C6DD17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E92-6DEA-4597-B57C-EEB6BE424D5B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C21-63D0-4F47-A4ED-D95F33B25AF3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9AA-5570-4398-A6FB-817CAA442E3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E95C-833C-447C-A26F-04268EEED377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7128-2747-413F-B438-3969E4355EE7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A7D9-06D7-4A0F-9F1B-8D53EF37D51F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455C-1BD9-4F3E-8495-04F4C7A1DFEA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BCD-D0DF-4ECB-A4A6-9C214C3C61FC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E7B-CA80-4354-BBD7-3A05236ABDA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809C-A467-4556-B2D7-DFF77E250D99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7CAB-EA6B-4D8B-ACA2-F003BD002BB6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123-C748-4007-B22B-4631092A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657-CA29-4B96-810A-16BFC941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73B-C271-4D9C-BF4F-D570063F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DAD-386B-4042-9245-5DA91778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85F-5884-44E2-92A9-781DF2B1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8A9-76D7-4142-85EC-60D6B2E9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3C8-7763-488F-B1B6-C05C016E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797-FE75-4529-9257-DAC97054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107-66A3-4544-9D7F-B3B86FA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D53-29AF-4E29-9AA1-AE9E99D4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5C7-1D1B-4714-B3FF-0637B97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DC5-5F31-48C1-885E-A978433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C30-7599-494F-8B72-B4A095F3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trumentalPian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4" descr="LO SIENTES VIDA !!"/>
          <p:cNvPicPr/>
          <p:nvPr/>
        </p:nvPicPr>
        <p:blipFill>
          <a:blip r:embed="rId1"/>
          <a:stretch/>
        </p:blipFill>
        <p:spPr>
          <a:xfrm>
            <a:off x="0" y="836640"/>
            <a:ext cx="525636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4859280" y="2534760"/>
            <a:ext cx="20876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WordArt 46"/>
          <p:cNvSpPr txBox="1"/>
          <p:nvPr/>
        </p:nvSpPr>
        <p:spPr>
          <a:xfrm>
            <a:off x="5003640" y="3284640"/>
            <a:ext cx="399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MUTANT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0000">
    <p:wipe dir="r"/>
    <p:sndAc>
      <p:stSnd>
        <p:snd r:embed="rId2" name="intrumentalPian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urchschaute Körper (2)"/>
          <p:cNvPicPr/>
          <p:nvPr/>
        </p:nvPicPr>
        <p:blipFill>
          <a:blip r:embed="rId1"/>
          <a:stretch/>
        </p:blipFill>
        <p:spPr>
          <a:xfrm>
            <a:off x="1909800" y="907920"/>
            <a:ext cx="4967280" cy="3641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tes fatos confirmam a grande necessidade de usar nossa consciência para criar os corpos que realmente necessitamo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0" y="5343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Todo este perfil bioquímico será drasticamente modificado quando a pessoa se sentir tranquil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urchschaute Körper (1)"/>
          <p:cNvPicPr/>
          <p:nvPr/>
        </p:nvPicPr>
        <p:blipFill>
          <a:blip r:embed="rId1"/>
          <a:srcRect l="7874" t="0" r="0" b="0"/>
          <a:stretch/>
        </p:blipFill>
        <p:spPr>
          <a:xfrm>
            <a:off x="3203640" y="1052640"/>
            <a:ext cx="5940360" cy="4749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-36360" y="2205000"/>
            <a:ext cx="34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akespeare não estava sendo metafórico quando, através de seu personagem Próspero, disse: Somos feitos da mesma matéria que os sonhos.”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Durchschaute Körper (7)"/>
          <p:cNvPicPr/>
          <p:nvPr/>
        </p:nvPicPr>
        <p:blipFill>
          <a:blip r:embed="rId1"/>
          <a:stretch/>
        </p:blipFill>
        <p:spPr>
          <a:xfrm>
            <a:off x="0" y="549360"/>
            <a:ext cx="422604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76720" y="285264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 processo de envelhecimento pode ser neutralizado a cada dia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urchschaute Körper (3)"/>
          <p:cNvPicPr/>
          <p:nvPr/>
        </p:nvPicPr>
        <p:blipFill>
          <a:blip r:embed="rId1"/>
          <a:stretch/>
        </p:blipFill>
        <p:spPr>
          <a:xfrm>
            <a:off x="-468360" y="907920"/>
            <a:ext cx="5832360" cy="509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4067280" y="4437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corde-se que ao abrir seu coração e sua mente evitará que algum cirurgião o faça por você! 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Durchschaute Körper (6)"/>
          <p:cNvPicPr/>
          <p:nvPr/>
        </p:nvPicPr>
        <p:blipFill>
          <a:blip r:embed="rId1"/>
          <a:stretch/>
        </p:blipFill>
        <p:spPr>
          <a:xfrm>
            <a:off x="0" y="620640"/>
            <a:ext cx="5429160" cy="5545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435640" y="237492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á seu corpo hoje? Então recorde-se do que pensou e sentiu ontem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urchschaute Körper (5)"/>
          <p:cNvPicPr/>
          <p:nvPr/>
        </p:nvPicPr>
        <p:blipFill>
          <a:blip r:embed="rId1"/>
          <a:stretch/>
        </p:blipFill>
        <p:spPr>
          <a:xfrm>
            <a:off x="4500720" y="476280"/>
            <a:ext cx="4444920" cy="56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68360" y="198900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ará seu corpo amanhã? Observe seus pensamentos e emoções hoje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Durchschaute Körper (12)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4637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4941360"/>
            <a:ext cx="85690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 MEDICINA ESTÁ EM VOCÊ E VOCÊ NÃO A USA.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Book Antiqua"/>
              </a:rPr>
              <a:t>A DOENÇA VEM DE VOCÊ MESMO E VOCÊ NÃO SE DÁ CONTA.”     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Hansrat 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AÚDE PERFEITA” – Deepak Cho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Médico indiano, radicado nos EUA desde a década de 70, com especialização em Endocrinologia nos Estados Unidos. Filósofo de reputação internacional, já escreveu mais de 35 livros, um dos mais respeitados pensadores da atualidad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2" descr="I38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urchschaute Körper (4)"/>
          <p:cNvPicPr/>
          <p:nvPr/>
        </p:nvPicPr>
        <p:blipFill>
          <a:blip r:embed="rId1"/>
          <a:stretch/>
        </p:blipFill>
        <p:spPr>
          <a:xfrm>
            <a:off x="4641840" y="836640"/>
            <a:ext cx="45021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179280" y="134136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mos as únicas criaturas na superfície da Terra capazes de transformar nossa biologia por meio do que pensamos e sentimo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ssas células estão constantemente observando nossos pensamentos e sendo modificadas por ele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urchschaute Körper (13)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36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0" y="4292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Um ataque de depressão pode arrasar nosso sistema imunológico. Asserenar-se, ao contrário, pode fortificá-lo intensamente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Durchschaute Körper (12)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4438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0" y="5332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alegria e a atividade harmoniosa nos mantém saudáveis e prolongam a vid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rchschaute Körper (8)"/>
          <p:cNvPicPr/>
          <p:nvPr/>
        </p:nvPicPr>
        <p:blipFill>
          <a:blip r:embed="rId1"/>
          <a:stretch/>
        </p:blipFill>
        <p:spPr>
          <a:xfrm>
            <a:off x="0" y="404640"/>
            <a:ext cx="4282920" cy="6048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284720" y="220500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lembrança de uma situação negativa ou triste libera os mesmos hormônios e substâncias biológicas destrutivas que o stres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urchschaute Körper"/>
          <p:cNvPicPr/>
          <p:nvPr/>
        </p:nvPicPr>
        <p:blipFill>
          <a:blip r:embed="rId1"/>
          <a:stretch/>
        </p:blipFill>
        <p:spPr>
          <a:xfrm>
            <a:off x="1116000" y="830160"/>
            <a:ext cx="7416720" cy="390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465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as células estão constantemente processando todas as suas experiências e metabolizando-as de acordo com seus pontos de vista pessoai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Durchschaute Körper (11)"/>
          <p:cNvPicPr/>
          <p:nvPr/>
        </p:nvPicPr>
        <p:blipFill>
          <a:blip r:embed="rId1"/>
          <a:stretch/>
        </p:blipFill>
        <p:spPr>
          <a:xfrm>
            <a:off x="324000" y="549360"/>
            <a:ext cx="3954240" cy="561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788000" y="177336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ão se pode simplesmente captar dados isolados e confirmá-los com um julgamento. Você se transforma na interpretação quando a internaliz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urchschaute Körper (9)"/>
          <p:cNvPicPr/>
          <p:nvPr/>
        </p:nvPicPr>
        <p:blipFill>
          <a:blip r:embed="rId1"/>
          <a:stretch/>
        </p:blipFill>
        <p:spPr>
          <a:xfrm>
            <a:off x="4586400" y="907920"/>
            <a:ext cx="4162320" cy="507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7"/>
          <p:cNvSpPr/>
          <p:nvPr/>
        </p:nvSpPr>
        <p:spPr>
          <a:xfrm>
            <a:off x="395280" y="966960"/>
            <a:ext cx="388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Quem está deprimido projeta tristeza em todas as partes do corpo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A produção de neurotransmissores a partir do cérebro se altera, o nível de hormônios varia, o ciclo do sono é interrompido, os receptores neuropeptídicos na superfície externa das células da pele se modificam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Durchschaute Körper (10)"/>
          <p:cNvPicPr/>
          <p:nvPr/>
        </p:nvPicPr>
        <p:blipFill>
          <a:blip r:embed="rId1"/>
          <a:stretch/>
        </p:blipFill>
        <p:spPr>
          <a:xfrm>
            <a:off x="0" y="836640"/>
            <a:ext cx="422928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292720" y="170028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plaquetas sanguíneas se tornam mais viscosas e mais propensas a formar grumos e até as suas lágrimas contém traços químicos diferentes das lágrimas de alegri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1:01:48Z</dcterms:created>
  <dc:creator/>
  <dc:description/>
  <dc:language>en-US</dc:language>
  <cp:lastModifiedBy/>
  <dcterms:modified xsi:type="dcterms:W3CDTF">2010-07-29T13:12:41Z</dcterms:modified>
  <cp:revision>3</cp:revision>
  <dc:subject/>
  <dc:title>Slide 1</dc:title>
</cp:coreProperties>
</file>