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ntrumentalPian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BA1-B1DE-4E18-B7FC-63975BCDAABF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BBA2-0DDF-411B-A7A6-1F472D8619F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5DB4-7866-42E6-8AAD-51E4D4F2DA6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8F37-B856-4DFD-AC08-3E0741C18C6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377C-BC72-495D-BEF9-331A35F1DA1C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EC4-CDEF-43C0-8723-F3CBED2A6B6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CCF8-59BF-490B-8EDF-F1D40EAD1FE0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161-B728-41F2-813F-0EC5D85339D0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B215-6D66-40F9-83CC-749D6FA6DE85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DF8-5E2E-4D71-9E89-E419F128FA2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A1F1-2A74-4CFF-B13B-E0D02FACC0D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F7D1-576D-4C38-89A3-AE1D5EA2C0BE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314-728F-4485-9F2D-8A144FE732E6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016A-A22D-418A-8951-E42C1694F873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4DA-3162-4F04-9DD6-FB46936C2E7E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B6B-C028-4DBE-A608-58BA68524550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0FF1-BE7E-4467-981E-08F38D31D093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0B2-C810-435B-9CB1-A66DFCB287F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9EE-81C5-497C-959F-A83C2EC9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33A-04DF-471D-AB2F-8E39A3D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241-461E-4D02-8722-6E086096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CE6-092B-46D9-8BC6-8B7A678D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8F4-4714-456C-A3DF-7E5B940E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064-A831-4C17-9316-27CBE5F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C52-79A7-4EAD-8F7A-A362AE0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FC4-B904-4BDE-B6D8-851875A8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8CC-A4B0-4DD9-860D-440AAE67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65A0-6415-429D-A901-6F3E931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4D5-F960-4B12-931E-06A77F81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A27-75D8-4A37-90C2-78BBBCB6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976-3C65-4629-B6FA-0F2CFF28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trumentalPian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4" descr="LO SIENTES VIDA !!"/>
          <p:cNvPicPr/>
          <p:nvPr/>
        </p:nvPicPr>
        <p:blipFill>
          <a:blip r:embed="rId1"/>
          <a:stretch/>
        </p:blipFill>
        <p:spPr>
          <a:xfrm>
            <a:off x="0" y="83664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4859280" y="2534760"/>
            <a:ext cx="20876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WordArt 46"/>
          <p:cNvSpPr txBox="1"/>
          <p:nvPr/>
        </p:nvSpPr>
        <p:spPr>
          <a:xfrm>
            <a:off x="5003640" y="3284640"/>
            <a:ext cx="39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MUTAN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0000">
    <p:wipe dir="r"/>
    <p:sndAc>
      <p:stSnd>
        <p:snd r:embed="rId2" name="intrumentalPia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chschaute Körper (2)"/>
          <p:cNvPicPr/>
          <p:nvPr/>
        </p:nvPicPr>
        <p:blipFill>
          <a:blip r:embed="rId1"/>
          <a:stretch/>
        </p:blipFill>
        <p:spPr>
          <a:xfrm>
            <a:off x="1909800" y="907920"/>
            <a:ext cx="4967280" cy="3641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es fatos confirmam a grande necessidade de usar nossa consciência para criar os corpos que realmente necessitamo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0" y="534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Todo este perfil bioquímico será drasticamente modificado quando a pessoa se sentir tranquil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urchschaute Körper (1)"/>
          <p:cNvPicPr/>
          <p:nvPr/>
        </p:nvPicPr>
        <p:blipFill>
          <a:blip r:embed="rId1"/>
          <a:srcRect l="7874" t="0" r="0" b="0"/>
          <a:stretch/>
        </p:blipFill>
        <p:spPr>
          <a:xfrm>
            <a:off x="3203640" y="1052640"/>
            <a:ext cx="5940360" cy="4749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-36360" y="2205000"/>
            <a:ext cx="34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akespeare não estava sendo metafórico quando, através de seu personagem Próspero, disse: Somos feitos da mesma matéria que os sonhos.”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urchschaute Körper (7)"/>
          <p:cNvPicPr/>
          <p:nvPr/>
        </p:nvPicPr>
        <p:blipFill>
          <a:blip r:embed="rId1"/>
          <a:stretch/>
        </p:blipFill>
        <p:spPr>
          <a:xfrm>
            <a:off x="0" y="549360"/>
            <a:ext cx="422604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76720" y="285264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 processo de envelhecimento pode ser neutralizado a cada dia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urchschaute Körper (3)"/>
          <p:cNvPicPr/>
          <p:nvPr/>
        </p:nvPicPr>
        <p:blipFill>
          <a:blip r:embed="rId1"/>
          <a:stretch/>
        </p:blipFill>
        <p:spPr>
          <a:xfrm>
            <a:off x="-468360" y="907920"/>
            <a:ext cx="5832360" cy="509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4067280" y="4437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corde-se que ao abrir seu coração e sua mente evitará que algum cirurgião o faça por você! 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Durchschaute Körper (6)"/>
          <p:cNvPicPr/>
          <p:nvPr/>
        </p:nvPicPr>
        <p:blipFill>
          <a:blip r:embed="rId1"/>
          <a:stretch/>
        </p:blipFill>
        <p:spPr>
          <a:xfrm>
            <a:off x="0" y="620640"/>
            <a:ext cx="542916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435640" y="23749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á seu corpo hoje? Então recorde-se do que pensou e sentiu ontem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urchschaute Körper (5)"/>
          <p:cNvPicPr/>
          <p:nvPr/>
        </p:nvPicPr>
        <p:blipFill>
          <a:blip r:embed="rId1"/>
          <a:stretch/>
        </p:blipFill>
        <p:spPr>
          <a:xfrm>
            <a:off x="4500720" y="476280"/>
            <a:ext cx="4444920" cy="56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8360" y="198900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ará seu corpo amanhã? Observe seus pensamentos e emoções hoje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Durchschaute Körper (12)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463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85690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 MEDICINA ESTÁ EM VOCÊ E VOCÊ NÃO A USA.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Book Antiqua"/>
              </a:rPr>
              <a:t>A DOENÇA VEM DE VOCÊ MESMO E VOCÊ NÃO SE DÁ CONTA.”     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Hansrat 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AÚDE PERFEITA” – Deepak Cho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Médico indiano, radicado nos EUA desde a década de 70, com especialização em Endocrinologia nos Estados Unidos. Filósofo de reputação internacional, já escreveu mais de 35 livros, um dos mais respeitados pensadores da atualidad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I38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urchschaute Körper (4)"/>
          <p:cNvPicPr/>
          <p:nvPr/>
        </p:nvPicPr>
        <p:blipFill>
          <a:blip r:embed="rId1"/>
          <a:stretch/>
        </p:blipFill>
        <p:spPr>
          <a:xfrm>
            <a:off x="4641840" y="836640"/>
            <a:ext cx="45021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179280" y="134136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mos as únicas criaturas na superfície da Terra capazes de transformar nossa biologia por meio do que pensamos e sentimo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ssas células estão constantemente observando nossos pensamentos e sendo modificadas por ele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urchschaute Körper (13)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36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0" y="4292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Um ataque de depressão pode arrasar nosso sistema imunológico. Asserenar-se, ao contrário, pode fortificá-lo intensamente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urchschaute Körper (12)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0" y="5332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alegria e a atividade harmoniosa nos mantém saudáveis e prolongam a vid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rchschaute Körper (8)"/>
          <p:cNvPicPr/>
          <p:nvPr/>
        </p:nvPicPr>
        <p:blipFill>
          <a:blip r:embed="rId1"/>
          <a:stretch/>
        </p:blipFill>
        <p:spPr>
          <a:xfrm>
            <a:off x="0" y="404640"/>
            <a:ext cx="428292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284720" y="220500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lembrança de uma situação negativa ou triste libera os mesmos hormônios e substâncias biológicas destrutivas que o stres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urchschaute Körper"/>
          <p:cNvPicPr/>
          <p:nvPr/>
        </p:nvPicPr>
        <p:blipFill>
          <a:blip r:embed="rId1"/>
          <a:stretch/>
        </p:blipFill>
        <p:spPr>
          <a:xfrm>
            <a:off x="1116000" y="830160"/>
            <a:ext cx="7416720" cy="390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465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as células estão constantemente processando todas as suas experiências e metabolizando-as de acordo com seus pontos de vista pessoai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Durchschaute Körper (11)"/>
          <p:cNvPicPr/>
          <p:nvPr/>
        </p:nvPicPr>
        <p:blipFill>
          <a:blip r:embed="rId1"/>
          <a:stretch/>
        </p:blipFill>
        <p:spPr>
          <a:xfrm>
            <a:off x="324000" y="549360"/>
            <a:ext cx="3954240" cy="561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788000" y="1773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ão se pode simplesmente captar dados isolados e confirmá-los com um julgamento. Você se transforma na interpretação quando a internaliz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urchschaute Körper (9)"/>
          <p:cNvPicPr/>
          <p:nvPr/>
        </p:nvPicPr>
        <p:blipFill>
          <a:blip r:embed="rId1"/>
          <a:stretch/>
        </p:blipFill>
        <p:spPr>
          <a:xfrm>
            <a:off x="4586400" y="907920"/>
            <a:ext cx="4162320" cy="507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395280" y="966960"/>
            <a:ext cx="388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Quem está deprimido projeta tristeza em todas as partes do corpo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 produção de neurotransmissores a partir do cérebro se altera, o nível de hormônios varia, o ciclo do sono é interrompido, os receptores neuropeptídicos na superfície externa das células da pele se modificam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urchschaute Körper (10)"/>
          <p:cNvPicPr/>
          <p:nvPr/>
        </p:nvPicPr>
        <p:blipFill>
          <a:blip r:embed="rId1"/>
          <a:stretch/>
        </p:blipFill>
        <p:spPr>
          <a:xfrm>
            <a:off x="0" y="836640"/>
            <a:ext cx="422928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170028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plaquetas sanguíneas se tornam mais viscosas e mais propensas a formar grumos e até as suas lágrimas contém traços químicos diferentes das lágrimas de alegri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1:01:48Z</dcterms:created>
  <dc:creator/>
  <dc:description/>
  <dc:language>en-US</dc:language>
  <cp:lastModifiedBy/>
  <dcterms:modified xsi:type="dcterms:W3CDTF">2010-07-29T13:12:41Z</dcterms:modified>
  <cp:revision>3</cp:revision>
  <dc:subject/>
  <dc:title>Slide 1</dc:title>
</cp:coreProperties>
</file>