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era_1_2-divano%202.22%20cut18.wav" ContentType="audio/x-wav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0B47-7022-4F7D-AEC4-F66DEBF67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DB72-C85D-4DC5-8562-94854171D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03CA-E7BA-4207-8038-DD142D741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519C-2931-4105-8C6E-6BFF991EF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F2B0-5994-4B00-8006-9B401968E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BBC4-28A4-49FA-91C6-368342C0C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067C-543B-4461-84CB-24844E80E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CCA8-CD86-4D9D-AA59-52F5BF6B7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6AE5-2ECA-4B11-8F66-E79FBF0DE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383A-585E-4B07-A460-834AF0EBB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AC53-A235-4749-A97D-EBF8E4A18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54A5-42BA-41F6-A0D2-A90F210E4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FEAAB-A4D7-4E78-92DD-8EC3086B57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era_1_2-divano%202.22%20cut18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ssoliver@terra.com.br" TargetMode="External"/><Relationship Id="rId2" Type="http://schemas.openxmlformats.org/officeDocument/2006/relationships/hyperlink" Target="http://www.leticiathompson.net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mão%20dourad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048120" y="60948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pperplate Gothic Light"/>
              </a:rPr>
              <a:t>Acredit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19320" y="1676520"/>
            <a:ext cx="6705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pperplate Gothic Light"/>
                <a:ea typeface="Arial"/>
              </a:rPr>
              <a:t>Creio em mim mesmo. Creio nos que trabalham comigo, creio nos meus amigos e creio na minha família. Creio que Deus me emprestará tudo que necessito para triunfar, contanto que eu me esforce para alcançar com meios lícitos e hones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2000">
    <p:randomBar dir="vert"/>
    <p:sndAc>
      <p:stSnd>
        <p:snd r:embed="rId2" name="era_1_2-divano%202.22%20cut18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aisagem%20cachueira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7200" y="914400"/>
            <a:ext cx="80773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pperplate Gothic Light"/>
                <a:ea typeface="Arial"/>
              </a:rPr>
              <a:t>Creio nas orações e nunca fecharei meus olhos para dormir, sem pedir antes a devida orientação a fim de ser paciente com os outros e tolerante com os que não acreditam no que eu acredito. Creio que o triunfo é resultado de esforço inteligente, que não depende da sorte, da magia, de amigos, companheiros duvidosos ou de meu che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0"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3TULIP~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219320" y="914400"/>
            <a:ext cx="67816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pperplate Gothic Light"/>
                <a:ea typeface="Arial"/>
              </a:rPr>
              <a:t>Creio que tirarei da vida exatamente o que nela colocar. Serei cauteloso quando tratar os outros, como quero que eles sejam comigo. Não caluniarei aqueles que não gosto. Não diminuirei meu trabalho por ver que os outros o faz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2000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mulher%20anj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85800" y="990720"/>
            <a:ext cx="76201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pperplate Gothic Light"/>
                <a:ea typeface="Arial"/>
              </a:rPr>
              <a:t>Prestarei o melhor serviço de que sou capaz, porque jurei a mim mesmo triunfar na vida, e sei que o triunfo é sempre resultado do esforço consciente e eficaz. Finalmente, perdoarei os que me ofendem, porque compreendo que às vezes ofendo os outros e necessito de perd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743200" y="50292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3300"/>
                </a:solidFill>
                <a:latin typeface="Copperplate Gothic Light"/>
                <a:ea typeface="Times New Roman"/>
              </a:rPr>
              <a:t>(Mahatma Gandh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5000"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400"/>
            </a:gs>
            <a:gs pos="50000">
              <a:srgbClr val="66ff33"/>
            </a:gs>
            <a:gs pos="100000">
              <a:srgbClr val="001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24080" y="228600"/>
            <a:ext cx="2362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Times New Roman"/>
              </a:rPr>
              <a:t>Mús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Times New Roman"/>
              </a:rPr>
              <a:t>Era - Divano</a:t>
            </a:r>
            <a:r>
              <a:rPr b="1" i="1" lang="pt-BR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4479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laborado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érgio S. Ol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66680" y="2819520"/>
            <a:ext cx="716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ssoliver@terra.com.br</a:t>
            </a:r>
            <a:r>
              <a:rPr b="0" lang="pt-BR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" action="ppaction://hlinkshowjump?jump=firstslide"/>
          </p:cNvPr>
          <p:cNvSpPr/>
          <p:nvPr/>
        </p:nvSpPr>
        <p:spPr>
          <a:xfrm>
            <a:off x="762120" y="4876920"/>
            <a:ext cx="1828800" cy="68580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Reinici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2"/>
          </p:cNvPr>
          <p:cNvSpPr/>
          <p:nvPr/>
        </p:nvSpPr>
        <p:spPr>
          <a:xfrm>
            <a:off x="3429000" y="4724280"/>
            <a:ext cx="2133720" cy="99072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Times New Roman"/>
              </a:rPr>
              <a:t>Visite o Si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Times New Roman"/>
              </a:rPr>
              <a:t>Letíca Thomp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" action="ppaction://hlinkshowjump?jump=endshow"/>
          </p:cNvPr>
          <p:cNvSpPr/>
          <p:nvPr/>
        </p:nvSpPr>
        <p:spPr>
          <a:xfrm>
            <a:off x="6324480" y="4876920"/>
            <a:ext cx="1905120" cy="68580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Sai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800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6T01:20:14Z</dcterms:created>
  <dc:creator>ssolvier@terra.com.br </dc:creator>
  <dc:description>Elabora por: Sérgio S. Oliver </dc:description>
  <dc:language>en-US</dc:language>
  <cp:lastModifiedBy>Sérgio S. Oliver</cp:lastModifiedBy>
  <dcterms:modified xsi:type="dcterms:W3CDTF">2004-11-18T17:24:20Z</dcterms:modified>
  <cp:revision>7</cp:revision>
  <dc:subject>PPS</dc:subject>
  <dc:title>Acreditar</dc:title>
</cp:coreProperties>
</file>