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a_1_2-divano%202.22%20cut18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211-8222-4B78-BE64-122B573E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EEF-A1B4-4F26-980D-655525C8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819-6ED2-4E7A-8983-AD0D125E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2FF-AAEA-4B3C-A6E0-184A4457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841-CF68-46D2-A6B2-3A1F647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DE1-A213-439C-A9D4-1E92B1E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3E1-6C48-41C1-8529-C781387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A2A-320D-4238-92EF-9B1704CC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C20-660D-423A-B5C3-9E9F3AAD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2DC-FCC3-4421-994A-5EA09A5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D9A-F205-4B49-9E37-7FAB96B8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44C-D5F7-4628-8B74-CC8E7FD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3A5-2DA3-4654-88E4-D23DE8EA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a_1_2-divano%202.22%20cut1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ão%20dour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8120" y="609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pperplate Gothic Light"/>
              </a:rPr>
              <a:t>Acred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7652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em mim mesmo. Creio nos que trabalham comigo, creio nos meus amigos e creio na minha família. Creio que Deus me emprestará tudo que necessito para triunfar, contanto que eu me esforce para alcançar com meios lícitos e hon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  <p:sndAc>
      <p:stSnd>
        <p:snd r:embed="rId2" name="era_1_2-divano%202.22%20cut1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isagem%20cachueira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914400"/>
            <a:ext cx="807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nas orações e nunca fecharei meus olhos para dormir, sem pedir antes a devida orientação a fim de ser paciente com os outros e tolerante com os que não acreditam no que eu acredito. Creio que o triunfo é resultado de esforço inteligente, que não depende da sorte, da magia, de amigos, companheiros duvidosos ou de meu che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TULIP~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1440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que tirarei da vida exatamente o que nela colocar. Serei cauteloso quando tratar os outros, como quero que eles sejam comigo. Não caluniarei aqueles que não gosto. Não diminuirei meu trabalho por ver que os outros o faz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ulher%20anj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9072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Prestarei o melhor serviço de que sou capaz, porque jurei a mim mesmo triunfar na vida, e sei que o triunfo é sempre resultado do esforço consciente e eficaz. Finalmente, perdoarei os que me ofendem, porque compreendo que às vezes ofendo os outros e necessito de perd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5029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Copperplate Gothic Light"/>
                <a:ea typeface="Times New Roman"/>
              </a:rPr>
              <a:t>(Mahatma Gand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400"/>
            </a:gs>
            <a:gs pos="50000">
              <a:srgbClr val="66ff33"/>
            </a:gs>
            <a:gs pos="100000">
              <a:srgbClr val="00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2286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Era - Divano</a:t>
            </a:r>
            <a:r>
              <a:rPr b="1" i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4479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19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Letíc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1:20:14Z</dcterms:created>
  <dc:creator>ssolvier@terra.com.br </dc:creator>
  <dc:description>Elabora por: Sérgio S. Oliver </dc:description>
  <dc:language>en-US</dc:language>
  <cp:lastModifiedBy>Sérgio S. Oliver</cp:lastModifiedBy>
  <dcterms:modified xsi:type="dcterms:W3CDTF">2004-11-18T17:24:20Z</dcterms:modified>
  <cp:revision>7</cp:revision>
  <dc:subject>PPS</dc:subject>
  <dc:title>Acreditar</dc:title>
</cp:coreProperties>
</file>