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7.jpeg" ContentType="image/jpeg"/>
  <Override PartName="/ppt/media/image1.jpeg" ContentType="image/jpeg"/>
  <Override PartName="/ppt/media/A-Ernesto%20Cortazar%20-%20Dreaming-1m38.wav" ContentType="audio/x-wav"/>
  <Override PartName="/ppt/media/image4.jpeg" ContentType="image/jpeg"/>
  <Override PartName="/ppt/media/image5.jpeg" ContentType="image/jpeg"/>
  <Override PartName="/ppt/media/image8.jpeg" ContentType="image/jpeg"/>
  <Override PartName="/ppt/media/image2.gif" ContentType="image/gif"/>
  <Override PartName="/ppt/media/image10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12.gif" ContentType="image/gif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ECDC-0F22-4C7D-A4D7-8700CE7E4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1744-3F93-4670-A60E-C902A9355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5A45-78D0-49A7-AB77-A5558461D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7D88-D8C8-4321-9F90-1671BBA1D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6E19-C705-4743-8288-2FDE60C0E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97DC-A5EC-46E4-BDDF-234D2807A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8D11-967A-4F89-825F-0605D2150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622B-3D0F-4CAC-82E1-F83F3DB1C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DBFE-4470-4834-A5EF-52D6046EB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253A-84CB-4213-8113-E61876C1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CDB0-EF12-4C2E-B704-EBE31025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C521-5C71-49AD-8A24-7D322ABE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A0DCE-4D50-4D4A-BB47-B308ABAC4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A-Ernesto%20Cortazar%20-%20Dreaming-1m38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incredimail.com/app/?tag=emoticon_click_me_im2_re&amp;lang=22&amp;version=6044475&amp;setup_id=22000007&amp;aff_id=102&amp;addon=IncrediMail&amp;upn=9ce42ef4-f442-4495-8d79-44446c743517&amp;id=95202&amp;guid=16A21620-1ED4-4549-A218-F1E46A4AAE64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324000" y="1268280"/>
            <a:ext cx="604980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50000">
                      <a:srgbClr val="0000ff"/>
                    </a:gs>
                    <a:gs pos="100000">
                      <a:srgbClr val="3399ff"/>
                    </a:gs>
                  </a:gsLst>
                  <a:lin ang="13500000"/>
                </a:gradFill>
                <a:latin typeface="Cooper Black"/>
              </a:rPr>
              <a:t>Terapia d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50000">
                    <a:srgbClr val="0000ff"/>
                  </a:gs>
                  <a:gs pos="100000">
                    <a:srgbClr val="3399ff"/>
                  </a:gs>
                </a:gsLst>
                <a:lin ang="13500000"/>
              </a:gradFill>
              <a:latin typeface="Cooper Black"/>
              <a:ea typeface="Cooper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50000">
                      <a:srgbClr val="0000ff"/>
                    </a:gs>
                    <a:gs pos="100000">
                      <a:srgbClr val="3399ff"/>
                    </a:gs>
                  </a:gsLst>
                  <a:lin ang="13500000"/>
                </a:gradFill>
                <a:latin typeface="Cooper Black"/>
              </a:rPr>
              <a:t>               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50000">
                      <a:srgbClr val="0000ff"/>
                    </a:gs>
                    <a:gs pos="100000">
                      <a:srgbClr val="3399ff"/>
                    </a:gs>
                  </a:gsLst>
                  <a:lin ang="13500000"/>
                </a:gradFill>
                <a:latin typeface="Cooper Black"/>
              </a:rPr>
              <a:t>Elogio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50000">
                    <a:srgbClr val="0000ff"/>
                  </a:gs>
                  <a:gs pos="100000">
                    <a:srgbClr val="3399ff"/>
                  </a:gs>
                </a:gsLst>
                <a:lin ang="13500000"/>
              </a:gradFill>
              <a:latin typeface="Cooper Black"/>
              <a:ea typeface="Cooper Black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284720" y="6362640"/>
            <a:ext cx="723960" cy="49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5280" y="981000"/>
            <a:ext cx="8352000" cy="256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33"/>
                </a:solidFill>
                <a:latin typeface="Cooper Black"/>
              </a:rPr>
              <a:t>Você é muito especial e com certeza o mundo é mais bonito..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4076640"/>
            <a:ext cx="88200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oper Black"/>
              </a:rPr>
              <a:t>por causa de você!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132000" y="5410080"/>
            <a:ext cx="28386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oper Black"/>
              </a:rPr>
              <a:t>Formatação – Fernando S Lourei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oper Black"/>
              </a:rPr>
              <a:t>Texto – Arthur Nogueira – Psicó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oper Black"/>
              </a:rPr>
              <a:t>Música – Dreaming – Ernesto Cortaz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oper Black"/>
              </a:rPr>
              <a:t>Volta Redonda – RJ –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oper Black"/>
              </a:rPr>
              <a:t>Respeite os Crédi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11280" y="549360"/>
            <a:ext cx="7993080" cy="253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Cooper Black"/>
              </a:rPr>
              <a:t>Renomados terapeutas que trabalham com famílias, divulgaram uma recente pesquisa onde nota-se que os membros das famílias brasileiras estão cada </a:t>
            </a:r>
            <a:br>
              <a:rPr sz="3200"/>
            </a:br>
            <a:r>
              <a:rPr b="0" lang="en-US" sz="3200" spc="-1" strike="noStrike">
                <a:solidFill>
                  <a:srgbClr val="ccff33"/>
                </a:solidFill>
                <a:latin typeface="Cooper Black"/>
              </a:rPr>
              <a:t>vez mais frio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55640" y="5445000"/>
            <a:ext cx="79200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973080" y="3789360"/>
            <a:ext cx="82803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Cooper Black"/>
              </a:rPr>
              <a:t>não existe mais carinho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79640" y="4653000"/>
            <a:ext cx="806436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Cooper Black"/>
              </a:rPr>
              <a:t>não valorizam mais as qualidades,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32000" y="5546880"/>
            <a:ext cx="6769080" cy="132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Cooper Black"/>
              </a:rPr>
              <a:t>só se ouvem crític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95280" y="1268280"/>
            <a:ext cx="8210520" cy="229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Cooper Black"/>
              </a:rPr>
              <a:t>As pessoas estão cada vez mais intolerantes e se desgastam valorizando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55640" y="4149720"/>
            <a:ext cx="777708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Cooper Black"/>
              </a:rPr>
              <a:t>Por isso, os relacionamentos </a:t>
            </a:r>
            <a:br>
              <a:rPr sz="3200"/>
            </a:br>
            <a:r>
              <a:rPr b="0" lang="en-US" sz="3200" spc="-1" strike="noStrike">
                <a:solidFill>
                  <a:srgbClr val="ccff33"/>
                </a:solidFill>
                <a:latin typeface="Cooper Black"/>
              </a:rPr>
              <a:t>de hoje não duram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42920" y="3213000"/>
            <a:ext cx="6769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Cooper Black"/>
              </a:rPr>
              <a:t>os defeitos dos out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8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55640" y="476280"/>
            <a:ext cx="79218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Cooper Black"/>
              </a:rPr>
              <a:t>A ausência de elogio está cada vez mais presente nas famílias de média e alta rend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2133720"/>
            <a:ext cx="835344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Cooper Black"/>
              </a:rPr>
              <a:t>Não vemos mais homens elogiando suas mulheres ou vice-versa,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9640" y="3213000"/>
            <a:ext cx="81360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Cooper Black"/>
              </a:rPr>
              <a:t>não vemos chefes elogiando o trabalho de seus subordinado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4365720"/>
            <a:ext cx="84960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Cooper Black"/>
              </a:rPr>
              <a:t>não vemos mais </a:t>
            </a:r>
            <a:br>
              <a:rPr sz="3200"/>
            </a:br>
            <a:r>
              <a:rPr b="0" lang="en-US" sz="3200" spc="-1" strike="noStrike">
                <a:solidFill>
                  <a:srgbClr val="ccff33"/>
                </a:solidFill>
                <a:latin typeface="Cooper Black"/>
              </a:rPr>
              <a:t>pais e filhos se elogiando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5516640"/>
            <a:ext cx="82087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Cooper Black"/>
              </a:rPr>
              <a:t>amigos, etc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8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900000" y="404640"/>
            <a:ext cx="727236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Cooper Black"/>
              </a:rPr>
              <a:t>Só vemos pessoas</a:t>
            </a:r>
            <a:r>
              <a:rPr b="0" lang="en-US" sz="3200" spc="-1" strike="noStrike">
                <a:solidFill>
                  <a:srgbClr val="ffffff"/>
                </a:solidFill>
                <a:latin typeface="Cooper Black"/>
              </a:rPr>
              <a:t> fúteis </a:t>
            </a:r>
            <a:r>
              <a:rPr b="0" lang="en-US" sz="3200" spc="-1" strike="noStrike">
                <a:solidFill>
                  <a:srgbClr val="ccff33"/>
                </a:solidFill>
                <a:latin typeface="Cooper Black"/>
              </a:rPr>
              <a:t>valorizando </a:t>
            </a:r>
            <a:r>
              <a:rPr b="0" lang="en-US" sz="3200" spc="-1" strike="noStrike">
                <a:solidFill>
                  <a:srgbClr val="ffffff"/>
                </a:solidFill>
                <a:latin typeface="Cooper Black"/>
              </a:rPr>
              <a:t>artistas</a:t>
            </a:r>
            <a:r>
              <a:rPr b="0" lang="en-US" sz="3200" spc="-1" strike="noStrike">
                <a:solidFill>
                  <a:srgbClr val="ccff33"/>
                </a:solidFill>
                <a:latin typeface="Cooper Black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Cooper Black"/>
              </a:rPr>
              <a:t>cantores</a:t>
            </a:r>
            <a:r>
              <a:rPr b="0" lang="en-US" sz="3200" spc="-1" strike="noStrike">
                <a:solidFill>
                  <a:srgbClr val="ccff33"/>
                </a:solidFill>
                <a:latin typeface="Cooper Black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1557360"/>
            <a:ext cx="83534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Cooper Black"/>
              </a:rPr>
              <a:t>pessoas que usam a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oper Black"/>
              </a:rPr>
              <a:t>imagem</a:t>
            </a:r>
            <a:r>
              <a:rPr b="0" lang="en-US" sz="3200" spc="-1" strike="noStrike">
                <a:solidFill>
                  <a:srgbClr val="ccff33"/>
                </a:solidFill>
                <a:latin typeface="Cooper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oper Black"/>
              </a:rPr>
              <a:t>para ganhar dinheiro</a:t>
            </a:r>
            <a:r>
              <a:rPr b="0" lang="en-US" sz="3200" spc="-1" strike="noStrike">
                <a:solidFill>
                  <a:srgbClr val="ccff33"/>
                </a:solidFill>
                <a:latin typeface="Cooper Black"/>
              </a:rPr>
              <a:t> e qu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2852640"/>
            <a:ext cx="8209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Cooper Black"/>
              </a:rPr>
              <a:t>por conseqüênci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3573360"/>
            <a:ext cx="828036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Cooper Black"/>
              </a:rPr>
              <a:t>são pessoas que têm a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oper Black"/>
              </a:rPr>
              <a:t>obrigação de cuidar do corpo e do rosto</a:t>
            </a:r>
            <a:r>
              <a:rPr b="0" lang="en-US" sz="3200" spc="-1" strike="noStrike">
                <a:solidFill>
                  <a:srgbClr val="ccff33"/>
                </a:solidFill>
                <a:latin typeface="Cooper Black"/>
              </a:rPr>
              <a:t>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42920" y="5300640"/>
            <a:ext cx="6985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Cooper Black"/>
              </a:rPr>
              <a:t>Essa ausência de elogio tem afetado muito as famíli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8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95280" y="836640"/>
            <a:ext cx="7848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Cooper Black"/>
              </a:rPr>
              <a:t>A falta de diálogo em seus lar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26920" y="1700280"/>
            <a:ext cx="7345440" cy="20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Cooper Black"/>
              </a:rPr>
              <a:t>o excesso de orgulho impede que as pessoas digam o que </a:t>
            </a:r>
            <a:br>
              <a:rPr sz="3200"/>
            </a:br>
            <a:r>
              <a:rPr b="0" lang="en-US" sz="3200" spc="-1" strike="noStrike">
                <a:solidFill>
                  <a:srgbClr val="ccff33"/>
                </a:solidFill>
                <a:latin typeface="Cooper Black"/>
              </a:rPr>
              <a:t>sentem e levam essa carência para dentro dos consultóri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4005360"/>
            <a:ext cx="9144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Cooper Black"/>
              </a:rPr>
              <a:t>Destróem seus casamento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1280" y="4816440"/>
            <a:ext cx="7993080" cy="20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Cooper Black"/>
              </a:rPr>
              <a:t>e acabam procurando em outras pessoas o que não conseguem dentro </a:t>
            </a:r>
            <a:br>
              <a:rPr sz="3200"/>
            </a:br>
            <a:r>
              <a:rPr b="0" lang="en-US" sz="3200" spc="-1" strike="noStrike">
                <a:solidFill>
                  <a:srgbClr val="ccff33"/>
                </a:solidFill>
                <a:latin typeface="Cooper Black"/>
              </a:rPr>
              <a:t>de casa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8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24000" y="549360"/>
            <a:ext cx="8496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Cooper Black"/>
              </a:rPr>
              <a:t>Comecemos a valorizar nossas família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1197000"/>
            <a:ext cx="38163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Cooper Black"/>
              </a:rPr>
              <a:t>amigo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50920" y="1484280"/>
            <a:ext cx="4608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Cooper Black"/>
              </a:rPr>
              <a:t>aluno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1989000"/>
            <a:ext cx="4176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Cooper Black"/>
              </a:rPr>
              <a:t>subordinad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2781360"/>
            <a:ext cx="9144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Cooper Black"/>
              </a:rPr>
              <a:t>Vamos elogiar o bom profissiona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55640" y="3645000"/>
            <a:ext cx="74883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Cooper Black"/>
              </a:rPr>
              <a:t>a boa atitud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796000" y="3645000"/>
            <a:ext cx="38163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Cooper Black"/>
              </a:rPr>
              <a:t>a étic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58920" y="4365720"/>
            <a:ext cx="716436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Cooper Black"/>
              </a:rPr>
              <a:t>a beleza de nossos </a:t>
            </a:r>
            <a:br>
              <a:rPr sz="3200"/>
            </a:br>
            <a:r>
              <a:rPr b="0" lang="en-US" sz="3200" spc="-1" strike="noStrike">
                <a:solidFill>
                  <a:srgbClr val="ccff33"/>
                </a:solidFill>
                <a:latin typeface="Cooper Black"/>
              </a:rPr>
              <a:t>parceiros ou nossas parceira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5640" y="5589720"/>
            <a:ext cx="7993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Cooper Black"/>
              </a:rPr>
              <a:t>o comportamento de nossos filh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8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55640" y="692280"/>
            <a:ext cx="76327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Cooper Black"/>
              </a:rPr>
              <a:t>Vamos observar o que as pessoas gosta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1773360"/>
            <a:ext cx="784836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Cooper Black"/>
              </a:rPr>
              <a:t>O bom profissional, o bom filho, o bom pai ou a boa mãe, o bom amigo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33"/>
                </a:solidFill>
                <a:latin typeface="Cooper Black"/>
              </a:rPr>
              <a:t>a boa dona de casa,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3500280"/>
            <a:ext cx="8316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Cooper Black"/>
              </a:rPr>
              <a:t>A mulher e o homem que se cuidam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42920" y="4292640"/>
            <a:ext cx="727416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Cooper Black"/>
              </a:rPr>
              <a:t>enfim vivemos numa sociedade em que um precisa do outro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516640"/>
            <a:ext cx="9144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Cooper Black"/>
              </a:rPr>
              <a:t>é impossível se viver sozinho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826920" y="82548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836640"/>
            <a:ext cx="81374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Cooper Black"/>
              </a:rPr>
              <a:t>e os elogios são a motivação na vida de qualquer pesso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2276640"/>
            <a:ext cx="9144000" cy="20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Cooper Black"/>
              </a:rPr>
              <a:t>Quantas pessoas você poderá fazer feliz hoje elogiando de alguma forma?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716280"/>
            <a:ext cx="9144000" cy="113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oper Black"/>
              </a:rPr>
              <a:t>Então elogie alguém hoje!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Cooper Black"/>
                <a:hlinkClick r:id="rId2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00000" y="4869000"/>
            <a:ext cx="727236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oper Black"/>
              </a:rPr>
              <a:t>Eu começo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4:41:52Z</dcterms:created>
  <dc:creator>FERNANDO</dc:creator>
  <dc:description/>
  <dc:language>en-US</dc:language>
  <cp:lastModifiedBy>FERNANDO</cp:lastModifiedBy>
  <dcterms:modified xsi:type="dcterms:W3CDTF">2010-03-01T23:05:33Z</dcterms:modified>
  <cp:revision>3</cp:revision>
  <dc:subject/>
  <dc:title>Slide 1</dc:title>
</cp:coreProperties>
</file>