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Andr%C3%A9%20Rieu%20-%20Memories.wav" ContentType="audio/x-wav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2A2-5FD0-4358-844B-CF2740BB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4B5-CDAD-4627-A82D-EFCF4CC4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C56-0DB6-4087-AD79-87E55DF2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287-79E8-4B1D-8B78-210B69BC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723-D810-46C9-AF80-110B868A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0F9-CE46-46D6-95C7-0FB395FF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11C-19A4-464D-8604-B90E9E06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FD1-A9B2-4804-AD9B-13E93FB1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968-F265-460B-A8CA-48F35AB5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E63-9167-47A4-BED4-D76BCD8E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AE7-70BB-4C3F-B653-1D93B7A4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18C-566F-4FA0-B4CF-3DD1D5B9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9300-9F1A-4B70-8631-9FA46A37A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audio" Target="../media/Andr&#233;%20Rieu%20-%20Memories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4.jpeg"/><Relationship Id="rId5" Type="http://schemas.openxmlformats.org/officeDocument/2006/relationships/hyperlink" Target="mailto:bethnorling@globo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48360" y="1413000"/>
            <a:ext cx="316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SSOAS 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SPECIAIS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92720" y="5157720"/>
            <a:ext cx="29624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84920" y="1916280"/>
            <a:ext cx="354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As que guardam a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calma na tormenta porque tiraram da vida as lições, as que sabem que Deus não nos abandona, mas respeita, embora com tristeza, quando nos afastamos d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56200" y="1628640"/>
            <a:ext cx="347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Pessoas especiais abrem-se ao mundo e o abraç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E por onde passam vão deixando rastros de luz, perfume de sabedoria, esperança para os que ficaram para trás, exatamente como deseja o coração de Deu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30520" y="1906560"/>
            <a:ext cx="575244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Crédit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Texto: Letícia Thompson – Pessoas Espe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Música: André Rieu – Mem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E-mail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Verdana"/>
                <a:hlinkClick r:id="rId5"/>
              </a:rPr>
              <a:t>bethnorling@glob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2205000"/>
            <a:ext cx="3791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Todos nós quere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ser pessoas especiais. Mais que uma questão de ter o ego saciado, sentir-se especial é sentir-se valorizado, diferente, mas de maneira enriqueced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84920" y="1052640"/>
            <a:ext cx="3547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Que somos ú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todo mundo f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Não existem duas pessoas iguais, mesmo se a semelhança entre muitas pode ser extraordinária vez ou ou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Deus nos fez assim, diferentes, semelhantes e criaturas dele como todas essas maravilhosas coisas que nos cer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84920" y="1700280"/>
            <a:ext cx="354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Mas acontec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nos sentirmos pequenos e insignific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Nem sempre sabemos lidar com nossos problemas e as coisas parecem tomar uma proporção muito maior do que são na rea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84920" y="1268280"/>
            <a:ext cx="3547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Quantas vezes sentimos que o chão se abre sob nossos pés e nos perguntamos onde encontraremos forças para não cai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E nos perguntamos ainda onde outras pessoas conseguem encontrar forças, como conseguem, como levantam a cabeça, se erguem e venc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11840" y="1413000"/>
            <a:ext cx="3692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O que torna realmente uma pessoa especial em relação a outra não é o fato dela ter nascido com melhores condições. Se assim fosse, Jesus estaria entre a classe dos comuns, pois não poderia ter vindo ao mundo de maneira mais humil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765000"/>
            <a:ext cx="3781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O que torna uma pessoa especial é a sua vontade, convertida em capacidade de lidar com os tropeços da vida, as dúvidas, quedas, doenças e tantos outros empecilhos a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bem-viver. Para uns é bem mais fácil do que para outros sim, mas para todos é possível olhar para o Alto, se inclinar, trabalhar consigo e com suas emoções, dar a volta por cima e sair vitor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84920" y="1557360"/>
            <a:ext cx="361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O que nos segura e mantêm vivos é a nossa fé, nossa esperança num amanhã ou numa eternidade que sabemos que está à nossa frente e nos esp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Como provar nossos conhecimentos se não passarmos por prov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84920" y="765000"/>
            <a:ext cx="3619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Cada dia quando fechamos a porta do último minuto e nos preparamos para o dia seguinte, é uma vitória alcanç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Pessoas especiais aos olhos de Deus são as que não desistem, as que se voltam, recuam quando necessário e avançam quando preciso. São as que nunca perdem a coragem, mesmo nas afli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push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22:42:43Z</dcterms:created>
  <dc:creator>Beth Norling</dc:creator>
  <dc:description/>
  <dc:language>en-US</dc:language>
  <cp:lastModifiedBy>Beth Norling</cp:lastModifiedBy>
  <dcterms:modified xsi:type="dcterms:W3CDTF">2007-04-27T00:51:28Z</dcterms:modified>
  <cp:revision>8</cp:revision>
  <dc:subject/>
  <dc:title>Pessoas_especiais</dc:title>
</cp:coreProperties>
</file>