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Roger_Williams_-_Autumn_Leave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E4E-E149-4613-B25A-94D0E904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DBC-24C4-489D-981B-6EF77491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7EA-48CC-4EE8-B58A-15F4712D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1F5-E3BC-4DAA-B3D3-4DBC5C26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903-DBA6-4084-A3C9-F58C5E94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E68-0AB4-4E4A-8D18-653A1415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142-66BA-4262-8140-57B1CA3C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99F-C6A0-40D8-9393-75020A20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5F0-4608-48E0-B6B5-5B966FD3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131-1141-4B09-9A17-0240B788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ECD-96BE-46D9-AC38-52C722A4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099-B2E3-4A6D-B366-CA6884FF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ABF9-3A62-4416-B6F8-A4D82B20972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oger_Williams_-_Autumn_Leav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powerpointsemanal-subscribe@yahoogrupos.com.br" TargetMode="External"/><Relationship Id="rId2" Type="http://schemas.openxmlformats.org/officeDocument/2006/relationships/hyperlink" Target="http://www.planetapowerpoint.com.br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  <p:sndAc>
      <p:stSnd>
        <p:snd r:embed="rId2" name="Roger_Williams_-_Autumn_Leav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3"/>
          <p:cNvSpPr/>
          <p:nvPr/>
        </p:nvSpPr>
        <p:spPr>
          <a:xfrm>
            <a:off x="1895400" y="4683240"/>
            <a:ext cx="4559400" cy="46044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4"/>
          <p:cNvSpPr/>
          <p:nvPr/>
        </p:nvSpPr>
        <p:spPr>
          <a:xfrm>
            <a:off x="974880" y="2349360"/>
            <a:ext cx="601164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912960" y="679320"/>
            <a:ext cx="7632720" cy="51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receba duas mensagens semanais gratuitas, uma na segunda-feira e outra na sexta.  </a:t>
            </a: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basta enviar um e-mail para: </a:t>
            </a:r>
            <a:br>
              <a:rPr sz="2000"/>
            </a:br>
            <a:r>
              <a:rPr b="0" lang="pt-BR" sz="2000" spc="-1" strike="noStrike" u="sng">
                <a:solidFill>
                  <a:srgbClr val="0000ff"/>
                </a:solidFill>
                <a:uFillTx/>
                <a:latin typeface="Segoe UI Symbol"/>
                <a:ea typeface="Segoe UI Symbol"/>
                <a:hlinkClick r:id="rId1"/>
              </a:rPr>
              <a:t>powerpointsemanal-subscribe@yahoogrupos.com.br</a:t>
            </a: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 </a:t>
            </a:r>
            <a:br>
              <a:rPr sz="2000"/>
            </a:br>
            <a:br>
              <a:rPr sz="2400"/>
            </a:b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não precisa escrever nada no e-mail, nem no campo assunto é só enviar o e-mail e daí a pouco você recebe uma mensagem de confirmação, clique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acesse:       </a:t>
            </a:r>
            <a:r>
              <a:rPr b="0" lang="pt-BR" sz="2000" spc="-1" strike="noStrike" u="sng">
                <a:solidFill>
                  <a:srgbClr val="0000ff"/>
                </a:solidFill>
                <a:uFillTx/>
                <a:latin typeface="Segoe UI Symbol"/>
                <a:ea typeface="Segoe UI Symbol"/>
                <a:hlinkClick r:id="rId2"/>
              </a:rPr>
              <a:t>www.planetapowerpoint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20:05:38Z</dcterms:created>
  <dc:creator>User</dc:creator>
  <dc:description/>
  <dc:language>en-US</dc:language>
  <cp:lastModifiedBy>Sergio Camargos</cp:lastModifiedBy>
  <dcterms:modified xsi:type="dcterms:W3CDTF">2013-06-14T16:01:35Z</dcterms:modified>
  <cp:revision>2</cp:revision>
  <dc:subject/>
  <dc:title>Slide 1</dc:title>
</cp:coreProperties>
</file>