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C4F-78E5-4C1E-B10E-D1DEE9E4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8B3-5205-47F7-9D35-446325D3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4B4-00CE-412B-8667-AAE9AF35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CD0-C249-46A5-BD64-5A5C2F73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FA3-1F8A-49B4-A3D7-7AAC8FE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9A1-BBB5-4AEA-9E6C-3357ACD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CE-1ED8-4E17-A87B-FA10DB2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DAF-C513-4504-9A38-5868726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18F-27DE-4ED0-B315-4013FEC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8FB-5555-49CF-A71F-DBFAD8B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4D8-030C-44B9-B67D-DA62B16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DC3-42CB-484A-B44B-3387745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405-F8C9-4004-9B13-143F7D07853C}" type="slidenum">
              <a:rPr b="0" lang="es-P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s Númer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705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 o mais interessante e inteligente de tod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8526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ângul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da est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Nunca é tarde para aprende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mpartilhe com seus amigo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Os números que escrevemos são formados por algarismos (1, 2, 3, 4, etc) chamados de algarismos arábicos, para distinguí-los dos algarismos romanos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Os árabes popularizaram esses algarismos, mas sua origem remonta aos tempos mercadores fenícios que os utilizavam para contar e para fazer a contabilidade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ocê já se perguntou alguma vez, por que 1 é “um”, 2 é “dois”, 3 é “três....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Qual a lógica que existe nos algarismos aráb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ácil, muito fácil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23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É a quantidade de ângulos no algarism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eja como eram escritos os algarismos na sua forma primitiva e constate!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â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160" y="28335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1800" y="2905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160" y="5354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4880" y="54975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ângu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ROSARIO</cp:lastModifiedBy>
  <dcterms:modified xsi:type="dcterms:W3CDTF">2009-03-31T19:46:07Z</dcterms:modified>
  <cp:revision>5</cp:revision>
  <dc:subject>Curiosidades</dc:subject>
  <dc:title>Diapositiva 1</dc:title>
</cp:coreProperties>
</file>