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C06-9A15-48B2-A278-F973E9E5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C5E-D211-42E9-B6D9-1E421D9C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A28-A8F2-454A-A28F-9F054437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CA6-7B8F-4A56-B10F-64B61C50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776-12F2-41CF-BF99-799E31AF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8E0-F79A-4D45-BD62-B5D022D2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795-BB4E-4582-80A0-7A63D1B4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E5A-A329-4AA1-9B5F-60DF6CFF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862-E938-4DB1-A54C-D74732B9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A0F-5C9F-44F8-B1C1-0A49168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71A-1626-4228-A363-63D4146A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60D-C7C1-4F28-A329-9ED9008B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2B75-F319-4207-B54C-57CFF3FFFAA5}" type="slidenum">
              <a:rPr b="0" lang="es-P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s Númer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4160" y="4705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9 </a:t>
            </a: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E o mais interessante e inteligente de tod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8526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Zero ângul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Moral da estó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Comic Sans MS"/>
              </a:rPr>
              <a:t>Nunca é tarde para aprender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2276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mpartilhe com seus amigos…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Os números que escrevemos são formados por algarismos (1, 2, 3, 4, etc) chamados de algarismos arábicos, para distinguí-los dos algarismos romanos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Os árabes popularizaram esses algarismos, mas sua origem remonta aos tempos mercadores fenícios que os utilizavam para contar e para fazer a contabilidade comer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Você já se perguntou alguma vez, por que 1 é “um”, 2 é “dois”, 3 é “três.....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Qual a lógica que existe nos algarismos aráb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Fácil, muito fácil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23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8000"/>
                </a:solidFill>
                <a:latin typeface="Comic Sans MS"/>
              </a:rPr>
              <a:t>É a quantidade de ângulos no algaris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Veja como eram escritos os algarismos na sua forma primitiva e constate!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1 â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2 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3 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4 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0160" y="28335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5 </a:t>
            </a: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1800" y="2905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6 </a:t>
            </a: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4160" y="53546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7 </a:t>
            </a: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14880" y="54975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8 </a:t>
            </a: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ROSARIO</cp:lastModifiedBy>
  <dcterms:modified xsi:type="dcterms:W3CDTF">2009-03-31T19:46:07Z</dcterms:modified>
  <cp:revision>5</cp:revision>
  <dc:subject>Curiosidades</dc:subject>
  <dc:title>Diapositiva 1</dc:title>
</cp:coreProperties>
</file>