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1.gif" ContentType="image/gif"/>
  <Override PartName="/ppt/media/image5.png" ContentType="image/png"/>
  <Override PartName="/ppt/media/image10.png" ContentType="image/png"/>
  <Override PartName="/ppt/media/image16.jpeg" ContentType="image/jpeg"/>
  <Override PartName="/ppt/media/Danny%20Wright%20-%20Song%20for%20Le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4F63-B960-4DE7-9C7B-0156793D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2AA5-61B8-49D2-8CE4-0F401EF1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BDF-5CE2-4589-A4BE-998BF696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09E-C738-4F3A-9B8A-5A229C48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686-CDCE-421A-9C62-4B5C6048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93B-3945-4F51-A12E-BE49B99B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58B-5FC3-41E7-B6EB-C0CC3CB5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E18-61DF-4B62-9284-D0F2963C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6E7-6D93-4945-95F9-60317C60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5F5-F2AB-4B28-8748-EE8F50AC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7AA-81E3-43ED-85A5-73FF8110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E2C-2DDC-4F4B-9254-8A5EF8FB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D061-528B-4732-B5DB-A35AC3F81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audio" Target="../media/Danny%20Wright%20-%20Song%20for%20Lea.wav"/><Relationship Id="rId2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21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hyperlink" Target="http://www.leticiathompson.net/" TargetMode="External"/><Relationship Id="rId20" Type="http://schemas.openxmlformats.org/officeDocument/2006/relationships/hyperlink" Target="mailto:bethnorling@globo.com" TargetMode="External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3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4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5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6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7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8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9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20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258920" y="2565360"/>
            <a:ext cx="6705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Verdana"/>
              </a:rPr>
              <a:t>QUANDO VOLTAM AS MARÉS</a:t>
            </a:r>
            <a:endParaRPr b="0" i="1" lang="en-US" sz="1800" spc="1" strike="noStrike">
              <a:ln w="0">
                <a:noFill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59280" y="4221000"/>
            <a:ext cx="3076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blipFill rotWithShape="0">
                  <a:blip r:embed="rId2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Verdana"/>
              </a:rPr>
              <a:t>Letícia Thompson</a:t>
            </a:r>
            <a:endParaRPr b="0" i="1" lang="en-US" sz="2800" spc="1" strike="noStrike">
              <a:ln w="0">
                <a:noFill/>
              </a:ln>
              <a:blipFill rotWithShape="0">
                <a:blip r:embed="rId2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826920" y="4508640"/>
            <a:ext cx="7364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us é o mesmo das altas e baixas marés; é o mesmo no infinito e aqui, nas noites sombrias e nas outras, enfeitadas de estrelas; é a Mão segura e firme que jamais nos deixará afu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1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2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3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4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5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7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8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332000" y="1989000"/>
            <a:ext cx="64278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Do Livro De Coração para Cor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9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anny Wright - Song for Lea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20"/>
              </a:rPr>
              <a:t>bethnorling@globo.com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71640" y="4581360"/>
            <a:ext cx="7221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ríamos todos que a vida fosse um longo rio de águas calmas e tranqüilas. Mas ela é comparável, na realidade, a um imenso mar, belo, misterioso, que ora encanta, ora assu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4508640"/>
            <a:ext cx="7364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ostaríamos, certamente, de olhar de uma margem a outra e poder viver na simplicidade de observar a paisagem que fica, enquanto as águas correm vagaros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00000" y="4437000"/>
            <a:ext cx="72932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ós precisamos de segurança! Precisamos fechar os olhos de vez em quando, para não pensar em nada, exatamente como quando éramos crianças e nossas mães cuidavam de tudo por nó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00000" y="3429000"/>
            <a:ext cx="73645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á pessoas que criam asas quando vão crescendo. Elas não se contentam em navegar no rio, mas o sobrevoam, conseguem se desprender da margem fixa, da bela e duradoura paisagem e começam a enxergar o ponto onde, fatalmente, esse rio se entregará ao grande mar da vida. Outras se tardam, por amor, por carência, pela própria personal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71640" y="4581360"/>
            <a:ext cx="7364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 o momento do grande encontro é sempre um choque. É preciso viver e conviver com o infinito e deixar que o passado seja somente uma lembrança nostálgica e gost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71640" y="981000"/>
            <a:ext cx="72216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 mar, tudo é mais intenso. As ondas que vão, voltam, rebelam-se, quebram-se e tornam-se, por vezes, um imenso leito tranqüil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demo-nos nesse turbilhão de experiências tão excitantes quanto assustado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00000" y="4724280"/>
            <a:ext cx="7364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que precisamos é somente aprende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vegar, aproveitar a calmaria para recuperar as forças, para, quando as marés voltarem, estarmos pro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71640" y="3860640"/>
            <a:ext cx="736416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horizonte não é vazio, ele esconde outras terras, outras esperanças e nos dá sempre a impressão de que toca o céu. Mas as marés vêm e vão em toda par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maioria das pessoas sobrevive às grandes tempestades e reconstrói a v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8:43:07Z</dcterms:created>
  <dc:creator>Beth Norling</dc:creator>
  <dc:description/>
  <dc:language>en-US</dc:language>
  <cp:lastModifiedBy>Beth Norling</cp:lastModifiedBy>
  <dcterms:modified xsi:type="dcterms:W3CDTF">2008-03-26T20:53:50Z</dcterms:modified>
  <cp:revision>9</cp:revision>
  <dc:subject/>
  <dc:title>Quando_voltam_as_mares</dc:title>
</cp:coreProperties>
</file>