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1.gif" ContentType="image/gif"/>
  <Override PartName="/ppt/media/image5.png" ContentType="image/png"/>
  <Override PartName="/ppt/media/image10.png" ContentType="image/png"/>
  <Override PartName="/ppt/media/image16.jpeg" ContentType="image/jpeg"/>
  <Override PartName="/ppt/media/Danny%20Wright%20-%20Song%20for%20Le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5B52-8274-4778-8282-0E3DE6EF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4A77-4ADF-4F85-BDB8-FA39B262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83C-AA8C-4F14-9E8C-68775C96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001-4491-4619-9B73-D9231B4F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F8A-CD27-4637-BD34-4DBE82BF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FCD-51B2-43AC-B177-6234FD43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130-3F0D-4E50-8D6A-276490F6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122-9705-485C-9B2F-6DF04C3C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567-FB2B-4B5D-9812-ED8377C8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3FF-FFCE-4011-B603-1F2B2B9F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20C-48FD-4E78-8BA6-64CB13B8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25C-280F-4685-9959-ADECB844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AF5E-1F35-4D08-B166-40346447D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audio" Target="../media/Danny%20Wright%20-%20Song%20for%20Lea.wav"/><Relationship Id="rId2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21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hyperlink" Target="http://www.leticiathompson.net/" TargetMode="External"/><Relationship Id="rId20" Type="http://schemas.openxmlformats.org/officeDocument/2006/relationships/hyperlink" Target="mailto:bethnorling@globo.com" TargetMode="External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3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4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5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6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7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8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9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20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258920" y="2565360"/>
            <a:ext cx="6705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2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Verdana"/>
              </a:rPr>
              <a:t>QUANDO VOLTAM AS MARÉS</a:t>
            </a:r>
            <a:endParaRPr b="0" i="1" lang="en-US" sz="1800" spc="1" strike="noStrike">
              <a:ln w="0">
                <a:noFill/>
              </a:ln>
              <a:blipFill rotWithShape="0">
                <a:blip r:embed="rId2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59280" y="4221000"/>
            <a:ext cx="3076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blipFill rotWithShape="0">
                  <a:blip r:embed="rId2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Verdana"/>
              </a:rPr>
              <a:t>Letícia Thompson</a:t>
            </a:r>
            <a:endParaRPr b="0" i="1" lang="en-US" sz="2800" spc="1" strike="noStrike">
              <a:ln w="0">
                <a:noFill/>
              </a:ln>
              <a:blipFill rotWithShape="0">
                <a:blip r:embed="rId2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826920" y="4508640"/>
            <a:ext cx="7364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us é o mesmo das altas e baixas marés; é o mesmo no infinito e aqui, nas noites sombrias e nas outras, enfeitadas de estrelas; é a Mão segura e firme que jamais nos deixará afu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1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2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3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4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5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7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8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332000" y="1989000"/>
            <a:ext cx="64278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Do Livro De Coração para Cor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19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anny Wright - Song for Lea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20"/>
              </a:rPr>
              <a:t>bethnorling@globo.com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71640" y="4581360"/>
            <a:ext cx="7221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ríamos todos que a vida fosse um longo rio de águas calmas e tranqüilas. Mas ela é comparável, na realidade, a um imenso mar, belo, misterioso, que ora encanta, ora assu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4508640"/>
            <a:ext cx="7364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ostaríamos, certamente, de olhar de uma margem a outra e poder viver na simplicidade de observar a paisagem que fica, enquanto as águas correm vagaros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00000" y="4437000"/>
            <a:ext cx="72932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ós precisamos de segurança! Precisamos fechar os olhos de vez em quando, para não pensar em nada, exatamente como quando éramos crianças e nossas mães cuidavam de tudo por nó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00000" y="3429000"/>
            <a:ext cx="73645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á pessoas que criam asas quando vão crescendo. Elas não se contentam em navegar no rio, mas o sobrevoam, conseguem se desprender da margem fixa, da bela e duradoura paisagem e começam a enxergar o ponto onde, fatalmente, esse rio se entregará ao grande mar da vida. Outras se tardam, por amor, por carência, pela própria personal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71640" y="4581360"/>
            <a:ext cx="7364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 o momento do grande encontro é sempre um choque. É preciso viver e conviver com o infinito e deixar que o passado seja somente uma lembrança nostálgica e gost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71640" y="981000"/>
            <a:ext cx="72216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 mar, tudo é mais intenso. As ondas que vão, voltam, rebelam-se, quebram-se e tornam-se, por vezes, um imenso leito tranqüil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demo-nos nesse turbilhão de experiências tão excitantes quanto assustado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00000" y="4724280"/>
            <a:ext cx="7364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que precisamos é somente aprende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vegar, aproveitar a calmaria para recuperar as forças, para, quando as marés voltarem, estarmos pro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324000" y="33336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7164360" y="486900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1"/>
          <a:stretch/>
        </p:blipFill>
        <p:spPr>
          <a:xfrm>
            <a:off x="7488360" y="5221440"/>
            <a:ext cx="1655640" cy="1636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2"/>
          <a:stretch/>
        </p:blipFill>
        <p:spPr>
          <a:xfrm>
            <a:off x="324000" y="4797360"/>
            <a:ext cx="1636560" cy="165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3"/>
          <a:stretch/>
        </p:blipFill>
        <p:spPr>
          <a:xfrm>
            <a:off x="0" y="520236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4"/>
          <a:stretch/>
        </p:blipFill>
        <p:spPr>
          <a:xfrm>
            <a:off x="7164360" y="333360"/>
            <a:ext cx="1636920" cy="1655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5"/>
          <a:stretch/>
        </p:blipFill>
        <p:spPr>
          <a:xfrm>
            <a:off x="7507440" y="0"/>
            <a:ext cx="1636560" cy="1655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6"/>
          <a:stretch/>
        </p:blipFill>
        <p:spPr>
          <a:xfrm>
            <a:off x="0" y="493380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547640" cy="1924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8"/>
          <a:stretch/>
        </p:blipFill>
        <p:spPr>
          <a:xfrm>
            <a:off x="7772400" y="0"/>
            <a:ext cx="1371600" cy="1924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9"/>
          <a:stretch/>
        </p:blipFill>
        <p:spPr>
          <a:xfrm>
            <a:off x="7707240" y="4933800"/>
            <a:ext cx="1436760" cy="1924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71640" y="3860640"/>
            <a:ext cx="736416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 horizonte não é vazio, ele esconde outras terras, outras esperanças e nos dá sempre a impressão de que toca o céu. Mas as marés vêm e vão em toda par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maioria das pessoas sobrevive às grandes tempestades e reconstrói a v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8:43:07Z</dcterms:created>
  <dc:creator>Beth Norling</dc:creator>
  <dc:description/>
  <dc:language>en-US</dc:language>
  <cp:lastModifiedBy>Beth Norling</cp:lastModifiedBy>
  <dcterms:modified xsi:type="dcterms:W3CDTF">2008-03-26T20:53:50Z</dcterms:modified>
  <cp:revision>9</cp:revision>
  <dc:subject/>
  <dc:title>Quando_voltam_as_mares</dc:title>
</cp:coreProperties>
</file>