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jpeg" ContentType="image/jpeg"/>
  <Override PartName="/ppt/media/image5.gif" ContentType="image/gif"/>
  <Override PartName="/ppt/media/Ernest%20Cortazar%20INTIMATEpianoEd.wav" ContentType="audio/x-wav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DDDC-4A5C-4A79-8680-25229772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6759-3350-4239-A9B0-307E5ECE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FFAB-925F-453F-B983-9C7F9792E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B03E-F7DA-4B15-A99A-FE46BC6BF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508A-38A2-49DE-9621-866325A5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12D6-D8C0-43BD-8AE0-5E124988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19FF-8D8B-4C69-8FCA-F20278C0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D890-069E-4A61-9A30-8545E51B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18BF-846A-473F-9DE9-585FF3EA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5F18-265E-44D0-91FC-C560ECE4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68EF-010F-4C35-B4C8-6DB5FE73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8F99-6266-46CA-BE3A-75C34328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6CED-0A8F-4B49-8965-341780AE4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audio" Target="../media/Ernest%20Cortazar%20INTIMATEpianoEd.wav"/><Relationship Id="rId1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6.jpeg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>
                  <a:alpha val="67058"/>
                </a:srgbClr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5400000">
            <a:off x="-2413440" y="1989000"/>
            <a:ext cx="5112000" cy="647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5400000">
            <a:off x="-1657440" y="4113000"/>
            <a:ext cx="5184720" cy="647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 rot="16200000">
            <a:off x="-2123640" y="3428640"/>
            <a:ext cx="5111640" cy="647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-36360" y="3076560"/>
            <a:ext cx="1152360" cy="70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332000" y="3824280"/>
            <a:ext cx="7272360" cy="16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Goudy Stout"/>
              </a:rPr>
              <a:t>Quando faz Frio no Coração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Goudy Stout"/>
              <a:ea typeface="Goudy Stou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51360" y="5373720"/>
            <a:ext cx="3213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3333cc"/>
                  </a:solidFill>
                  <a:miter/>
                </a:ln>
                <a:blipFill rotWithShape="0">
                  <a:blip r:embed="rId8">
                    <a:alphaModFix amt="5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etícia Thompson</a:t>
            </a:r>
            <a:endParaRPr b="1" lang="en-US" sz="2000" spc="1" strike="noStrike">
              <a:ln w="12600">
                <a:solidFill>
                  <a:srgbClr val="3333cc"/>
                </a:solidFill>
                <a:miter/>
              </a:ln>
              <a:blipFill rotWithShape="0">
                <a:blip r:embed="rId9">
                  <a:alphaModFix amt="5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>
            <a:off x="-190440" y="0"/>
            <a:ext cx="9524880" cy="4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 rot="5400000">
            <a:off x="4357440" y="3405240"/>
            <a:ext cx="9524880" cy="47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2"/>
          <a:stretch/>
        </p:blipFill>
        <p:spPr>
          <a:xfrm>
            <a:off x="-190440" y="6810480"/>
            <a:ext cx="9524880" cy="47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13" name="Ernest%20Cortazar%20INTIMATEpianoE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>
                  <a:alpha val="67058"/>
                </a:srgbClr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 rot="5400000">
            <a:off x="5795280" y="1989000"/>
            <a:ext cx="5112000" cy="647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 rot="5400000">
            <a:off x="6119280" y="3105000"/>
            <a:ext cx="5184720" cy="647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 rot="16200000">
            <a:off x="6443280" y="4221000"/>
            <a:ext cx="5112000" cy="647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 flipH="1">
            <a:off x="8027640" y="3076560"/>
            <a:ext cx="1152360" cy="704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900000" y="4221000"/>
            <a:ext cx="69120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Aquele que aprende a plantar uma flor, planta muito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mais que uma flor, ele faz nascer a esperança no mundo.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-190440" y="0"/>
            <a:ext cx="9524880" cy="47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-190440" y="6810480"/>
            <a:ext cx="9524880" cy="47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 rot="5400000">
            <a:off x="-4738680" y="3846600"/>
            <a:ext cx="9524880" cy="47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>
                  <a:alpha val="67058"/>
                </a:srgbClr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 rot="5400000">
            <a:off x="-2413440" y="1989000"/>
            <a:ext cx="5112000" cy="647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 rot="5400000">
            <a:off x="-1657440" y="4113000"/>
            <a:ext cx="5184720" cy="647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 rot="16200000">
            <a:off x="-2123640" y="3428640"/>
            <a:ext cx="5111640" cy="647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-36360" y="3076560"/>
            <a:ext cx="1152360" cy="704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1476360" y="1773360"/>
            <a:ext cx="6767640" cy="272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ormatação : Tiva Seixas</a:t>
            </a:r>
            <a:endParaRPr b="1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(tivaseixas@gmail.com)</a:t>
            </a:r>
            <a:endParaRPr b="1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exto : Letícia Thompson</a:t>
            </a:r>
            <a:endParaRPr b="1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(www.leticiathompson.net)</a:t>
            </a:r>
            <a:endParaRPr b="1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úsica : Ernesto Cortazar - Intimate</a:t>
            </a:r>
            <a:endParaRPr b="1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3143160" y="4653000"/>
            <a:ext cx="2857680" cy="19238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524880" cy="475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8"/>
          <a:stretch/>
        </p:blipFill>
        <p:spPr>
          <a:xfrm>
            <a:off x="0" y="6810480"/>
            <a:ext cx="9524880" cy="475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 rot="5400000">
            <a:off x="4357440" y="3846600"/>
            <a:ext cx="9524880" cy="47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>
                  <a:alpha val="67058"/>
                </a:srgbClr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 rot="5400000">
            <a:off x="5795280" y="1989000"/>
            <a:ext cx="5112000" cy="647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 rot="5400000">
            <a:off x="6119280" y="3105000"/>
            <a:ext cx="5184720" cy="647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 rot="16200000">
            <a:off x="6443280" y="4221000"/>
            <a:ext cx="5112000" cy="647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 flipH="1">
            <a:off x="8027640" y="3076560"/>
            <a:ext cx="1152360" cy="704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755640" y="4137120"/>
            <a:ext cx="7056360" cy="23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Todo nosso eu é constituído do emocional.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E a soma dos acontecimentos, o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tamanho deles, a forma ou o momento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em que chegam criam barreiras entre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nós e os outros, às vezes nós e o mundo.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-190440" y="0"/>
            <a:ext cx="9524880" cy="47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 rot="5400000">
            <a:off x="-4738680" y="3630600"/>
            <a:ext cx="9524880" cy="47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0" y="6810480"/>
            <a:ext cx="9524880" cy="47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>
                  <a:alpha val="67058"/>
                </a:srgbClr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 rot="5400000">
            <a:off x="-2413440" y="1989000"/>
            <a:ext cx="5112000" cy="647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 rot="5400000">
            <a:off x="-1657440" y="4113000"/>
            <a:ext cx="5184720" cy="647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 rot="16200000">
            <a:off x="-2123640" y="3428640"/>
            <a:ext cx="5111640" cy="647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-36360" y="3076560"/>
            <a:ext cx="1152360" cy="704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403280" y="4149720"/>
            <a:ext cx="6985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Quando faz frio no coração, nós nos afastamos de tudo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aquilo que poderá tocá-lo. Criamos um muro invisível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para protegê-lo e proteger-nos, duvidamos das pessoas,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908000" y="5805360"/>
            <a:ext cx="5977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da sinceridade delas, das suas boas intenções.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-200160" y="0"/>
            <a:ext cx="9525240" cy="47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-190440" y="6810480"/>
            <a:ext cx="9524880" cy="47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 rot="5400000">
            <a:off x="4357440" y="4064040"/>
            <a:ext cx="9524880" cy="47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>
                  <a:alpha val="67058"/>
                </a:srgbClr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 rot="5400000">
            <a:off x="5795280" y="1989000"/>
            <a:ext cx="5112000" cy="647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 rot="5400000">
            <a:off x="6119280" y="3105000"/>
            <a:ext cx="5184720" cy="647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 rot="16200000">
            <a:off x="6443280" y="4221000"/>
            <a:ext cx="5112000" cy="647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 flipH="1">
            <a:off x="8027640" y="3076560"/>
            <a:ext cx="1152360" cy="704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611280" y="4149720"/>
            <a:ext cx="7345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Esses invernos rigorosos da vida fazem com que nos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sintamos mais sós, nos esquecemos de olhar um pouco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para fora e olhamos muito para dentro. E quando mais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9640" y="5589720"/>
            <a:ext cx="7489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pensamos nas nossas tristezas, mais tristes nos sentimos,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o que cria esse círculo vicioso do qual é difícil se livrar.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-252360" y="0"/>
            <a:ext cx="9524880" cy="47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-190440" y="6810480"/>
            <a:ext cx="9524880" cy="47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 rot="5400000">
            <a:off x="-4738680" y="3846600"/>
            <a:ext cx="9524880" cy="47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>
                  <a:alpha val="67058"/>
                </a:srgbClr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 rot="5400000">
            <a:off x="-2413440" y="1989000"/>
            <a:ext cx="5112000" cy="647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 rot="5400000">
            <a:off x="-1657440" y="4113000"/>
            <a:ext cx="5184720" cy="647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 rot="16200000">
            <a:off x="-2123640" y="3428640"/>
            <a:ext cx="5111640" cy="647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-36360" y="3076560"/>
            <a:ext cx="1152360" cy="704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692360" y="4221000"/>
            <a:ext cx="6624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E quando esses períodos de festa se aproximam em que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todos falam tanto de amor, solidariedade, perdão e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compreensão, os que possuem o coração apertado o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sentem mais pequenininho ainda.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-190440" y="0"/>
            <a:ext cx="9524880" cy="47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0" y="6810480"/>
            <a:ext cx="9524880" cy="47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 rot="5400000">
            <a:off x="4357440" y="3846600"/>
            <a:ext cx="9524880" cy="47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>
                  <a:alpha val="67058"/>
                </a:srgbClr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rot="5400000">
            <a:off x="5795280" y="1989000"/>
            <a:ext cx="5112000" cy="647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 rot="5400000">
            <a:off x="6119280" y="3105000"/>
            <a:ext cx="5184720" cy="647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 rot="16200000">
            <a:off x="6443280" y="4221000"/>
            <a:ext cx="5112000" cy="647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 flipH="1">
            <a:off x="8027640" y="3076560"/>
            <a:ext cx="1152360" cy="704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042920" y="4292640"/>
            <a:ext cx="6769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Uma maneira de reverter essa situação, é oferecer o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que precisamos. Mudando nossa mentalidade, mudamos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o mundo. Para abrir o coração das pessoas,precisamos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abrir o nosso.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-190440" y="0"/>
            <a:ext cx="9524880" cy="47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-190440" y="6810480"/>
            <a:ext cx="9524880" cy="47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 rot="5400000">
            <a:off x="-4738680" y="3774960"/>
            <a:ext cx="9525240" cy="47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>
                  <a:alpha val="67058"/>
                </a:srgbClr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rot="5400000">
            <a:off x="-2413440" y="1989000"/>
            <a:ext cx="5112000" cy="647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 rot="5400000">
            <a:off x="-1657440" y="4113000"/>
            <a:ext cx="5184720" cy="647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 rot="16200000">
            <a:off x="-2123640" y="3428640"/>
            <a:ext cx="5111640" cy="647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-36360" y="3076560"/>
            <a:ext cx="1152360" cy="704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405080" y="4149720"/>
            <a:ext cx="7127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São nossas mãos que devem derrubar as primeiras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barreiras que nos separam das pessoas e da vida.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É a luz que possuímos que deve ser a primeira a nos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aquecer, a iluminar nossos passos, ninguém pode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476360" y="5661000"/>
            <a:ext cx="698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ver por nós, caminhar por nós e menos ainda sentir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por nós.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-190440" y="0"/>
            <a:ext cx="9524880" cy="47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>
            <a:off x="0" y="6810480"/>
            <a:ext cx="9524880" cy="47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8"/>
          <a:stretch/>
        </p:blipFill>
        <p:spPr>
          <a:xfrm rot="5400000">
            <a:off x="4357440" y="3990960"/>
            <a:ext cx="9524880" cy="47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>
                  <a:alpha val="67058"/>
                </a:srgbClr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 rot="5400000">
            <a:off x="5795280" y="1989000"/>
            <a:ext cx="5112000" cy="647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 rot="5400000">
            <a:off x="6119280" y="3105000"/>
            <a:ext cx="5184720" cy="647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 rot="16200000">
            <a:off x="6443280" y="4221000"/>
            <a:ext cx="5112000" cy="647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 flipH="1">
            <a:off x="8027640" y="3076560"/>
            <a:ext cx="1152360" cy="704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971640" y="4221000"/>
            <a:ext cx="69134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Quando fazemos pelos outros, estamos concentrando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nossas energias em algo externo a nós e quando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pensamos menos na carga que carregamos, ela parece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mais leve, mais supotável.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-190440" y="0"/>
            <a:ext cx="9524880" cy="475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0" y="6810480"/>
            <a:ext cx="9524880" cy="47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 rot="5400000">
            <a:off x="-4738680" y="3846600"/>
            <a:ext cx="9524880" cy="47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>
                  <a:alpha val="67058"/>
                </a:srgbClr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 rot="5400000">
            <a:off x="-2413440" y="1989000"/>
            <a:ext cx="5112000" cy="647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 rot="5400000">
            <a:off x="-1657440" y="4113000"/>
            <a:ext cx="5184720" cy="647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 rot="16200000">
            <a:off x="-2123640" y="3428640"/>
            <a:ext cx="5111640" cy="647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-36360" y="3076560"/>
            <a:ext cx="1152360" cy="704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1403280" y="4257720"/>
            <a:ext cx="6697800" cy="19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Quando faz frio no nosso coração, devemos agasalhá-lo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para que ele passe melhor pelo inverno, que passará,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como passam todas as estações.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-190440" y="0"/>
            <a:ext cx="9524880" cy="475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>
            <a:off x="0" y="6810480"/>
            <a:ext cx="9524880" cy="47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8"/>
          <a:stretch/>
        </p:blipFill>
        <p:spPr>
          <a:xfrm rot="5400000">
            <a:off x="4357440" y="3846600"/>
            <a:ext cx="9524880" cy="47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20:15:55Z</dcterms:created>
  <dc:creator>Altiva</dc:creator>
  <dc:description/>
  <dc:language>en-US</dc:language>
  <cp:lastModifiedBy>Altiva</cp:lastModifiedBy>
  <dcterms:modified xsi:type="dcterms:W3CDTF">2009-12-06T22:24:04Z</dcterms:modified>
  <cp:revision>2</cp:revision>
  <dc:subject/>
  <dc:title>Slide 1</dc:title>
</cp:coreProperties>
</file>