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6%20+%20DDD%20Secret%20Garden%20-%20Poe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5A0-EC25-4F54-AD7A-9303BC9F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63D-EF82-4B11-A184-A358677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571-172E-45F5-85CD-4448CC91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A39-CBC5-435F-9750-6DB34805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94A-717B-4B32-B8F0-8009BD25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598-CE5C-47CB-8B34-7CE6A15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C8C-46B8-49EE-BA53-8A191DC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D09-ABF6-46F7-9877-F5BD952E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B5D-04B3-4D63-A4A9-81D5D78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B0B-B78C-462F-BACF-3F2A5E7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9DC-1787-4DDE-8B2F-360BA17F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EF1-37C8-42D5-A429-0967EFF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F58-8BEB-42C9-B7E5-19CF4D4719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6%20+%20DDD%20Secret%20Garden%20-%20Poem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82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16002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LMAS GÊME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733920"/>
            <a:ext cx="346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403848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mas gêmeas não são duas metades iguais, mas duas metades diferentes que se complet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iste muita gente sozinha no mundo, justamente porque essas pessoas procuram a outra metade igual a elas, ou seja, o reflexo de si. Ora, pra achar a outra metade de si mesmo é suficiente se olhar no espe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3200400"/>
            <a:ext cx="8321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Diz-se de modo carinhoso que o outro é a metade da sua maç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E eu já percebi que muitas vezes a outra metade da maçã é mais tortinha, sem jeito, menos bonita... mas ainda assim a metade daquela maçã. E por que na vida não poderia ser assim? Que a outra metade seja diferente, que não tenha exatamente os mesmos gostos, nem talvez a mesma formosura, mas que tenha aquele quê que nem sabemos explicar e nenhuma outra metade vai se encaixar de forma tão harmoniosa para formar um todo tão perfeito com 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2525760"/>
            <a:ext cx="82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Quem já não encontrou casais desencontrados? Um gran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 outro pequeno; um feio, o outro bonito; um bem mais jovem, o outro mais vivido; um tímido, o outro extrovertido... e assim pela vida a fora. E nos perguntamos intimamente o que os mantêm juntos. Mas se pensarmos mais profundamente nessa questão chegaremos a conclusão que são essas sim, as almas gêm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3211560"/>
            <a:ext cx="824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ois seres diferentes, mas se amando o bastante 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perar as diferenças, viver e conviver com elas e apesar delas, contra todo pensamento, contra todo questionamento, contra toda opinião alhe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 papel da alma gêmea é completar os vazios, preencher os vácuos, enriquecer onde o outro tem necessidade...  é um dar e receber que só envolve os d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531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620640"/>
            <a:ext cx="839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alma gêmea é o complemento do outro, não sua exten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Quem corre atrás da sua sombra vive eternamente insatisfeito, eternamente à procura. Mas aquele que abre os olhos e, principalmente, o coração, pode perceber que sua alma gêmea encontra-se do lado. É preciso se estar atento aos sinais que não enganam para o encontro com aquela pessoa que poderá ser nossa companheira na jornada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762120"/>
            <a:ext cx="434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 o amor te acenar, não diga não de imediato só po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e chegou diferente do que você esper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ão se esqueça que por detrás dessa nossa capa humana existe uma al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 no seu caminho uma outra alma completar a sua, independente da aparência física, independente até de tudo aquilo que você sonhou, você vai ter encontrado a sua metade, seu amor, seu quinhão de 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029200"/>
            <a:ext cx="3047760" cy="946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úsica: Secret Ga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21:23:57Z</dcterms:created>
  <dc:creator>Beth Norling</dc:creator>
  <dc:description/>
  <dc:language>en-US</dc:language>
  <cp:lastModifiedBy>Letícia Thompson</cp:lastModifiedBy>
  <dcterms:modified xsi:type="dcterms:W3CDTF">2007-02-05T08:48:10Z</dcterms:modified>
  <cp:revision>3</cp:revision>
  <dc:subject/>
  <dc:title>Almas Gêmeas - LT</dc:title>
</cp:coreProperties>
</file>