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6%20+%20DDD%20Secret%20Garden%20-%20Poeme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6004-3AC8-4B6B-86F4-0BFC0016B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C065-AB93-41CF-A16E-0F918AAA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2DE8-9BB3-4C88-82D7-F258863F1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2DDA-9671-428F-B6B9-16ED15073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8C52-60E0-4A59-ADFD-8EB15ED9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2D6E-D5E3-45B6-82D4-5D3E1DD1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2F1D-5E65-41F2-A8F0-A82A947C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D12F-C6AD-4DC6-9F38-86EBC756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CB44-B52F-4063-B74C-11F050B5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4FD5-239A-4AAC-942A-FE58B984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AD0C-8E33-4920-A583-1306D394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9044-5469-42EC-88AA-4D28D6D3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4735-ADCB-43B3-BB33-CC7ACB399FE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audio" Target="../media/6%20+%20DDD%20Secret%20Garden%20-%20Poeme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mailto:bethnorling@globo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823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62120" y="1600200"/>
            <a:ext cx="7543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ALMAS GÊMEA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838600" y="3733920"/>
            <a:ext cx="3466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Letícia Thompson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86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2120" y="4038480"/>
            <a:ext cx="8076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Almas gêmeas não são duas metades iguais, mas duas metades diferentes que se complet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xiste muita gente sozinha no mundo, justamente porque essas pessoas procuram a outra metade igual a elas, ou seja, o reflexo de si. Ora, pra achar a outra metade de si mesmo é suficiente se olhar no espelh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6722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5040" y="3200400"/>
            <a:ext cx="83217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6600"/>
                </a:solidFill>
                <a:latin typeface="Arial"/>
              </a:rPr>
              <a:t>Diz-se de modo carinhoso que o outro é a metade da sua maçã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6600"/>
                </a:solidFill>
                <a:latin typeface="Arial"/>
              </a:rPr>
              <a:t>E eu já percebi que muitas vezes a outra metade da maçã é mais tortinha, sem jeito, menos bonita... mas ainda assim a metade daquela maçã. E por que na vida não poderia ser assim? Que a outra metade seja diferente, que não tenha exatamente os mesmos gostos, nem talvez a mesma formosura, mas que tenha aquele quê que nem sabemos explicar e nenhuma outra metade vai se encaixar de forma tão harmoniosa para formar um todo tão perfeito com a g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823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5040" y="2525760"/>
            <a:ext cx="824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Quem já não encontrou casais desencontrados? Um grand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 outro pequeno; um feio, o outro bonito; um bem mais jovem, o outro mais vivido; um tímido, o outro extrovertido... e assim pela vida a fora. E nos perguntamos intimamente o que os mantêm juntos. Mas se pensarmos mais profundamente nessa questão chegaremos a conclusão que são essas sim, as almas gêm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669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41360" y="3211560"/>
            <a:ext cx="8245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Dois seres diferentes, mas se amando o bastante 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uperar as diferenças, viver e conviver com elas e apesar delas, contra todo pensamento, contra todo questionamento, contra toda opinião alhe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 papel da alma gêmea é completar os vazios, preencher os vácuos, enriquecer onde o outro tem necessidade...  é um dar e receber que só envolve os do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5315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65040" y="620640"/>
            <a:ext cx="8398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A alma gêmea é o complemento do outro, não sua extens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Quem corre atrás da sua sombra vive eternamente insatisfeito, eternamente à procura. Mas aquele que abre os olhos e, principalmente, o coração, pode perceber que sua alma gêmea encontra-se do lado. É preciso se estar atento aos sinais que não enganam para o encontro com aquela pessoa que poderá ser nossa companheira na jornada da v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1012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419720" y="762120"/>
            <a:ext cx="43434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e o amor te acenar, não diga não de imediato só por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le chegou diferente do que você espera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Não se esqueça que por detrás dessa nossa capa humana existe uma al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e no seu caminho uma outra alma completar a sua, independente da aparência física, independente até de tudo aquilo que você sonhou, você vai ter encontrado a sua metade, seu amor, seu quinhão de felicida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5029200"/>
            <a:ext cx="3047760" cy="9464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Formatação: Beth Nor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E-mail: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bethnorling@glob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Imagens: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Música: Secret Gar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21:23:57Z</dcterms:created>
  <dc:creator>Beth Norling</dc:creator>
  <dc:description/>
  <dc:language>en-US</dc:language>
  <cp:lastModifiedBy>Letícia Thompson</cp:lastModifiedBy>
  <dcterms:modified xsi:type="dcterms:W3CDTF">2007-02-05T08:48:10Z</dcterms:modified>
  <cp:revision>3</cp:revision>
  <dc:subject/>
  <dc:title>Almas Gêmeas - LT</dc:title>
</cp:coreProperties>
</file>