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Tico,%20Tico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20F-C19B-4D98-9E68-150CBA95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506-5BE8-41E3-B796-904A5E8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08B3-EF00-42DB-9FF9-41D8102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D7CBD-6F0B-4686-BE7F-A3CF755C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4B225-7BED-4344-A029-E687C20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1EC33-54C0-4A37-A90B-58171228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73BE6-FBA4-45A8-8059-CB71A18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E6B7-982F-4AC4-A2A6-F360D4D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9566-C5C2-44C4-AFD8-60DE2E6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1C105-1991-4991-A451-935EC6C0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B2ABB-A1E3-4934-8607-66C6E99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3CCEE-1DB8-4B00-9239-C310E1F3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1E5-2B40-45E5-9D40-79E7738C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37B29-1615-41C6-A3A1-A4ACFB7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B7F8C-350D-4366-BE18-A46CF29F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D9602-A84E-45FA-8AFD-5A7E83D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8B47E-54B4-4697-8DB4-E88EB5BB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198BD-179E-4DCA-A55B-2D8B2F5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E4B61-EE33-49C1-9022-DB7DD9E1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6408C-2C1B-457C-A8B5-A9DCD3F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EE68-A691-4C68-AD81-D7968D7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7613F-6426-451F-BD40-FD5B8FE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CA6DC-48A8-4C85-A5DB-1907BE70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B45-CF94-4D72-947B-0204EC4A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67603-3120-4A2F-A799-4F0FD7ED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FF132-DC4F-4268-98EA-680AFF03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9C2AB-1739-4586-8071-A09D61E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8C7BD-350F-46FF-82A0-188B0C54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A95F4-1942-4A7E-8666-5D416A8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0AC63-4656-45DC-9E99-B916A00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0898D-BCAC-45AB-A9D5-63B37D8F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70580-B87C-4169-97F7-A327C53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3CCBD-3635-45AA-925D-15FF2BB5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B188-8B19-4541-ABDE-2ED4AC8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AF02-26E1-4477-9AD6-94F02C89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6DC2A-74E8-4BF4-8EC0-19FBDDF2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34241-B23B-4CD7-A8B1-C13DFF8F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E067-DE4E-4D5B-87DD-688BD151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927C-F9AE-47F2-9D31-F1C43EF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E142-F730-4AA8-AEEC-7F2599A5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D70-B8BD-49F6-B7C6-B11049D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CE96-6E81-49BB-83A3-64B1EBA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519-3383-498B-AE90-3BC908F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E7F-D16E-458A-8322-1EE2A27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D51-948B-4E73-A18F-BB56AA3A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7252-3121-4284-8ACF-1E42BF9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AC6-3B70-4946-9248-A2B52F9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1EE-F76D-4A82-B715-C420E07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665-AC4E-4150-B7A7-AD5C612B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4F8-2898-4D58-BD15-783499D3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36D9-9B10-48A0-B12B-1DCA0F02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7340-1425-42AB-8196-CEF60440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DD85-5461-4870-ABB5-D7F8068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C665-1C04-49F2-A375-1259D0D6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082C-58BE-46A8-AA46-4072D5F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E3D-4C56-497F-B10C-83250B8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440D-73BF-42F6-AA8D-7C85ADDF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2CD1-5109-4EAD-8405-1FA6F46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570F-BE0D-48E1-9401-8D87CC4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53E0-E2D3-494F-818E-96DD154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3BF5-7D57-41F8-BAFF-539C60A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B66B-5D7C-465A-BE18-656DAABB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680A-36E9-4C28-B5E9-A5EC1EBE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1822-A233-4AC1-9316-AF9CA9BD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42C2-FE63-4D32-8959-94B664C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073D-25BA-4DE3-B204-8CDE7B4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914-20FD-4823-97F9-152F76C6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3FFB-0E7C-4B67-AD69-C2C91026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A6AF-40C9-4008-88BD-D31AA917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34C3-E2C7-4857-9536-73E77B0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8195-AA8F-4BA0-AD3C-34C05AF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5ADD-3F02-44A1-A41C-4316FBE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E85E-EF46-443F-B205-C45A4EC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5203-4240-4F88-B47D-91B518E6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240D-00B2-4A03-8D20-6C242BD0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B5EAC-8316-44AB-9F3E-EED1F4EE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E934-A8C8-4D17-8FB1-DEDE8F4B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BC9-DE03-4084-AD94-17D03F2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6120-2A5A-46A7-9E7C-995BE7DC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72C0-F1E2-4D35-BE38-A72C198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ED551-5E16-42ED-B151-1AD8917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8E46-9058-41EC-B6D3-E9E776F2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2887-EE36-416E-A0BA-E509D6F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5B1D-7C59-46A3-BA31-2E1D473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3D59-C6F2-4B9A-8043-B109702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EDCF-030A-4A8D-92ED-9E8ACF9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C84F-AE71-4475-98B3-0F38BE2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4D2D6-352B-4745-95FE-F4E7FC81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C15-2903-4EEC-842F-BCA9277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5DD0-0088-44C9-B08F-6AB034F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5532-B3B2-4379-8C10-A9AD2C31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0B632-E5BC-4FC9-961F-D0B4711F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D79DB-D0C3-4A22-96DC-4E49AB9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4D634-9E09-4EAF-85D2-D97F1FB8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E797-2D04-4135-8768-C11A141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B07AA-F702-457E-9B63-130D099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D68A-3ADC-4925-8A35-89A5E12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5F3E-BB51-48C5-AA1B-1E8058D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D444-11A6-431A-9509-3CCBC5DD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D9A-48B2-4C87-99BC-8330EF3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EB9E-9E6B-4978-9D93-F5FA98CF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CB15-B11D-4542-A8E8-92352CCC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E820-982D-40C4-87A6-1C500A65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0874-55EC-41DC-882E-8727C67B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75A03-46ED-4CE2-B88B-14BF2CDE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E1A8-8BBC-40D1-A990-03B079CB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D408-BAC9-4120-9AF0-215871F4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7452-35AD-4D17-A396-0114F86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1B37-95C5-4DEC-913E-BC341338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93F4-9045-4A51-84A0-3D83EF1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B55-2A37-4B95-B43F-A8D9F37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C9E86-E245-48DC-B8E6-F6BC038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AD4F3-2C00-4D55-A6C1-EE73A207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C62BF-593E-4080-A28B-D8F69A3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3120-3B06-4E68-B74A-9FCCB817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7D749-EAAC-4347-9640-FBB8D079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E0D40-D661-4573-AA1A-7512178D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8A782-92C4-44F3-B0C9-AC03412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E3F1-7E5C-43A6-AA49-2C2832B3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A6C1-0500-46F6-900B-861E32F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D395-6CAB-4771-98C3-5B36C631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DFF-9724-438E-9689-5EEE5DA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FB460-7645-462D-A990-933E7A1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55885-CDEE-4417-ABAF-6AA6998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7CC9-B036-43BE-8E94-2BB7E87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0453D-54F0-404C-9D82-32B2DAB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49191-A8C5-45E0-BD0E-3445ABDC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F47E-653A-44EB-BA56-7E8AE487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A321-FFAF-4410-8E45-0260CEED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1409-9B9A-49FB-BA09-30F9826E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B99E6-9A5D-4630-A7BB-54D2E09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ABF76-195A-4619-B3C3-725D870F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876-9B2F-438E-BDF4-5FCEB89D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40C2-49E1-4821-AC82-6D97CE05B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F0F-DFC3-4708-9190-D63645E0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0DB-C252-4110-ABBC-273C90B8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E37-E612-442C-99B9-C67E9C1B7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8C6-EAD1-4B49-9D37-E5BD9E72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FED-4599-4431-9CBE-C249770A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7D4-B729-4E77-AECD-50FD026E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439A-055D-4F74-BC49-C0A76F97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BABA-652D-4AF3-A0DA-74B4351C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DFB-79C4-4366-85AE-20470559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co,%20T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CaixaDeTexto 7"/>
          <p:cNvSpPr/>
          <p:nvPr/>
        </p:nvSpPr>
        <p:spPr>
          <a:xfrm>
            <a:off x="1555200" y="3068640"/>
            <a:ext cx="56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canum"/>
              </a:rPr>
              <a:t>DESPEDIDA DO TR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mercer\Desktop\Nova pasta\998414_447121295387084_34490427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8"/>
          <p:cNvSpPr/>
          <p:nvPr/>
        </p:nvSpPr>
        <p:spPr>
          <a:xfrm>
            <a:off x="1116000" y="549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.C.M.E. Secret Agent"/>
              </a:rPr>
              <a:t>Até o “Ç” cedilha foi a favor da minha expulsão, aquele ‘C’ cagão que fica se passando por ‘S’            e nunca tem coragem de iniciar uma palavra.</a:t>
            </a: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Users\mercer\Desktop\Nova pasta\600696_427637054002175_311693900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9"/>
          <p:cNvSpPr/>
          <p:nvPr/>
        </p:nvSpPr>
        <p:spPr>
          <a:xfrm>
            <a:off x="395280" y="4724280"/>
            <a:ext cx="8353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E também tem aquele obeso do “O” e o anoréxico do “I”. Desesperado, tentei chamar o ponto final pra trabalharmos juntos, fazendo um bico de reticências, mas ele negou, sempre encerrando logo todas as discussões.</a:t>
            </a:r>
            <a:r>
              <a:rPr b="0" lang="pt-BR" sz="2800" spc="-1" strike="noStrike">
                <a:solidFill>
                  <a:srgbClr val="ff00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C:\Users\mercer\Desktop\Nova pasta\580332_421985767900637_73292590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8"/>
          <p:cNvSpPr/>
          <p:nvPr/>
        </p:nvSpPr>
        <p:spPr>
          <a:xfrm>
            <a:off x="1403280" y="2060640"/>
            <a:ext cx="597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Será que se deixar um topete moicano posso me passar por “aspas”?... A verdade é que estou fora de moda.</a:t>
            </a:r>
            <a:r>
              <a:rPr b="0" lang="pt-BR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C:\Users\mercer\Desktop\Nova pasta\998841_446364582129422_141543560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1"/>
          <p:cNvSpPr/>
          <p:nvPr/>
        </p:nvSpPr>
        <p:spPr>
          <a:xfrm>
            <a:off x="468360" y="907920"/>
            <a:ext cx="806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Quem está na moda são os estrangeiros, é o ‘K’ e o ‘W’,  "Kkk" pra cá, "www" pra lá. Até o “#” jogo da velha, que ninguém nunca ligou, virou celebridade nesse tal de      Twitter, que aliás, deveria se chamar TÜI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Users\mercer\Desktop\Nova pasta\1185081_460951237337423_1783034793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395280" y="765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Chega de argüição, mas estejam certos, seus moderninhos: haverá conseqüências! Chega de piadinhas dizendo       que estou "tremendo de medo". Tudo bem, vou-me    embora da língua portugu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C:\Users\mercer\Desktop\Nova pasta\1069123_447220045377209_213523298_n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684360" y="2492280"/>
            <a:ext cx="77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.C.M.E. Secret Agent"/>
              </a:rPr>
              <a:t>Foi bom enquanto durou. Vou para o alemão, lá eles adoram os tremas. E um dia vocês sentirão saudades.        E não vão agüentar!... Nós nos veremos nos livros    antigos. Saio da língua para entrar na his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mercer\Desktop\Nova pasta\971689_419623864803494_20825235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87" name="WordArt 5"/>
          <p:cNvSpPr txBox="1"/>
          <p:nvPr/>
        </p:nvSpPr>
        <p:spPr>
          <a:xfrm>
            <a:off x="1692360" y="4797360"/>
            <a:ext cx="52038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úsica: Tico Tico no Fubá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=Paco de Luccia=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exto : Rec. Por e-mail (amiga Sônia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C:\Users\mercer\Desktop\Nova pasta\19913_432077490224798_54694357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6"/>
          <p:cNvSpPr/>
          <p:nvPr/>
        </p:nvSpPr>
        <p:spPr>
          <a:xfrm>
            <a:off x="468360" y="4005360"/>
            <a:ext cx="828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ão sei quem escreveu, mas quem assina é o TREMA ...  É uma tremenda aula de criatividade e bom humor          por sinal, com acentuada inteligência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Users\mercer\Desktop\Nova pasta\424661_427306637368550_428580670_n.jpg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6"/>
          <p:cNvSpPr/>
          <p:nvPr/>
        </p:nvSpPr>
        <p:spPr>
          <a:xfrm>
            <a:off x="1835280" y="26028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.C.M.E. Secret Agent"/>
              </a:rPr>
              <a:t>Estou indo embora. Não há mais lugar para mim. Eu sou o trema.</a:t>
            </a: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"/>
          <p:cNvSpPr/>
          <p:nvPr/>
        </p:nvSpPr>
        <p:spPr>
          <a:xfrm>
            <a:off x="1116000" y="4581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ê pode nunca ter reparado em mim, mas eu estava sempre ali, na Anhangüera, nos aqüíferos, nas lingüiç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mercer\Desktop\Nova pasta\970065_420709618028252_383800291_n.jpg"/>
          <p:cNvPicPr/>
          <p:nvPr/>
        </p:nvPicPr>
        <p:blipFill>
          <a:blip r:embed="rId1"/>
          <a:stretch/>
        </p:blipFill>
        <p:spPr>
          <a:xfrm>
            <a:off x="0" y="-2359080"/>
            <a:ext cx="9144000" cy="9217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2195640" y="2924280"/>
            <a:ext cx="446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e seus trocadilhos por mais de quatrocentos e cinqüenta anos.</a:t>
            </a:r>
            <a:r>
              <a:rPr b="0" lang="en-US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C:\Users\mercer\Desktop\Nova pasta\1001166_429248597174354_981607940_n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7"/>
          <p:cNvSpPr/>
          <p:nvPr/>
        </p:nvSpPr>
        <p:spPr>
          <a:xfrm>
            <a:off x="1042920" y="4005360"/>
            <a:ext cx="705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.C.M.E. Secret Agent"/>
              </a:rPr>
              <a:t>Mas os tempos mudaram. Inventaram uma tal de reforma ortográfica e eu simplesmente tô fora. Fui expulso pra sempre do dicionário. Seus ingratos!</a:t>
            </a:r>
            <a:r>
              <a:rPr b="0" lang="pt-BR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C:\Users\mercer\Desktop\Nova pasta\21088_420351014730779_324396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9"/>
          <p:cNvSpPr/>
          <p:nvPr/>
        </p:nvSpPr>
        <p:spPr>
          <a:xfrm>
            <a:off x="2340000" y="3789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.C.M.E. Secret Agent"/>
              </a:rPr>
              <a:t>Isso é uma delinqüência de   lingüistas grandiloqüentes!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2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mercer\Desktop\Nova pasta\992989_430849740347573_24663168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5"/>
          <p:cNvSpPr/>
          <p:nvPr/>
        </p:nvSpPr>
        <p:spPr>
          <a:xfrm>
            <a:off x="1116000" y="4508640"/>
            <a:ext cx="669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O resto dos pontos e o alfabeto não me deram      o menor apoio... A letra “U” se disse aliviada    porque vou finalmente sair de cima dela.</a:t>
            </a:r>
            <a:r>
              <a:rPr b="0" lang="en-US" sz="2800" spc="-1" strike="noStrike">
                <a:solidFill>
                  <a:srgbClr val="ffff00"/>
                </a:solidFill>
                <a:latin typeface="A.C.M.E. Secret Age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:\Users\mercer\Desktop\Nova pasta\601038_428260923939788_208390550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1187280" y="2565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.C.M.E. Secret Agent"/>
              </a:rPr>
              <a:t>Os “dois pontos” disse que sou um preguiçoso que trabalha deitado enquanto ele fica em p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50:10Z</dcterms:created>
  <dc:creator>Ruiter</dc:creator>
  <dc:description/>
  <dc:language>en-US</dc:language>
  <cp:lastModifiedBy>HOME</cp:lastModifiedBy>
  <dcterms:modified xsi:type="dcterms:W3CDTF">2013-08-26T21:46:34Z</dcterms:modified>
  <cp:revision>3</cp:revision>
  <dc:subject/>
  <dc:title>A Despedida do Trema</dc:title>
</cp:coreProperties>
</file>