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Tico,%20Tico.wav" ContentType="audio/x-wav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BDA5-70C1-492F-9528-459BBA88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EF9-6FD1-492E-8A91-72CEDF86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489D0-ADB2-4472-8A1C-6E5ED318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A94AD-12B2-42C6-8BF1-E0863A26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84F35-2DE1-4116-ADB4-29F8BFDE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3B110-997E-4696-B235-B8E1FE9D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FD611-8EB9-49C7-8746-9E21CA8E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3534B-5FAA-438B-926D-51D304EC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790EB-1C40-4A77-9DF0-2596E730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65469-FB94-465E-BB7E-1CEB22DF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FDD9D-6A76-450C-BD82-2E2680AF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4270D-12AB-44D8-B85B-BCBC063F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634-A699-4068-BA92-65FDEB33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96EA5-7644-40EA-A060-4E95F2F0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9DC8A-D13C-4A16-A768-80D578DE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1FD5E-4BE1-4EAE-88BC-E8A07C63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A60AF-894C-44D1-8752-9E9B8D13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1D9F2-6C3E-4AFE-BF2B-A7C84828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C6516-FA45-480B-A3A8-0753A355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D3BD0-CB0E-4ED5-A974-240A16B2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681B5-9185-46D4-8707-751E4EAA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2CEC0-40F4-4B34-B903-F1C7E371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E024D-3299-4E83-AD7C-EE063FDB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7B2-27AC-4F0C-B21A-96D8CC33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5BFE8-B0AB-4085-A173-A8170DAA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7DD7E-D3F0-4FA8-A27E-16D95667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9914E-BEEA-4E31-983C-98A04317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1C86E-C4E8-4099-9CDE-5140DB77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7393C-0736-49D7-A6CF-8DB266F7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E3E47-FA52-4A5E-B272-7F8CF0AF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3B8FB-67EC-43DB-8B45-326329F2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AEC51-805A-4C5B-ABD6-543AF580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5C8C7-333B-4D88-BD33-3A0254B9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215F4-5EFE-4189-9BA4-0F3887B6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9057-CAF6-4810-B5C1-CE132D4B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99340-B966-4BBC-AAAC-47ECED2B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9ED48-6FFC-4A18-89E0-2CD274F3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C8275-9007-4E52-B703-B541F600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28B6-C0D2-49FA-8AA3-73FE7B13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FD0D-5A06-4D2E-B5A9-A54E201C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F2F4-53E2-47F1-9627-E87CB48F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4ACD-0FFA-4504-9668-369BC4B0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1F00-765F-4460-8E15-DC840FBE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AB2A-4454-48F9-9C90-D6C69971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D9D-FD97-472A-BFB6-5D5002F7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EC75-F420-4529-9315-6F9255F0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6B98-4EB9-4979-9A3F-46E6ED96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34E9-9B99-4B3F-BD1A-A7C047AD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BE6A-CC85-4850-91D9-954899C3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FE28-8F97-442B-B2B8-98FD7897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41FD5-5754-4363-9691-82BC69A2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7493-AC5C-4742-A22B-CF4B846E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9A3C1-0064-4736-AC5D-DBF1BB10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3BFC7-1361-49AC-9FDC-BF820FAB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A3A36-40D3-44F4-88AC-5887A6A1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927-D494-4220-AFC4-3C7F737D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1E5D0-C786-4A8B-9AA3-7EB10619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B2635-9C00-493C-9AB7-97FC2FA1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A477-8BC2-4253-A52C-95208254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453B9-A771-4F63-96A8-95942BCB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0CEBA-E0E4-4757-A160-0BC212CA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90A08-5164-447C-92E1-EF338A85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AD31E-62F5-4C3E-AA26-039EA326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A24A0-3A96-4033-BC51-E8D4A3CA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6DF9A-B28E-4188-AD7E-B66ECCA6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E280F-4F01-49DB-BA49-CE5092E5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257-AF76-4243-BFD0-11D30E9C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444F9-79FF-46F6-A85C-3B943ABE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72DB9-C5CC-47CA-947A-355F5DD8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D7C4C-9487-4D77-8F8F-B105DFDC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14B53-79F2-42F8-A5C0-488DA097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B83C8-A974-4740-A2F4-8AAC01FB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E04A2-AA2E-4094-959D-AEEBB87B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4BE3C-F5A6-4011-91CA-8E02D3AC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D27D4-B7C2-41A9-B86D-4A78D9C5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8FDE2-5D8A-4EE9-B920-4D476864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7E096-73B1-4574-9498-DBC5594B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A91-57B2-416A-ADCD-63C56BFE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4E0DB-A951-420A-B1C3-4893A354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18C02-70F5-4F4B-AD57-B954C93B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BA4C9-8793-496C-A69F-891366CC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6EE8B-BA73-40C1-81A8-CD16495A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D56E0-758F-4FDA-AB85-27C5F69F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5495B-3E2E-4263-8AC0-6547D387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31D07-FF53-41F7-B149-698FC88F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FEC20-E838-4BFF-864B-B17C9675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4BDE6-2255-410F-843A-EC6FE9B2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EFC1C-9216-49C4-A47E-B6E20C15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D85-B17D-4C61-A11F-BE9C090F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ECCE1-EE76-472E-BB52-87B776C0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D45EA-C2A3-4D0A-A36A-699E3FC2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29073-7A18-4C00-8F62-4E6E9A55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B80DB-54D7-4681-93FE-EEFAD773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C4643-F1FF-441A-8105-C421468D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A94C1-2D9C-4E70-AA78-99B3FF2E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738C4-1332-4B6B-B756-3A05E622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FF271-4385-43E1-85FF-28D98BFD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5B60C-8AA0-4A6A-BED5-91F4B45F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2F5FE-BE73-4CB9-8CB8-BF684B51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794-4C59-454C-B392-B5005A2B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A6550-05A0-4D57-B05A-550903F4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D2FFE-D2BB-4721-83EA-CE9B03B7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81399-B5C9-4266-829E-46EAF311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1E70D-FB18-48E2-979F-E3B2BA56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898B6-5369-4AE1-A2B1-4ECA8F7E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E0A90-3204-46A9-93FE-8A55627E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A42E7-A561-441F-8487-BB12D26B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EEA2D-D1C0-43FF-B9DC-8056AF5F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3F29D-5FA6-452E-97F2-67D5B8DF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A0602-1C96-47C1-9F6E-9573F7EE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29C-FE70-4654-AA27-AA3340EB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78A3B-33E6-47B6-829A-30C4450A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69E24-2724-4CCC-BD2D-6EA5D2CA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3600A-1A60-4082-B0B2-D81841B3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39902-1F7B-4063-B26E-7BEC7C1B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70124-0E24-4DFE-A61C-D45548D0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ADC07-BE3A-408B-BCF2-07CAEBD2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7847F-B4BA-4C5C-8250-A0D39100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5FAB0-D85F-4980-8FBF-34F03D87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E7665-3A98-4471-AB10-4AFE930D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3FD53-15AB-470F-AD34-AA723236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C7B-CED7-4525-8C68-4AE85859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B4438-DF85-4CF0-A0C2-D69DB6CB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06B7A-F34B-47FD-8656-E96AA977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CE66A-044A-4FB6-9AC2-C4CEEF05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45FCA-A079-4C3D-AB53-19A75481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CC896-E029-4934-8AC6-EEBA9D8C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88B8E-37D1-4551-89DA-AA6F878A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B9732-54ED-4240-ADF8-1ADF8F68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9B1AA-B968-4548-BB73-65E46A06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93CF9-FA0A-4DDA-8169-931CE61B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24487-F57B-4F23-A82A-8D6FBDE4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12ED-E7B1-4BD3-8E3C-8C97028B5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3BA3-16CE-4FAF-9DF7-7A4873DB5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0236-7C0E-4006-81D1-A1511A294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6511-C7BC-4532-A02A-B08353479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6FDA-CE54-42B8-ABDE-C26C28C23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F239-223B-4621-9793-2231CCA2B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1A9E-3532-4AA7-8331-0E406EBBE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28A0-7FE7-4BA0-ACE3-7DE576721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C0BB-1DC4-4F1B-A549-33F619E39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77E1-CF26-4668-85CF-B2183BB65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576E-000C-46A9-BA91-511B69E4E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ico,%20Tic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CaixaDeTexto 7"/>
          <p:cNvSpPr/>
          <p:nvPr/>
        </p:nvSpPr>
        <p:spPr>
          <a:xfrm>
            <a:off x="1555200" y="3068640"/>
            <a:ext cx="56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canum"/>
              </a:rPr>
              <a:t>DESPEDIDA DO TR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C:\Users\mercer\Desktop\Nova pasta\998414_447121295387084_34490427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8"/>
          <p:cNvSpPr/>
          <p:nvPr/>
        </p:nvSpPr>
        <p:spPr>
          <a:xfrm>
            <a:off x="1116000" y="54936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.C.M.E. Secret Agent"/>
              </a:rPr>
              <a:t>Até o “Ç” cedilha foi a favor da minha expulsão, aquele ‘C’ cagão que fica se passando por ‘S’            e nunca tem coragem de iniciar uma palavra.</a:t>
            </a:r>
            <a:r>
              <a:rPr b="0" lang="pt-BR" sz="2400" spc="-1" strike="noStrike">
                <a:solidFill>
                  <a:srgbClr val="ffff00"/>
                </a:solidFill>
                <a:latin typeface="A.C.M.E. Secret Ag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:\Users\mercer\Desktop\Nova pasta\600696_427637054002175_311693900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9"/>
          <p:cNvSpPr/>
          <p:nvPr/>
        </p:nvSpPr>
        <p:spPr>
          <a:xfrm>
            <a:off x="395280" y="4724280"/>
            <a:ext cx="8353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.C.M.E. Secret Agent"/>
              </a:rPr>
              <a:t>E também tem aquele obeso do “O” e o anoréxico do “I”. Desesperado, tentei chamar o ponto final pra trabalharmos juntos, fazendo um bico de reticências, mas ele negou, sempre encerrando logo todas as discussões.</a:t>
            </a:r>
            <a:r>
              <a:rPr b="0" lang="pt-BR" sz="2800" spc="-1" strike="noStrike">
                <a:solidFill>
                  <a:srgbClr val="ff0000"/>
                </a:solidFill>
                <a:latin typeface="A.C.M.E. Secret Agen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" descr="C:\Users\mercer\Desktop\Nova pasta\580332_421985767900637_73292590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8"/>
          <p:cNvSpPr/>
          <p:nvPr/>
        </p:nvSpPr>
        <p:spPr>
          <a:xfrm>
            <a:off x="1403280" y="2060640"/>
            <a:ext cx="597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.C.M.E. Secret Agent"/>
              </a:rPr>
              <a:t>Será que se deixar um topete moicano posso me passar por “aspas”?... A verdade é que estou fora de moda.</a:t>
            </a:r>
            <a:r>
              <a:rPr b="0" lang="pt-BR" sz="2800" spc="-1" strike="noStrike">
                <a:solidFill>
                  <a:srgbClr val="ffff00"/>
                </a:solidFill>
                <a:latin typeface="A.C.M.E. Secret Agen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C:\Users\mercer\Desktop\Nova pasta\998841_446364582129422_1415435601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1"/>
          <p:cNvSpPr/>
          <p:nvPr/>
        </p:nvSpPr>
        <p:spPr>
          <a:xfrm>
            <a:off x="468360" y="907920"/>
            <a:ext cx="806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.C.M.E. Secret Agent"/>
              </a:rPr>
              <a:t>Quem está na moda são os estrangeiros, é o ‘K’ e o ‘W’,  "Kkk" pra cá, "www" pra lá. Até o “#” jogo da velha, que ninguém nunca ligou, virou celebridade nesse tal de      Twitter, que aliás, deveria se chamar TÜI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C:\Users\mercer\Desktop\Nova pasta\1185081_460951237337423_1783034793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7"/>
          <p:cNvSpPr/>
          <p:nvPr/>
        </p:nvSpPr>
        <p:spPr>
          <a:xfrm>
            <a:off x="395280" y="765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.C.M.E. Secret Agent"/>
              </a:rPr>
              <a:t>Chega de argüição, mas estejam certos, seus moderninhos: haverá conseqüências! Chega de piadinhas dizendo       que estou "tremendo de medo". Tudo bem, vou-me    embora da língua portugue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C:\Users\mercer\Desktop\Nova pasta\1069123_447220045377209_213523298_n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7"/>
          <p:cNvSpPr/>
          <p:nvPr/>
        </p:nvSpPr>
        <p:spPr>
          <a:xfrm>
            <a:off x="684360" y="2492280"/>
            <a:ext cx="77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.C.M.E. Secret Agent"/>
              </a:rPr>
              <a:t>Foi bom enquanto durou. Vou para o alemão, lá eles adoram os tremas. E um dia vocês sentirão saudades.        E não vão agüentar!... Nós nos veremos nos livros    antigos. Saio da língua para entrar na hist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C:\Users\mercer\Desktop\Nova pasta\971689_419623864803494_208252359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487" name="WordArt 5"/>
          <p:cNvSpPr txBox="1"/>
          <p:nvPr/>
        </p:nvSpPr>
        <p:spPr>
          <a:xfrm>
            <a:off x="1692360" y="4797360"/>
            <a:ext cx="5203800" cy="24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úsica: Tico Tico no Fubá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=Paco de Luccia=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exto : Rec. Por e-mail (amiga Sônia)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C:\Users\mercer\Desktop\Nova pasta\19913_432077490224798_546943572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6"/>
          <p:cNvSpPr/>
          <p:nvPr/>
        </p:nvSpPr>
        <p:spPr>
          <a:xfrm>
            <a:off x="468360" y="4005360"/>
            <a:ext cx="82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ão sei quem escreveu, mas quem assina é o TREMA ...  É uma tremenda aula de criatividade e bom humor          por sinal, com acentuada inteligência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:\Users\mercer\Desktop\Nova pasta\424661_427306637368550_428580670_n.jpg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6"/>
          <p:cNvSpPr/>
          <p:nvPr/>
        </p:nvSpPr>
        <p:spPr>
          <a:xfrm>
            <a:off x="1835280" y="26028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.C.M.E. Secret Agent"/>
              </a:rPr>
              <a:t>Estou indo embora. Não há mais lugar para mim. Eu sou o trema.</a:t>
            </a:r>
            <a:r>
              <a:rPr b="0" lang="en-US" sz="2400" spc="-1" strike="noStrike">
                <a:solidFill>
                  <a:srgbClr val="ffff00"/>
                </a:solidFill>
                <a:latin typeface="A.C.M.E. Secret Ag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6"/>
          <p:cNvSpPr/>
          <p:nvPr/>
        </p:nvSpPr>
        <p:spPr>
          <a:xfrm>
            <a:off x="1116000" y="4581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ê pode nunca ter reparado em mim, mas eu estava sempre ali, na Anhangüera, nos aqüíferos, nas lingüiç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C:\Users\mercer\Desktop\Nova pasta\970065_420709618028252_383800291_n.jpg"/>
          <p:cNvPicPr/>
          <p:nvPr/>
        </p:nvPicPr>
        <p:blipFill>
          <a:blip r:embed="rId1"/>
          <a:stretch/>
        </p:blipFill>
        <p:spPr>
          <a:xfrm>
            <a:off x="0" y="-2359080"/>
            <a:ext cx="9144000" cy="921708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5"/>
          <p:cNvSpPr/>
          <p:nvPr/>
        </p:nvSpPr>
        <p:spPr>
          <a:xfrm>
            <a:off x="2195640" y="2924280"/>
            <a:ext cx="446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.C.M.E. Secret Agent"/>
              </a:rPr>
              <a:t>e seus trocadilhos por mais de quatrocentos e cinqüenta anos.</a:t>
            </a:r>
            <a:r>
              <a:rPr b="0" lang="en-US" sz="2800" spc="-1" strike="noStrike">
                <a:solidFill>
                  <a:srgbClr val="ffff00"/>
                </a:solidFill>
                <a:latin typeface="A.C.M.E. Secret Agen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C:\Users\mercer\Desktop\Nova pasta\1001166_429248597174354_981607940_n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7"/>
          <p:cNvSpPr/>
          <p:nvPr/>
        </p:nvSpPr>
        <p:spPr>
          <a:xfrm>
            <a:off x="1042920" y="4005360"/>
            <a:ext cx="7056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.C.M.E. Secret Agent"/>
              </a:rPr>
              <a:t>Mas os tempos mudaram. Inventaram uma tal de reforma ortográfica e eu simplesmente tô fora. Fui expulso pra sempre do dicionário. Seus ingratos!</a:t>
            </a:r>
            <a:r>
              <a:rPr b="0" lang="pt-BR" sz="2800" spc="-1" strike="noStrike">
                <a:solidFill>
                  <a:srgbClr val="ffff00"/>
                </a:solidFill>
                <a:latin typeface="A.C.M.E. Secret Agen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C:\Users\mercer\Desktop\Nova pasta\21088_420351014730779_3243964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9"/>
          <p:cNvSpPr/>
          <p:nvPr/>
        </p:nvSpPr>
        <p:spPr>
          <a:xfrm>
            <a:off x="2340000" y="3789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.C.M.E. Secret Agent"/>
              </a:rPr>
              <a:t>Isso é uma delinqüência de   lingüistas grandiloqüentes!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7" presetSubtype="2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C:\Users\mercer\Desktop\Nova pasta\992989_430849740347573_24663168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5"/>
          <p:cNvSpPr/>
          <p:nvPr/>
        </p:nvSpPr>
        <p:spPr>
          <a:xfrm>
            <a:off x="1116000" y="4508640"/>
            <a:ext cx="669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.C.M.E. Secret Agent"/>
              </a:rPr>
              <a:t>O resto dos pontos e o alfabeto não me deram      o menor apoio... A letra “U” se disse aliviada    porque vou finalmente sair de cima dela.</a:t>
            </a:r>
            <a:r>
              <a:rPr b="0" lang="en-US" sz="2800" spc="-1" strike="noStrike">
                <a:solidFill>
                  <a:srgbClr val="ffff00"/>
                </a:solidFill>
                <a:latin typeface="A.C.M.E. Secret Agen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C:\Users\mercer\Desktop\Nova pasta\601038_428260923939788_2083905505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1187280" y="256536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.C.M.E. Secret Agent"/>
              </a:rPr>
              <a:t>Os “dois pontos” disse que sou um preguiçoso que trabalha deitado enquanto ele fica em p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6:50:10Z</dcterms:created>
  <dc:creator>Ruiter</dc:creator>
  <dc:description/>
  <dc:language>en-US</dc:language>
  <cp:lastModifiedBy>HOME</cp:lastModifiedBy>
  <dcterms:modified xsi:type="dcterms:W3CDTF">2013-08-26T21:46:34Z</dcterms:modified>
  <cp:revision>3</cp:revision>
  <dc:subject/>
  <dc:title>A Despedida do Trema</dc:title>
</cp:coreProperties>
</file>