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Jim%20Brickman%20-%20The%20Promise.cut8.wav" ContentType="audio/x-wav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C49-C1FA-4A3E-955E-98092669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55A-A92F-4508-883F-60AE33D1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A24-8212-4FBF-A493-50F24760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33B-C9F3-419A-B3E9-3CB420F4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AEC-5DA5-45D3-A227-19C17A12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BD2-F40C-4AAB-AF9B-11A2A309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FF1-A790-4FAF-A651-DD6ABE15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EAA-112E-4F7D-A50A-26A1E8E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873-3852-4C1F-B6CA-23E55359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556-2DCB-483D-8A53-A424675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167-3F5F-4428-AE6A-21D51D9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A25-8A8A-4FB7-9CB1-785EFBBF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F81-29D4-42CA-8E96-67BE251B4F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Jim%20Brickman%20-%20The%20Promise.cut8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6d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685800"/>
            <a:ext cx="53528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O amor que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acabou </a:t>
            </a:r>
            <a:endParaRPr b="1" i="1" lang="en-US" sz="80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38280" y="5181480"/>
            <a:ext cx="36291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b6d68c">
                    <a:alpha val="50000"/>
                  </a:srgbClr>
                </a:solidFill>
                <a:effectLst>
                  <a:outerShdw dist="17819" dir="2700000" blurRad="0" rotWithShape="0">
                    <a:srgbClr val="6c7f53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solidFill>
                <a:srgbClr val="b6d68c">
                  <a:alpha val="50000"/>
                </a:srgbClr>
              </a:solidFill>
              <a:effectLst>
                <a:outerShdw dist="17819" dir="2700000" blurRad="0" rotWithShape="0">
                  <a:srgbClr val="6c7f53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2000">
    <p:randomBar dir="vert"/>
    <p:sndAc>
      <p:stSnd>
        <p:snd r:embed="rId3" name="Jim%20Brickman%20-%20The%20Promise.cut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4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533520"/>
            <a:ext cx="716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</a:rPr>
              <a:t>Quando foi que o amor acabou e o príncipe virou sapo e a princesa desencantou? Provavelmente depois de tantos beijos não dados, de tantos momentos deixados pro lado, de tanto monólogo de ambas as partes. Em geral o amor assiste à própria morte e resta silencioso. Ou ele grita por socorro e as pessoas se fazem de surdas. O mais difícil no fim de um relacionamento é admitir que tudo acab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2d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64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48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Há pessoas que insistem simplesmente porque não querem admitir o fim. E caminham vagarosamente na vida, vivendo o dia-a-dia como se não houvesse o depois. Mas a vida não acaba quando morre um amor. Ela simplesmente passa por uma transição que, como todas, é freqüentemente dolorida. Tememos as mudanças porque tememos o desconhecido. Mas o que é o desconheci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8d8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34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88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76212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Mesmo o dia de amanhã, não podemos tocá-lo até que ele chegue a nós, não podemos sabê-lo até que chegue o momento em que, mergulhados, precisamos vivê-lo. Aceitar a morte, qualquer que seja, é reconhecer nossa vulnerabilidade diante da vida. E somos seres orgulhosos por demais para querer reconhecer nossa fragilidade ante o que não podemos controlar. E a vida não se contr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bd9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9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2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33520"/>
            <a:ext cx="75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9bc84"/>
                </a:solidFill>
                <a:latin typeface="Copperplate Gothic Light"/>
                <a:ea typeface="Arial"/>
              </a:rPr>
              <a:t>Ela se abate sobre nossas cabeças e tudo o que podemos fazer é vivê-la o mais intensamente possível com todos os riscos e perigos que ela nos impõe, com todas as surpresas, que ela nos reserva. Precisamos é tirar o melhor partido do que está nas nossas mãos e reconhecer que pra todo fim há sempre um recomeço. Uma perda é quase sempre um ganho, é muitas vezes a válvula propulsora para uma nova vida, uma nova história, um novo amanhã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bed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7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9bc84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80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bc84"/>
                </a:solidFill>
                <a:latin typeface="Times New Roman"/>
              </a:rPr>
              <a:t>Jim Brickman - The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44792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bc84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43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9bc84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bc84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bc84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4de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3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8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3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2:54:47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6:28:08Z</dcterms:modified>
  <cp:revision>3</cp:revision>
  <dc:subject>PPS</dc:subject>
  <dc:title>O amor que acabou</dc:title>
</cp:coreProperties>
</file>