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Jim%20Brickman%20-%20The%20Promise.cut8.wav" ContentType="audio/x-wav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4B2-FEF9-4455-81E0-FBD2C600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B0C-B759-4284-909B-29D689A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25C-B7ED-41B1-B30C-7DF08040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263-01EE-492C-A519-4F3EA571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841-9E86-4332-90B7-689233D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94C-112A-4A83-9A01-0CC7D93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F9B-3286-42E0-9DB8-A1CBAB3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022-DD49-4EBD-90D9-209A6D2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281-6C5E-4011-9677-89DDC4A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4EE-9C92-4932-A6A6-678BA4B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14E-5606-4CF6-AD03-D46F821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905-6ADC-45E4-B6FC-0EEDFBE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E4AB-47B3-4951-AF8E-10A0F59268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Jim%20Brickman%20-%20The%20Promise.cut8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6d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685800"/>
            <a:ext cx="5352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O amor que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acabou 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5181480"/>
            <a:ext cx="36291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2000">
    <p:randomBar dir="vert"/>
    <p:sndAc>
      <p:stSnd>
        <p:snd r:embed="rId3" name="Jim%20Brickman%20-%20The%20Promise.cut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4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533520"/>
            <a:ext cx="716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</a:rPr>
              <a:t>Quando foi que o amor acabou e o príncipe virou sapo e a princesa desencantou? Provavelmente depois de tantos beijos não dados, de tantos momentos deixados pro lado, de tanto monólogo de ambas as partes. Em geral o amor assiste à própria morte e resta silencioso. Ou ele grita por socorro e as pessoas se fazem de surdas. O mais difícil no fim de um relacionamento é admitir que tudo acab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2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64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48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Há pessoas que insistem simplesmente porque não querem admitir o fim. E caminham vagarosamente na vida, vivendo o dia-a-dia como se não houvesse o depois. Mas a vida não acaba quando morre um amor. Ela simplesmente passa por uma transição que, como todas, é freqüentemente dolorida. Tememos as mudanças porque tememos o desconhecido. Mas o que é o desconheci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8d8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34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76212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Mesmo o dia de amanhã, não podemos tocá-lo até que ele chegue a nós, não podemos sabê-lo até que chegue o momento em que, mergulhados, precisamos vivê-lo. Aceitar a morte, qualquer que seja, é reconhecer nossa vulnerabilidade diante da vida. E somos seres orgulhosos por demais para querer reconhecer nossa fragilidade ante o que não podemos controlar. E a vida não se contr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bd9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9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2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33520"/>
            <a:ext cx="75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Ela se abate sobre nossas cabeças e tudo o que podemos fazer é vivê-la o mais intensamente possível com todos os riscos e perigos que ela nos impõe, com todas as surpresas, que ela nos reserva. Precisamos é tirar o melhor partido do que está nas nossas mãos e reconhecer que pra todo fim há sempre um recomeço. Uma perda é quase sempre um ganho, é muitas vezes a válvula propulsora para uma nova vida, uma nova história, um novo amanhã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ed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7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9bc8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80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Jim Brickman - The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4479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43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9bc84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bc84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bc84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4d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3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8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3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54:47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6:28:08Z</dcterms:modified>
  <cp:revision>3</cp:revision>
  <dc:subject>PPS</dc:subject>
  <dc:title>O amor que acabou</dc:title>
</cp:coreProperties>
</file>