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leona%20lewis%20-%20i%20see%20you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11998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936-67C5-4929-8516-12BC441D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396432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669-A0CC-4230-8EB7-1C9B1BF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DDA-718A-4048-9D76-5D453340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756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7460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756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7460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757-FE92-4248-AE10-6AD6C6F6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CFB-5434-4E6C-81F3-63E22B1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2AD-752F-4033-BD93-BD36FE6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1BD-6A58-4D7D-BDF2-8816105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C63-3FCE-4C8F-ADA6-AFAA982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274320"/>
            <a:ext cx="1007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72B-8B4E-4BCA-A18A-DFB2B95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C45-D417-4171-A40B-0259E3D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08D-E4CB-48EB-9AC3-9C5086C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05A-F1C9-456E-A17B-B7E1C35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0520" y="6244920"/>
            <a:ext cx="261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25720" y="6244920"/>
            <a:ext cx="354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4400" y="6244920"/>
            <a:ext cx="261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2C4-9138-4AEB-8021-8B3E9809A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ona%20lewis%20-%20i%20see%20you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7145280" cy="8342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275600" y="1341360"/>
            <a:ext cx="37908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6699ff"/>
                </a:solidFill>
                <a:latin typeface="Bookman Old Style"/>
              </a:rPr>
              <a:t>Avatar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6699ff"/>
              </a:solidFill>
              <a:latin typeface="Bookman Old Style"/>
              <a:ea typeface="Bookman Old Style"/>
            </a:endParaRPr>
          </a:p>
        </p:txBody>
      </p:sp>
      <p:sp>
        <p:nvSpPr>
          <p:cNvPr id="46" name=""/>
          <p:cNvSpPr/>
          <p:nvPr/>
        </p:nvSpPr>
        <p:spPr>
          <a:xfrm>
            <a:off x="7362720" y="3933720"/>
            <a:ext cx="36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Bookman Old Style"/>
              </a:rPr>
              <a:t>Abra os olhos para 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39120" y="628488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99ff"/>
                </a:solidFill>
                <a:latin typeface="Bookman Old Style"/>
              </a:rPr>
              <a:t>Texto: Elenita Malta, </a:t>
            </a:r>
            <a:r>
              <a:rPr b="0" i="1" lang="pt-BR" sz="1200" spc="-1" strike="noStrike">
                <a:solidFill>
                  <a:srgbClr val="6699ff"/>
                </a:solidFill>
                <a:latin typeface="Bookman Old Style"/>
              </a:rPr>
              <a:t>Historiadora Música: I See You, Leona 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leona%20lewis%20-%20i%20see%20yo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955880"/>
            <a:ext cx="11198160" cy="514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Vemo-nos atirando contra a natureza, só porque debaixo dela se encontra um minério valioso, que, para os humanos, resolveria a crise energética, uma vez que em 2154 – ano em que a trama se passa –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ão existe mais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verde na Terr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11198160" cy="603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1119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592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Com a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Terr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arrasada, segue-se a colonização de outros mundos. Ao mostrar nossa mesquinhez, o filme pretende atingir o que ainda resta de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consciência ecológic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o ser h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101600" y="0"/>
            <a:ext cx="124902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4960" y="1111320"/>
            <a:ext cx="37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2246"/>
                </a:solidFill>
                <a:latin typeface="Bookman Old Style"/>
              </a:rPr>
              <a:t>O nome da lua, Pandora, é significativo. Na mitologia, Pandora, a primeira mulher criada por Júpiter, recebe dos deuses,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presentes em forma de dons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432246"/>
                </a:solidFill>
                <a:latin typeface="Bookman Old Style"/>
              </a:rPr>
              <a:t>como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beleza, persuasão e música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89000"/>
            <a:ext cx="427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Do marido, Epimeteu, recebe uma caixa contendo todos os males, com a advertência de não abri-la. Mas a curiosidade foi maior, e Pandora abriu a caixa, liberando pragas que atingiram o homem,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restando apenas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a esperança.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11198160" cy="603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2760" y="-27000"/>
            <a:ext cx="1031868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Pandora não cuidou de sua caixa, e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ós não estamo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cuidando do nosso planeta.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os adverte: a Terra é nossa caixa de Pandora. Se não soubermos preservá-la, será o nosso fim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39880"/>
            <a:ext cx="1119816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6360" y="115920"/>
            <a:ext cx="105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filme é permeado d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esperança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a lua Pandor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tudo está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m equilíbrio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Uma árvore da vida, a deusa Eywa, sustenta as conexões entre as raízes de todas as árvores e entre todos os se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11198160" cy="403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9240" y="282600"/>
            <a:ext cx="1076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É uma teia, como as sinapses que ligam os neurônios em nosso cérebro.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Acaso na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Terra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os sistemas também não estã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interligados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?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sse é o preceito fundamental da ecologia. Como dizia José Lutzenberger, em seu Manifesto Ecológico Fim do Futuro: tudo está relacionado com tudo.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Tudo é uma coisa só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38920" cy="688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921360" y="1111320"/>
            <a:ext cx="414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Embor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ossa conexã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ão se realize diretamente, como ocorre por meio das tranças dos Na’vi, com os cavalos (Direhorses), animais alados (Banshee) ou com a própria terra...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ela existe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só que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stá perdida pelo nosso afastamento da natureza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44280" y="2411280"/>
            <a:ext cx="339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Bookman Old Style"/>
              </a:rPr>
              <a:t>Avatar nos diz que, se quisermos manter o direito de habitar na Terra, </a:t>
            </a:r>
            <a:r>
              <a:rPr b="1" lang="pt-BR" sz="2400" spc="-1" strike="noStrike">
                <a:solidFill>
                  <a:srgbClr val="cc9900"/>
                </a:solidFill>
                <a:latin typeface="Bookman Old Style"/>
              </a:rPr>
              <a:t>precisamos colocar-nos novamente em </a:t>
            </a:r>
            <a:r>
              <a:rPr b="1" lang="pt-BR" sz="2400" spc="-1" strike="noStrike">
                <a:solidFill>
                  <a:srgbClr val="a50021"/>
                </a:solidFill>
                <a:latin typeface="Bookman Old Style"/>
              </a:rPr>
              <a:t>contato com a natureza.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8920" y="4428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personagem principal, Jake Sully,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consegue se libertar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da cegueira e da ignorância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perceber a temp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a catástrofe que os humanos iriam desencadear em Pandor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7548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29360" y="1628640"/>
            <a:ext cx="4584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Avatar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parece num ótimo mo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pós o fracasso da Conferência do Clima em Copenhague e no início do Ano da Biodiversidade, é um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brado de alerta sobre nossa péssima relação com a natureza.</a:t>
            </a: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46360"/>
            <a:ext cx="11198160" cy="5138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47720" y="260280"/>
            <a:ext cx="97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o entrar em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contat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com os costumes dos Na’vi, Jake Sully, aos poucos, vai compreendendo 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importância da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harmonia ecológica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de Pand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1119816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11200" y="44280"/>
            <a:ext cx="83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Trata-se, além de conhecer os modos de alimentação e locomoção, de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como respeitar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a vida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em todas as suas formas.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7480" y="1557360"/>
            <a:ext cx="242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Quando a jovem princesa Neytiri diz a el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“Eu vejo você”,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l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ão apenas vê, ma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sente, percebe e respeita o outro.</a:t>
            </a:r>
            <a:r>
              <a:rPr b="0" lang="pt-BR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3120" y="-27000"/>
            <a:ext cx="100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Para vivermos em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equilíbrio 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com a natureza e com nossos semelhantes,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é preciso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“vê-los” profundamente.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222120" y="1892160"/>
            <a:ext cx="11572920" cy="6000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9240" y="0"/>
            <a:ext cx="108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Um aspecto interessante é que a vida n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passa a ser mais real do que a “vida real”. Isso pode instigar-nos a questionar: a vida que levamos atualmente nos proporciona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qualidade de vida?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ão está na hora de buscarmo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qualidade de existência?</a:t>
            </a: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85960"/>
            <a:ext cx="11198160" cy="6035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73120" y="115920"/>
            <a:ext cx="100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O filme nos mostra que as sociedades tidas como “primitivas”, até mesmo “selvagens”, têm mais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sabedori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e, geralmente, uma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ligação com a naturez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muito mais rica do que a noss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40040"/>
            <a:ext cx="11198160" cy="6026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Somos responsávei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pelo sistem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econômico falho, excludente, perverso – que, apesar da crise, surpreendentemente permanece o mesmo – que, visando ao lucro e ao crescimento ilimitado, coloca a natureza como uma ‘pedra no sapato’ para atingir o “desenvolvimen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2543040"/>
            <a:ext cx="11198160" cy="4341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71680" y="189000"/>
            <a:ext cx="10053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que nos falta, como mostra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é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nvolvimento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próprio nome “</a:t>
            </a:r>
            <a:r>
              <a:rPr b="1" lang="pt-BR" sz="2400" spc="-1" strike="noStrike" u="sng">
                <a:solidFill>
                  <a:srgbClr val="6699ff"/>
                </a:solidFill>
                <a:uFillTx/>
                <a:latin typeface="Bookman Old Style"/>
              </a:rPr>
              <a:t>des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envolvimento” sugere um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desligamento com o envolvimento,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uma total desconexão com a Mãe Natureza, que só gera desequilíbrio para todo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19640" y="44280"/>
            <a:ext cx="69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Bookman Old Style"/>
              </a:rPr>
              <a:t>Estamos cada vez mais </a:t>
            </a:r>
            <a:r>
              <a:rPr b="1" lang="en-US" sz="2400" spc="-1" strike="noStrike">
                <a:solidFill>
                  <a:srgbClr val="660066"/>
                </a:solidFill>
                <a:latin typeface="Bookman Old Style"/>
              </a:rPr>
              <a:t>desconectados</a:t>
            </a:r>
            <a:r>
              <a:rPr b="1" lang="en-US" sz="2400" spc="-1" strike="noStrike">
                <a:solidFill>
                  <a:srgbClr val="cc9900"/>
                </a:solidFill>
                <a:latin typeface="Bookman Old Style"/>
              </a:rPr>
              <a:t> com a </a:t>
            </a:r>
            <a:r>
              <a:rPr b="1" lang="en-US" sz="2400" spc="-1" strike="noStrike">
                <a:solidFill>
                  <a:srgbClr val="a50021"/>
                </a:solidFill>
                <a:latin typeface="Bookman Old Style"/>
              </a:rPr>
              <a:t>teia da natureza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, preocupados em ganhar dinheiro custe o que cust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11198160" cy="496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4200" y="333360"/>
            <a:ext cx="103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mos cada vez mais desconectados com a teia da natureza, preocupados em ganhar dinheiro custe o que cu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-2700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Mesmo que o preço seja a vida dos que ainda não nasceram ou até mesmo dos oceanos, das árvores e dos animais,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não cogitamo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alterar nosso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hábitos de consum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extremamente danosos aos recursos naturais, e, muito menos, mudar nossa matriz energética altamente polu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31760" y="-674640"/>
            <a:ext cx="7583400" cy="908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1640" y="620640"/>
            <a:ext cx="3746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Merece ser assistido pelos belos efeitos e pela fotografia extraordinária, porém, mais do que isso, apresenta uma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poderosa mensagem ecológica: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o homem precisa restabelecer sua conexão com a naturez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7480" y="5300640"/>
            <a:ext cx="62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Ainda há tempo para salvar a </a:t>
            </a:r>
            <a:r>
              <a:rPr b="1" lang="pt-BR" sz="3200" spc="-1" strike="noStrike">
                <a:solidFill>
                  <a:srgbClr val="cc9900"/>
                </a:solidFill>
                <a:latin typeface="Bookman Old Style"/>
              </a:rPr>
              <a:t>Terra</a:t>
            </a: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, basta nos </a:t>
            </a:r>
            <a:r>
              <a:rPr b="1" lang="pt-BR" sz="3200" spc="-1" strike="noStrike">
                <a:solidFill>
                  <a:srgbClr val="a50021"/>
                </a:solidFill>
                <a:latin typeface="Bookman Old Style"/>
              </a:rPr>
              <a:t>reconectarmos</a:t>
            </a: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63480" y="26676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“</a:t>
            </a:r>
            <a:r>
              <a:rPr b="0" lang="pt-BR" sz="3600" spc="-1" strike="noStrike">
                <a:solidFill>
                  <a:srgbClr val="cc9900"/>
                </a:solidFill>
                <a:latin typeface="Bookman Old Style"/>
              </a:rPr>
              <a:t>I see you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!” </a:t>
            </a:r>
            <a:r>
              <a:rPr b="0" lang="pt-BR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– </a:t>
            </a:r>
            <a:r>
              <a:rPr b="0" lang="pt-BR" sz="36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“</a:t>
            </a:r>
            <a:r>
              <a:rPr b="0" lang="pt-BR" sz="3600" spc="-1" strike="noStrike">
                <a:solidFill>
                  <a:srgbClr val="a50021"/>
                </a:solidFill>
                <a:latin typeface="Bookman Old Style"/>
              </a:rPr>
              <a:t>Eu vejo você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0240" y="189000"/>
            <a:ext cx="100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Nos fala também de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respeito ao próxim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homem, animal ou floresta,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igual ou diferente de nós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11198160" cy="515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6320"/>
            <a:ext cx="111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O espectador é transportado para a lua Pandora, habitada pelo povo Na’vi, em um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universo de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 experiências sensoriais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encantadoras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com seres de formas jamais imaginadas, cores reluzentes e uma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atureza exuberante.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7269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76800" y="11592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Bookman Old Style"/>
              </a:rPr>
              <a:t>Avatar</a:t>
            </a:r>
            <a:r>
              <a:rPr b="1" lang="pt-BR" sz="2400" spc="-1" strike="noStrike">
                <a:solidFill>
                  <a:srgbClr val="6699ff"/>
                </a:solidFill>
                <a:latin typeface="Bookman Old Style"/>
              </a:rPr>
              <a:t> propõe uma discussão pertinente sobre o </a:t>
            </a:r>
            <a:r>
              <a:rPr b="1" lang="pt-BR" sz="2400" spc="-1" strike="noStrike">
                <a:solidFill>
                  <a:srgbClr val="cc9900"/>
                </a:solidFill>
                <a:latin typeface="Bookman Old Style"/>
              </a:rPr>
              <a:t>futuro do nosso planeta</a:t>
            </a:r>
            <a:r>
              <a:rPr b="1" lang="pt-BR" sz="2400" spc="-1" strike="noStrike">
                <a:solidFill>
                  <a:srgbClr val="6699ff"/>
                </a:solidFill>
                <a:latin typeface="Bookman Old Style"/>
              </a:rPr>
              <a:t>, </a:t>
            </a:r>
            <a:r>
              <a:rPr b="1" lang="pt-BR" sz="2400" spc="-1" strike="noStrike">
                <a:solidFill>
                  <a:srgbClr val="660066"/>
                </a:solidFill>
                <a:latin typeface="Bookman Old Style"/>
              </a:rPr>
              <a:t>a Terra.</a:t>
            </a:r>
            <a:r>
              <a:rPr b="1" lang="pt-B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11198160" cy="603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76320"/>
            <a:ext cx="111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Inova ao expor a monstruosidade do ser humano, personificado no cel. Miles, que destrói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um mund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em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perfeita harmoni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com uma brutalidade chocante, em cenas que provocam indign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98560"/>
            <a:ext cx="11198160" cy="6023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404640"/>
            <a:ext cx="96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Mostra a inescrupulosidade d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ser human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até onde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o homem é capaz de cheg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para obter ganhos econô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1119816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7632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Quando a árvore-casa dos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Na’vi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cai, o desmatamento da Amazônia, da Mata Atlântica, o derretimento dos polos, a morte dos corais e dos oceanos, enfim,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todas as desgraças provocadas pelo homem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são evocadas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46:25Z</dcterms:created>
  <dc:creator>...</dc:creator>
  <dc:description/>
  <dc:language>en-US</dc:language>
  <cp:lastModifiedBy>jose roberto</cp:lastModifiedBy>
  <dcterms:modified xsi:type="dcterms:W3CDTF">2010-05-24T11:06:22Z</dcterms:modified>
  <cp:revision>2</cp:revision>
  <dc:subject/>
  <dc:title>Slide 1</dc:title>
</cp:coreProperties>
</file>