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RaulDiBlasioLoveStory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57E9-970F-4D0D-A7A9-13760CE60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E0FE-7FDA-45BC-AB1E-0C08EA286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67B4-D48D-4ABB-B6C7-8E751A57B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16DF-2B07-4CBB-A0EC-9FBC67538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B8FC-3096-4E6E-AAD6-8888C018F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4660-8FDA-40A5-9133-724C50168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B5C2-D65A-4FDB-BBB8-A39EBA675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8EE6-50D1-4855-8F5A-1A09911B3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0F64-4955-434D-BA42-0DC5BE91B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E17D-C753-4FB0-86EF-553FD48EE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9099-520A-4073-9800-7D80A121C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1E43-760F-4E5C-BCC6-14D208B4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08517-9647-441A-8E08-F252B82BF1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RaulDiBlasioLoveStory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56000" y="2276640"/>
            <a:ext cx="619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Monotype Corsiva"/>
              </a:rPr>
              <a:t>UM GRANDE HOMEM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2" name="RaulDiBlasioLoveStory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859280" y="549360"/>
            <a:ext cx="38894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"Não creia nas palavras de um homem cujos atos dizem o opos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Afaste de sua vida um homem que não constrói com voce um mundo melhor ...  Ele jamais sairá do seu lado, pois voce é a sua fonte de energia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Foge de um homem enfermo espiritual e emocionalmente. É como um câncer, matará  tudo o que há em vo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(emocional, mental, física, social e economicamen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00720" y="189000"/>
            <a:ext cx="4643280" cy="65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"Não dê atenção a um homem que não seja capaz de expressar seus sentimentos, que não se ame saudavel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Não se agarre a um homem que não seja capaz de reconhecer sua beleza interior e exterior e suas qualidades mora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Não deixe entrar em sua vida um homem a quem tenha que adivinhar o que quer, porque não é capaz de se expressar abert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Não se enamore de um homem que ao conhece-lo, sua vida tenha se transformado em um problema a resolver e não em algo para desfrut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148360" y="620640"/>
            <a:ext cx="331308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Não creia em um homem que tenha carências afetivas de infância e que trata de preenche-las com a infidelidade, culpando-a, quando o problema não está em voce,e sim nele, porque não sabe o que quer da vida, nem  quais são suas prioridades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19640" y="476280"/>
            <a:ext cx="338292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Por que querer um homem que a abandonará se voce não for como ele pretendia, ou se já não é mais “ útil ”?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Por que querer um homem que a trocará por um cabelo ou uma cor de pele diferente, ou por uns olhos claros, ou por um corpo mais esbelto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003640" y="1700280"/>
            <a:ext cx="3600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Por que querer um homem que não saiba admirar a beleza que há em voce, a verdadeira beleza… a do coração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003640" y="836640"/>
            <a:ext cx="3673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Quantas vezes me deixei levar pela superficialidade das coisas, deixando de lado aqueles que realmente me ofereciam sua sinceridade e integridade e dando mais importancia a quem não valorizava meu esforç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076720" y="1052640"/>
            <a:ext cx="3816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Custou-me muito compreender que GRANDE HOMEM não é aquele que chega no topo, nem o que tem  mais dinheiro, casa, automóvel, nem quem vive rodeado de mulheres, </a:t>
            </a:r>
            <a:r>
              <a:rPr b="1" lang="es-ES" sz="2800" spc="-1" strike="noStrike">
                <a:solidFill>
                  <a:srgbClr val="000000"/>
                </a:solidFill>
                <a:latin typeface="Arial Narrow"/>
              </a:rPr>
              <a:t>nem muito menos o mais bonito.</a:t>
            </a: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292720" y="620640"/>
            <a:ext cx="3456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Um grande homem é aquele ser humano transparente, que não se refugia atrás de cortinas de fumaça, é o que abre seu coração sem rejeitar a realidade, é quem admira uma mulher por seus alicerces morais e grandeza interio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219640" y="620640"/>
            <a:ext cx="3456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Um grande homem, é o que caminha de frente, sem baixar os olhos; é aquele que não mente, embora  às vezes perca por falar a verdade… e sobretudo, um grande homem é o que sabe chorar sua dor sem fugir dela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148360" y="2060640"/>
            <a:ext cx="3405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Um grande homem é o que cai e tem a suficiente força para levantar-se e seguir lutando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148360" y="1197000"/>
            <a:ext cx="3311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Nós, homens, nos caracterizamos por ser o sexo forte, embora muitas vezes  caiamos por debilidad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076720" y="1125360"/>
            <a:ext cx="35625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Hoje minha irmã está casada e feliz, e esse Grande Homem com quem se casou, não era nem o mais popular, nem o mais solicitado pelas mulheres, nem o mais rico ou o mais bonit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148360" y="1557360"/>
            <a:ext cx="29224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Esse Grande Homem é simplesmente aquele que nunca a fez chorar… é quem no lugar de lágrimas lhe roubou sorriso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003640" y="981000"/>
            <a:ext cx="3672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Sorrisos por tudo que conquistaram juntos, pelos  triunfos alcançados, por suas lindas recordações e por aquelas tristes lembranças que souberam superar, por cada alegria que repartem e pelos 3 filhos que preenchem suas vid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219640" y="981000"/>
            <a:ext cx="3457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Esse Grande Homem ama tanto a minha irmã que daria o que fosse por ela sem pedir nada em troca..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Esse Grande Homem a quer pelo que ela é, por seu coração e pelo que são quando estão jun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219640" y="1413000"/>
            <a:ext cx="3311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Aprendamos a ser um desses Grandes Homens, para vivenciar os anos junto de uma Grande Mulher e nada nem ninguém nos poderá </a:t>
            </a: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venc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076720" y="1125360"/>
            <a:ext cx="3384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Envio esta mensagem aos meus amigos "homens", para que lhes toque o coração e tratem de fazer crescer  esse GRANDE homem que vive dentro deles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364000" y="2421000"/>
            <a:ext cx="3389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E às minhas amigas "mulheres" para que saibam escolher  esse Grande Homem que Deus tem  para el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148360" y="765000"/>
            <a:ext cx="3384360" cy="43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Lembro que um dia, minha irmã chorava em nossa casa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Com muita saudade, observei que meu pai chegou perto dela e perguntou o  motivo de sua tristez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580000" y="189000"/>
            <a:ext cx="3240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64000" y="981000"/>
            <a:ext cx="3240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Escutei-os conversando por horas. Lembro-me especialmente de uma frase que meu pai lhe disse naquela conversa e que me enche de força a cada manhã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219640" y="1341360"/>
            <a:ext cx="316872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Meu pai acariciou o rosto dela e disse: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s-ES" sz="2800" spc="-1" strike="noStrike">
                <a:solidFill>
                  <a:srgbClr val="000000"/>
                </a:solidFill>
                <a:latin typeface="Arial Narrow"/>
              </a:rPr>
              <a:t>Minha filha, apaixone-se por Um Grande Homem e nunca mais voltará a chorar"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219640" y="1557360"/>
            <a:ext cx="3384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Depois disso, perguntei-me inumeras vezes qual  seria a fórmula exata para chegar a ser esse </a:t>
            </a:r>
            <a:r>
              <a:rPr b="1" lang="es-ES" sz="2800" spc="-1" strike="noStrike">
                <a:solidFill>
                  <a:srgbClr val="000000"/>
                </a:solidFill>
                <a:latin typeface="Arial Narrow"/>
              </a:rPr>
              <a:t>grande homem</a:t>
            </a: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 e não me deixar vencer pelas coisas pequenas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219640" y="836640"/>
            <a:ext cx="3384720" cy="45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Com o passar dos anos,descobri que se todos nós homens lutássemos por ser grandes de espírito, grandes de alma e grandes de coração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o mundo seria completamente diferent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221440" y="1268280"/>
            <a:ext cx="3311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Aprendi que um Grande Homem... não é aquele que compra tudo o que deseja, porque muitos de nós compramos com presentes a afeição e o respeito aqueles que nos cerc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859280" y="836640"/>
            <a:ext cx="3889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Meu pai lhe dizia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"Não se apaixone por um homem que só fale de si mesmo, de seus problemas, sem preocupar-se com voce... Enamore-se de um homem que se interesse por voce , que conheça  suas forças, suas ilusões, suas tristezas e que a ajude a superá-l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4T01:58:54Z</dcterms:created>
  <dc:creator>.</dc:creator>
  <dc:description/>
  <dc:language>en-US</dc:language>
  <cp:lastModifiedBy>.</cp:lastModifiedBy>
  <dcterms:modified xsi:type="dcterms:W3CDTF">2009-06-09T12:19:36Z</dcterms:modified>
  <cp:revision>21</cp:revision>
  <dc:subject/>
  <dc:title>Diapositiva 1</dc:title>
</cp:coreProperties>
</file>