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RaulDiBlasioLoveStor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8B6-C294-4A61-8833-77A9BCA2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3DB-EF3A-4590-BE77-E9EA60F8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0FC-1B16-47A6-81EE-4486C05D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33E-2858-44F8-8B72-B1155C2D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6AD-8DE6-4B87-B821-3CF6BE30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F64-4A79-4329-AF09-5CE5CB9A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829-F6F0-4A88-9BED-D26900A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586-E66C-4058-9DEC-2708F442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C9E-19CB-423D-8D6D-43EF0F46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244-29F5-49DD-A87C-CD05BE11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310-A82D-41B6-9245-150A2782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4DE-3862-4956-953C-3628724A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0E45-B1DB-434D-A18A-43948D1A8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aulDiBlasioLoveStory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227664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UM GRANDE HOME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RaulDiBlasioLoveStor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859280" y="549360"/>
            <a:ext cx="388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"Não creia nas palavras de um homem cujos atos dizem o op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Afaste de sua vida um homem que não constrói com voce um mundo melhor ...  Ele jamais sairá do seu lado, pois voce é a sua fonte de energi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Foge de um homem enfermo espiritual e emocionalmente. É como um câncer, matará  tudo o que há em v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(emocional, mental, física, social e economic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00720" y="189000"/>
            <a:ext cx="4643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"Não dê atenção a um homem que não seja capaz de expressar seus sentimentos, que não se ame saudave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Não se agarre a um homem que não seja capaz de reconhecer sua beleza interior e exterior e suas qualidades mo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Não deixe entrar em sua vida um homem a quem tenha que adivinhar o que quer, porque não é capaz de se expressar aber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Não se enamore de um homem que ao conhece-lo, sua vida tenha se transformado em um problema a resolver e não em algo para desfrut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48360" y="620640"/>
            <a:ext cx="3313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Não creia em um homem que tenha carências afetivas de infância e que trata de preenche-las com a infidelidade, culpando-a, quando o problema não está em voce,e sim nele, porque não sabe o que quer da vida, nem  quais são suas prioridad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19640" y="476280"/>
            <a:ext cx="33829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Por que querer um homem que a abandonará se voce não for como ele pretendia, ou se já não é mais “ útil ”?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Por que querer um homem que a trocará por um cabelo ou uma cor de pele diferente, ou por uns olhos claros, ou por um corpo mais esbel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03640" y="1700280"/>
            <a:ext cx="36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Por que querer um homem que não saiba admirar a beleza que há em voce, a verdadeira beleza… a do coraçã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03640" y="836640"/>
            <a:ext cx="367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Quantas vezes me deixei levar pela superficialidade das coisas, deixando de lado aqueles que realmente me ofereciam sua sinceridade e integridade e dando mais importancia a quem não valorizava meu esforç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76720" y="105264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ustou-me muito compreender que GRANDE HOMEM não é aquele que chega no topo, nem o que tem  mais dinheiro, casa, automóvel, nem quem vive rodeado de mulheres, 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nem muito menos o mais bonito.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92720" y="620640"/>
            <a:ext cx="345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Um grande homem é aquele ser humano transparente, que não se refugia atrás de cortinas de fumaça, é o que abre seu coração sem rejeitar a realidade, é quem admira uma mulher por seus alicerces morais e grandeza inter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219640" y="620640"/>
            <a:ext cx="345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Um grande homem, é o que caminha de frente, sem baixar os olhos; é aquele que não mente, embora  às vezes perca por falar a verdade… e sobretudo, um grande homem é o que sabe chorar sua dor sem fugir del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48360" y="2060640"/>
            <a:ext cx="340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Um grande homem é o que cai e tem a suficiente força para levantar-se e seguir lutan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48360" y="1197000"/>
            <a:ext cx="331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Nós, homens, nos caracterizamos por ser o sexo forte, embora muitas vezes  caiamos por debil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76720" y="1125360"/>
            <a:ext cx="3562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Hoje minha irmã está casada e feliz, e esse Grande Homem com quem se casou, não era nem o mais popular, nem o mais solicitado pelas mulheres, nem o mais rico ou o mais bon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48360" y="1557360"/>
            <a:ext cx="2922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sse Grande Homem é simplesmente aquele que nunca a fez chorar… é quem no lugar de lágrimas lhe roubou sorris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03640" y="981000"/>
            <a:ext cx="36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Sorrisos por tudo que conquistaram juntos, pelos  triunfos alcançados, por suas lindas recordações e por aquelas tristes lembranças que souberam superar, por cada alegria que repartem e pelos 3 filhos que preenchem suas vid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219640" y="981000"/>
            <a:ext cx="345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sse Grande Homem ama tanto a minha irmã que daria o que fosse por ela sem pedir nada em troca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sse Grande Homem a quer pelo que ela é, por seu coração e pelo que são quando estão j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219640" y="1413000"/>
            <a:ext cx="33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Aprendamos a ser um desses Grandes Homens, para vivenciar os anos junto de uma Grande Mulher e nada nem ninguém nos poderá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venc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76720" y="1125360"/>
            <a:ext cx="33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nvio esta mensagem aos meus amigos "homens", para que lhes toque o coração e tratem de fazer crescer  esse GRANDE homem que vive dentro del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64000" y="2421000"/>
            <a:ext cx="338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 às minhas amigas "mulheres" para que saibam escolher  esse Grande Homem que Deus tem  para e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48360" y="765000"/>
            <a:ext cx="33843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Lembro que um dia, minha irmã chorava em nossa casa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om muita saudade, observei que meu pai chegou perto dela e perguntou o  motivo de sua trist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580000" y="189000"/>
            <a:ext cx="32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64000" y="98100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scutei-os conversando por horas. Lembro-me especialmente de uma frase que meu pai lhe disse naquela conversa e que me enche de força a cada manhã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219640" y="1341360"/>
            <a:ext cx="3168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Meu pai acariciou o rosto dela e disse: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Minha filha, apaixone-se por Um Grande Homem e nunca mais voltará a chorar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19640" y="1557360"/>
            <a:ext cx="33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Depois disso, perguntei-me inumeras vezes qual  seria a fórmula exata para chegar a ser esse 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grande homem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e não me deixar vencer pelas coisas pequenas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19640" y="836640"/>
            <a:ext cx="33847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om o passar dos anos,descobri que se todos nós homens lutássemos por ser grandes de espírito, grandes de alma e grandes de coraçã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o mundo seria completamente diferen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221440" y="1268280"/>
            <a:ext cx="3311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Aprendi que um Grande Homem... não é aquele que compra tudo o que deseja, porque muitos de nós compramos com presentes a afeição e o respeito aqueles que nos cerc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59280" y="836640"/>
            <a:ext cx="388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Meu pai lhe dizia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"Não se apaixone por um homem que só fale de si mesmo, de seus problemas, sem preocupar-se com voce... Enamore-se de um homem que se interesse por voce , que conheça  suas forças, suas ilusões, suas tristezas e que a ajude a superá-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01:58:54Z</dcterms:created>
  <dc:creator>.</dc:creator>
  <dc:description/>
  <dc:language>en-US</dc:language>
  <cp:lastModifiedBy>.</cp:lastModifiedBy>
  <dcterms:modified xsi:type="dcterms:W3CDTF">2009-06-09T12:19:36Z</dcterms:modified>
  <cp:revision>21</cp:revision>
  <dc:subject/>
  <dc:title>Diapositiva 1</dc:title>
</cp:coreProperties>
</file>