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Natureza%20-%20menu%20popup.wav" ContentType="audio/x-wav"/>
  <Override PartName="/ppt/media/image1.wmf" ContentType="image/x-wmf"/>
  <Override PartName="/ppt/media/aplauso_SN00227A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BCB-EF75-41BD-A12C-8A13AC7B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A60-3CD7-4C49-A352-C9AEACF4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066-23AA-4DC4-8D51-1DE125CA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EB7-9240-47B5-936F-08182DE3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766-AAF2-4F72-AD19-0EEDBDBD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F65-9E48-48A0-B3B6-FB75C783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A73-F499-4B6F-9BC1-787291EB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62A-EB65-4EC9-A90F-9728F9E3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FD5-D2C0-44E9-A8AC-12326EE4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3BE-8304-40A7-B510-BE6C732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96B-7200-4410-BD1B-057A637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DA8-1A22-49AD-92DE-F2715BF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0D28-7184-4A9D-9CE1-5EA63B5FD71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lauso_SN00227A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Natureza%20-%20menu%20popup.wav"/><Relationship Id="rId2" Type="http://schemas.openxmlformats.org/officeDocument/2006/relationships/audio" Target="../media/Natureza%20-%20menu%20popup.wav"/><Relationship Id="rId3" Type="http://schemas.openxmlformats.org/officeDocument/2006/relationships/audio" Target="../media/Natureza%20-%20menu%20popup.wav"/><Relationship Id="rId4" Type="http://schemas.openxmlformats.org/officeDocument/2006/relationships/audio" Target="../media/Natureza%20-%20menu%20popup.wav"/><Relationship Id="rId5" Type="http://schemas.openxmlformats.org/officeDocument/2006/relationships/audio" Target="../media/Natureza%20-%20menu%20popup.wav"/><Relationship Id="rId6" Type="http://schemas.openxmlformats.org/officeDocument/2006/relationships/audio" Target="../media/Natureza%20-%20menu%20popup.wav"/><Relationship Id="rId7" Type="http://schemas.openxmlformats.org/officeDocument/2006/relationships/audio" Target="../media/Natureza%20-%20menu%20popup.wav"/><Relationship Id="rId8" Type="http://schemas.openxmlformats.org/officeDocument/2006/relationships/audio" Target="../media/Natureza%20-%20menu%20popup.wav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01560"/>
            <a:ext cx="8642160" cy="599616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Uma centena de perguntas sobre múltiplos assu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para você testar e enriquecer teus conhecimen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ccff"/>
                </a:solidFill>
                <a:latin typeface="Bookman Old Style"/>
              </a:rPr>
              <a:t>Todas contém quatro alternativas, sendo metade delas fáce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Você obterá a resposta ao clicar o ‘mous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em busca da pergunta segui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s respostas assinaladas com quadrículo ‘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ranco</a:t>
            </a: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’ denot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questões fáceis e as com ‘</a:t>
            </a:r>
            <a:r>
              <a:rPr b="0" lang="en-US" sz="1800" spc="-1" strike="noStrike">
                <a:solidFill>
                  <a:srgbClr val="ffff00"/>
                </a:solidFill>
                <a:latin typeface="Bookman Old Style"/>
              </a:rPr>
              <a:t>amarelo</a:t>
            </a: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’ não tão fáce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ccff"/>
                </a:solidFill>
                <a:latin typeface="Bookman Old Style"/>
              </a:rPr>
              <a:t>Tenha papel e caneta em tuas mãos para anota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i="1" lang="en-US" sz="1600" spc="-1" strike="noStrike">
                <a:solidFill>
                  <a:srgbClr val="663300"/>
                </a:solidFill>
                <a:latin typeface="Bookman Old Style"/>
              </a:rPr>
              <a:t>os teus acert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i="1" lang="en-US" sz="1600" spc="-1" strike="noStrike">
                <a:solidFill>
                  <a:srgbClr val="663300"/>
                </a:solidFill>
                <a:latin typeface="Bookman Old Style"/>
              </a:rPr>
              <a:t>e (se desejar) quantas ‘</a:t>
            </a:r>
            <a:r>
              <a:rPr b="0" i="1" lang="en-US" sz="1600" spc="-1" strike="noStrike">
                <a:solidFill>
                  <a:srgbClr val="ffff00"/>
                </a:solidFill>
                <a:latin typeface="Bookman Old Style"/>
              </a:rPr>
              <a:t>difíceis</a:t>
            </a:r>
            <a:r>
              <a:rPr b="0" i="1" lang="en-US" sz="1600" spc="-1" strike="noStrike">
                <a:solidFill>
                  <a:srgbClr val="663300"/>
                </a:solidFill>
                <a:latin typeface="Bookman Old Style"/>
              </a:rPr>
              <a:t>’ você acerto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</a:rPr>
              <a:t>VÁ EM FRENT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67. O atual Vietnã, como antes se chamav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Pérsia   B. Indochina   C. Ceilão   D. S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68. A atual Tailândia, como antes se chamav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Mesopotâmia   B. Indochina   C. Ceilão   D. S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42000" y="32241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69. O atual Sri Lanka, como antes se chamav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Pérsia   B. Ceilão   C. Zaire   D. Indo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2000" y="398304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70. A atual República Democrática do Congo, como antes se chamav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República do Nilo   B. Açores   C. África do Norte   D. Z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43840" y="474192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65. Qual é o antigo nome da cidade de São Paul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Bookman Old Style"/>
              </a:rPr>
              <a:t>A. Planalto Tupiniquim   B. S.Paulo de Piratininga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 C</a:t>
            </a:r>
            <a:r>
              <a:rPr b="0" lang="en-US" sz="1400" spc="-1" strike="noStrike">
                <a:solidFill>
                  <a:srgbClr val="333399"/>
                </a:solidFill>
                <a:latin typeface="Bookman Old Style"/>
              </a:rPr>
              <a:t>. S.Paulo do Sul   D. Planalto dos Bandeir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33440" y="93204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66. A cidade de Otawa, é capital de que paí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Canadá   B. Coréia do Norte   C. Mongólia   D. Tib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14520" y="16938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24160" y="24573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71. Como é atualmente chamado o país asiático: Birmân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Bookman Old Style"/>
              </a:rPr>
              <a:t>A. Mianmar   B. Cayman   C. Malásia   D. Cambo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508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72. Que nome tem a figura retratada no dinheir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efígie   B. cifrão   C. filigrana   D. esf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5100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75. Como se chamava a filha de Maomé‚ que se casou com Ali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Fátima   B. Aparecida   C. Rosemary   D. Su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76. Xifópagos, o que sã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Cosme &amp; Damião   B. os chibchas   C. irmãos siameses   D. os xii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068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77. Por que nome é conhecido o ‘fruto gêmeo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Abel &amp; Caim   B. albino   C. malvino   D. filipi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398304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78. Homo sapiens sapiens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</a:rPr>
              <a:t>A. o Homem atual   B. infecção da pele   C. sapos e rãs   D. a atual Homeopat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4520" y="474192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73. Que nome é dado ao papel-moeda que nunca circulou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Bookman Old Style"/>
              </a:rPr>
              <a:t>A. </a:t>
            </a:r>
            <a:r>
              <a:rPr b="0" lang="es-ES_tradnl" sz="1800" spc="-1" strike="noStrike">
                <a:solidFill>
                  <a:srgbClr val="333399"/>
                </a:solidFill>
                <a:latin typeface="Bookman Old Style"/>
              </a:rPr>
              <a:t>fiel   B. filigrana   C. flor-de-estampa   D. fidal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78280" y="93204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74. Heráldica, é o nome que se dá 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</a:rPr>
              <a:t>A. fuselagem do avião   B. cultura inglesa   C. ciência dos brasões   D. ópera gre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8152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44480" y="245736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79. Quem são os ‘barnabés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A. bóias-frias   B. funcionários públicos   C. fiscais da Fórmula-1   D. artistas circ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048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80. Macadame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A. espécie de andaime   B. noz alimentícia   C. calçamento de estradas   D. cenário de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5148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83. Diz o Adágio Popular: - Toda araruta tem seu dia de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branco   B. mingau   C. natal   D. caç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84. Diz o Axioma Popular: - Deus não mata mas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castiga   B. esquece   C. caçoa   D. ale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4488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85. Alvaiade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A. antiga poltrona   B. tipo de penteado   C. ouro ordinário   D. pigmento br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80000" y="398304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86. Benjoim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</a:rPr>
              <a:t>A. beijinho   B. bálsamo aromático   C. amendoim em casca   D. tomada elétr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7164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81. Diz o Dito Popular: - Barriga cheia goiaba tem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açúcar   B. mel   C. vento   D. bi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072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82. Diz o Refrão Popular: - Sapo de fora não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cala   B. assobia   C. coaxa   D. 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49920" y="16938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5296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87. Cimitarra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A. instrumento musical   B. balança de precisão   C. panela de barro   D. sabre ori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2800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88. Cremalheira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A. recheio de bolo   B. tipo de calçado   C. espécie de madeira   D. trilho den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0552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91. Titicaca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A. nome de um lago   B. fralda suja   C. excremento de aves   D. fêmea do tico-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92. Trema, Aspas e Asterisco, o que sã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os 3 Porquinhos   B. sinais de trânsito   C. sinais gráficos   D. os 3 Pate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6268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93. Xilofone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A. uma marimba   B. aparelho de fax   C. telefone sem fio   D. um medic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280" y="398304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94. O Ocapi, é um parente 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sardinha   B. foca   C. girafa   D. coru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1636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89. Liteira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99"/>
                </a:solidFill>
                <a:latin typeface="Bookman Old Style"/>
              </a:rPr>
              <a:t>A. móvel de vidro   B. antigo meio de transporte   C. vasilha para líquidos   D. tipo de chapé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39760" y="93204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90. Maravalhas, o que sã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663300"/>
                </a:solidFill>
                <a:latin typeface="Bookman Old Style"/>
              </a:rPr>
              <a:t>A. cracas do mar   B. lascas de madeira   C. poeiras cósmicas   D. barcos de pes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4144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608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95. O Onagro, é um parente 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camarão   B. cavalo   C. golfinho   D. papaga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50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96. Que nome damos ao filho de: pintassilgo com fêmea de canári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tiziu   B. pintarroxo   C. pintagol   D. albi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53000" y="6272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99. Que nome se dá à cruz que tem a forma de: 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de Sto.Antônio   B. Vermelha   C. de Malta   D. de Sto.Andr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00. Que nome se dá à cruz que tem a forma de: 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de Sto.Antônio   B. de Malta   C. de Lorena   D. de Sto.And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83160" y="322416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97. Que povo os espanhóis encontraram em Nova Granada (Am.Central), no séc.XVI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os caldeus   B. os fariseus   C. os pigmeus   D. os chib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5788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98. Precisamente, quantos bytes tem um Kiloby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1.000   B. 1.001   C. 1.024   D. 9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72160" y="16938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03240" y="24573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4437000"/>
            <a:ext cx="8664480" cy="22320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COTAÇÃ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de 0 a 20 acertos = FRA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de 21 a 50 = REG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de 51 a 80 = B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de 81 a 100 = ÓTIM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Bookman Old Style"/>
              </a:rPr>
              <a:t>Pesquisa e Formatação: AFC – S.Paulo - Set/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ookman Old Style"/>
              </a:rPr>
              <a:t>Fontes: Dicionário Aurélio, Internet e Arquivo pesso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ota: - Em março/2001 essas 100 perguntas e suas 4 alternativas, foram enviadas ao Show do Milhã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ertamente, a produção do programa e as Editoras do gênero ficaram bastante agradecidas por iss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132000" y="1557360"/>
            <a:ext cx="2924280" cy="381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vert"/>
    <p:sndAc>
      <p:stSnd>
        <p:snd r:embed="rId2" name="aplauso_SN00227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1. Para encurtar a distância entre dois lugares, deveremos rumar em lin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A. sinuosa   B. parabólica   C. curva   D. r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64280" y="9414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  <a:ea typeface="MS Mincho"/>
              </a:rPr>
              <a:t>2.Qual destes paises tem em sua bandeira uma estrela de 6 pontas - A Estrela de Dav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  <a:ea typeface="MS Mincho"/>
              </a:rPr>
              <a:t>A. Israel   B. Iraque   C. Japão   D. Argent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43000" y="1700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3. O taxidermista se ocupa 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A.consertar taxímetros B.curtimento de couro C.empresariar taxi-girls D.empalhamento de anim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86680" y="2457360"/>
            <a:ext cx="215640" cy="360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4. Como chamamos o animal que tem rabo curt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A. pitoco   B. pinóquio   C. pateta   D. pixox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9700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5. Que nome damos ao animal de chifres quando não os 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A. mocho   B. moço   C. mascate   D. masc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2160" y="398628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  <a:ea typeface="MS Mincho"/>
              </a:rPr>
              <a:t>6. A menor fração de um bilhete de loteria, como é popularmente conheci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  <a:ea typeface="MS Mincho"/>
              </a:rPr>
              <a:t>A. manuelino   B. manolita   C. unidade   D. gaspari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00640" y="474192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7. Nos tempos do Brasil Colônia, que nome os índios davam aos portugue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A. patrão   B. senhor   C. portuga   D. pê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85000" y="55134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8. Beneditinos são os frades da Ordem 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A. São Bento   B. São João Evangelista   C. São Miguel Arcanjo   D. São Bene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728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11. Quem são os coxas-branc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os manauaras   B. os paulistanos   C. os marajoaras   D. os curitibanos</a:t>
            </a:r>
            <a:r>
              <a:rPr b="0" lang="pt-BR" sz="1800" spc="-1" strike="noStrike">
                <a:solidFill>
                  <a:srgbClr val="333399"/>
                </a:solidFill>
                <a:latin typeface="Bookman Old Style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12. Que nome possuía o território que hoje é o Estado de Rondôn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Rio Brando   B. Rio Bravo   C. Mamoré   D. Guaporé</a:t>
            </a:r>
            <a:r>
              <a:rPr b="0" lang="pt-BR" sz="1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40320" y="322416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13. Ludovicense é quem nasce 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99"/>
                </a:solidFill>
                <a:latin typeface="Bookman Old Style"/>
              </a:rPr>
              <a:t>A. São Luís do Maranhão   B. São Luís de Paraitinga   C. Santana de Parnaíba   D. São Vic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0520" y="3986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14. O sericicultor se ocupa 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Bookman Old Style"/>
              </a:rPr>
              <a:t>A. criação de bichos-da-seda   B. extração da seringa   C. plantio de alfazemas   D. pesca de sir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684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15. Na gíria, que nome se dá ao ladrão que age a bordo de embarcaç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pirata   B. lalau   C. rana   D. mão-l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16. O kiwi, além de uma fruta, o que também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Bookman Old Style"/>
              </a:rPr>
              <a:t>A. rio do Sahara   B. ave da Nova Zelândia   C. peixe do rio Tamanduateí   D. bairro do Vatic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68480" y="6272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9. Que nome tem o natural ou habitante de Manaus, capital do Amazon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potiguar   B. manauara   C. marajoara   D. manaue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5104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10. Papa-goiabas são os habitantes do interior de qual Estado brasilei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Acre   B. Rio de Janeiro   C. Rondônia   D. Espírito S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7808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19. Que nome possuía o cavalo de Alexandre, o grand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Bucéfalo   B. Tranqueira   C. Molóide   D. Pun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20. Qual o nome da embarcação com que Amyr Klink cruzou o Atlântic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Titanic   B. Paraty   C. Santa Maria   D. Mayfl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260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21. O lema: ‘Um por todos, todos por um’ é d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99"/>
                </a:solidFill>
                <a:latin typeface="Bookman Old Style"/>
              </a:rPr>
              <a:t>A. Sobrinhos da Mônica   B. 3 Mosqueteiros   C. Chapolim Colorado   D. Seleção de Saldanh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3800" y="398628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22. O gracioso ‘golfinho’, também é conhecido p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delfim   B. sem-fim   C. cação   D. baleia-mi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0648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Bookman Old Style"/>
              </a:rPr>
              <a:t>17. Segundo a Bíblia, que alimento Deus mandou em forma de chuva aos israelitas no deserto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maná   B. toró   C. cacau   D.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95360" y="93204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18. Que nome tem o natural ou habitante do principado de Mônac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monarca   B. monegasco   C. monesco   D. mon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9412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54120" y="24573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23. Qual destas aves é a mais veloz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gavião-peregrino   B. avestruz   C. pelicano   D. beija-f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936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24. Numa empresa, que cargo ocupa o responsável pelo depósito de objetos e materia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motoboy   B. almoxarife   C. supervisor   D. caix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7840" y="627228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27. Diego Maradona, antes de se tornar conhecido em todo o mundo, era craque d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Argentinos Juniors   B. Corinthians   C. Real Madrid   D. Peña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8. Como, no Rio Grande do Sul, é chamada a ‘marmita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vianda   B. requentada   C. morcela   D. sort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8960" y="32241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29. O que são cúmulos-nimb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A. pedras preciosas  B. nuvens ameaçadoras  C. plantas carnívoras  D. fibras sinté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54240" y="3986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30. Anaconda é u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planta aquática   B. serpente   C. vitamina   D. líder polí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3320" y="474192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25. Qual destes índios saiu-se vencedor em eleições diretas no Rio de Janei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Guarani   B. Tupinambá   C. Juruna   D. Tamo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7828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</a:rPr>
              <a:t>26. Na gíria, como chamamos a pessoa que exerce a vigilância em casas de diversã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alcagüete   B. alcaide   C. leão-de-chácara   D. alfe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29000" y="16938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44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31. Segundo a Bíblia, o que foram: Cam, Sem e Jafe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A. rios sagrados   B. animais de estimação   C. cidades-fantasmas   D. filhos de No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352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2. O que são: Próclise, Ênclise e Mesóclis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A. pirâmides do Egito   B. filhas de Cleópatra   C. fenômenos de linguagem   D. tumores do céreb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35. A quem, Deus disse: ‘Lembra-te, ó homem, de que és pó e ao pó hás de voltar’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Menelau   B. Adão   C. Moisés   D. Galil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36. Quem é o autor da frase: ‘Meu Deus, meu Deus, por que me abandonaste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A. Saddam Hussein   B. Cristo   C. Benito Mussolini   D. Calíg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37. A quem Cristo disse: ‘Não me Toques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Maria Madalena   B. Esther   C. Verediana   D. Salom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1400" y="3986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38. ‘Fi-lo porque qui-lo’ era frase do repertório de qual político brasileir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Jânio Quadros   B. Borba Gato   C. Vicente Matheus   D. Santos Dumo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840" y="474192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33. Quem é o autor da frase: ‘Melhor acender uma vela que reclamar da escuridão’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Zagallo   B. Maria Bonita   C. Confúcio   D. Joana D’Ar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6400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34. FIAT LUX, palavras com que Deus criou o mundo, quer diz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Agora e Sempre   B. Força e Luz   C. Louve-se a Criação   D. Faça-se a lu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520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732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39. A qual esportista se atribui a frase: ‘Brasileiro não sabe votar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Bookman Old Style"/>
              </a:rPr>
              <a:t>A. Michael Jordan   B. Maguila   C. Pelé   D. Oscar Schmid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61000" y="55134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40. Da obra de Miguel de Cervantes, como se chamava o cavalo de Dom Quixot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Nó Cego   B. Bucéfalo   C. Rocinante   D. Guali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4500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43. Em certos lugares do Brasil, como é conhecido o ‘jogo de palitinhos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porrinha   B. carroção   C. tira um   D. suji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44. Além de ‘dunga’ como é também chamado o ‘curinga’, nos jogos de carta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sujo   B. melé   C. pingo   D. mand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9800" y="32241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45. No jogo de baralho chamado: Truco, como são conhecidas ‘as melhores cartas’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tesouros   B. manilhas   C. riquezas   D. ou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44960" y="398304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46. Que nome tem ‘a carta máxima’ no jogo de baralho chamado: Truc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Bookman Old Style"/>
              </a:rPr>
              <a:t>A. zápete   B. sota   C. curinga   D. dun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2408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41. Que time de futebol tem o nome de uma ave sagrada no Egito Antig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Pato Branco   B. Íbis   C. Uirapuru de Belém   D. União S.João de Ara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11400" y="932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42. Como era chamado o antigo automóvel conversível de duas port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Bookman Old Style"/>
              </a:rPr>
              <a:t>A. baratinha   B. sardinha em lata   C. limousine   D. camar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74600" y="169380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44480" y="2457360"/>
            <a:ext cx="25272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47. Nas cartas de jogar, como são chamadas as cartas que não são ‘figuras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cartas maiores   B. cartas brancas   C. curingas   D. lavadei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21040" y="55134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48. Como a ‘dama’ também é conhecida, nas cartas de jog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sota   B. rapariga   C. zápete   D. mado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93760" y="6272280"/>
            <a:ext cx="25272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51. Quantos metros de comprimento tem um ‘miriâmetro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10.000   B. 5.000   C. 1.500   D. 1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52. Diz o Dito Popular: - Morre o homem, fic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a fama   B. a viúva   C. a cama   D. a gr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612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53. Martelo, Estribo e Bigorna são ossinhos situados em que parte de nosso corp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dedos   B. ombros   C. joelhos   D. ouv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53160" y="3983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54. Morcela, o que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Bookman Old Style"/>
              </a:rPr>
              <a:t>A. pulga do morcego   B. eixo da manivela   C. pequena morsa   D. espécie de chour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35880" y="474192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49. Nas cartas do baralho comum, quantos dos 4 Reis, estão retratados de perfil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três   B. um   C. dois   D. nenh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03720" y="93204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50. Qual letra do alfabeto representa o Valete, no baralho comu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Q   b. K   c. J   d. 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07000" y="16938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97000" y="245736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55. Qual é o ingrediente principal para a fabricação do ‘chouriço’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vinha d'alho   B. sangue   C. torresmo   D. color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9800" y="551340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56. A ‘menta’ tem aroma e sabor semelha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ao kiwi   B. à hortelã   C. à framboesa   D. à ce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627228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467160" y="115920"/>
            <a:ext cx="21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Bookman Old Style"/>
                <a:ea typeface="MS Mincho"/>
              </a:rPr>
              <a:t>100 Pergun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20" y="213372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Bookman Old Style"/>
              </a:rPr>
              <a:t>59. Das Histórias em Quadrinhos, qual destes heróis fazia mágicas e ilusionismo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A. Superman   B. Tarzan   C. Mancha Negra   D. Mand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89548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Bookman Old Style"/>
              </a:rPr>
              <a:t>60. Das Aventuras de Tom &amp; Jerry, qual o nome do ratinho companheiro de Jerry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Bookman Old Style"/>
              </a:rPr>
              <a:t>A. Espeto   B. Pimentinha   C. Mowgli   D. Gede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70120" y="32241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365760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Bookman Old Style"/>
              </a:rPr>
              <a:t>61. Qual destes animais não tem dent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Bookman Old Style"/>
              </a:rPr>
              <a:t>A. tamanduá   B. bugio   C. quati   D. cer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4960" y="398304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41972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62. Qual destes animais é arborícola (vive nas árvores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capivara   B. lobo-guará   C. toupeira   D. mac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57960" y="474192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609480"/>
            <a:ext cx="8839080" cy="68580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57. Gibi, além de ser qualquer revista em quadrinhos, o que também é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Bookman Old Style"/>
              </a:rPr>
              <a:t>A. guri de cor negra   B. futebol americano   C. ilha do Pacífico   D. doce em cal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5680" y="93204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371600"/>
            <a:ext cx="8839080" cy="685800"/>
          </a:xfrm>
          <a:prstGeom prst="rect">
            <a:avLst/>
          </a:prstGeom>
          <a:solidFill>
            <a:srgbClr val="ffcc99">
              <a:alpha val="25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58. Na gíria, como é chamada a máquina para falsificar papel-moed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Bookman Old Style"/>
              </a:rPr>
              <a:t>A. gaita   B. rabecão   C. minerva   D. guit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15160" y="16938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3960" y="2457360"/>
            <a:ext cx="252360" cy="36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5181480"/>
            <a:ext cx="8839080" cy="685800"/>
          </a:xfrm>
          <a:prstGeom prst="rect">
            <a:avLst/>
          </a:prstGeom>
          <a:solidFill>
            <a:srgbClr val="bbe0e3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63. O cachorro late; o gato mia; o boi muge; a cobr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okman Old Style"/>
              </a:rPr>
              <a:t>A. silva   B. grunhe   C. bale   D. chir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24080" y="551340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943600"/>
            <a:ext cx="8839080" cy="685800"/>
          </a:xfrm>
          <a:prstGeom prst="rect">
            <a:avLst/>
          </a:prstGeom>
          <a:solidFill>
            <a:srgbClr val="c0c0c0">
              <a:alpha val="50000"/>
            </a:srgbClr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64. Que animal emite chirriad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. o chimpanzé   B. a girafa   C. o cisne   D. a cor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6272280"/>
            <a:ext cx="252360" cy="360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atureza%20-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20:39:55Z</dcterms:created>
  <dc:creator>AFC</dc:creator>
  <dc:description/>
  <dc:language>en-US</dc:language>
  <cp:lastModifiedBy>Usuario</cp:lastModifiedBy>
  <dcterms:modified xsi:type="dcterms:W3CDTF">2009-01-23T08:04:12Z</dcterms:modified>
  <cp:revision>80</cp:revision>
  <dc:subject/>
  <dc:title>100 Perguntas</dc:title>
</cp:coreProperties>
</file>