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Natureza%20-%20menu%20popup.wav" ContentType="audio/x-wav"/>
  <Override PartName="/ppt/media/image1.wmf" ContentType="image/x-wmf"/>
  <Override PartName="/ppt/media/aplauso_SN00227A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EAA-FF35-4FD7-ACBC-36F60F6E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BEF-D242-490C-8849-E5A12FCC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57F-185A-4070-A1A5-4E919227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09D-AA89-480F-8D8D-708FF9F7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63D-A8C7-4287-B2A9-F25DC042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F79-EA6A-4FB0-B558-E89A311D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369-7D0F-4CA5-9F96-1BCA9D5A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9B1-3B5C-4FD8-BD52-108B5853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2BDC-F87A-49C0-AA3A-6C6F3D0D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666-3B3F-4B30-A30C-04A74C70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3F4-50D1-4C8A-ADF5-C372AF6D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D3F-096B-4C08-9410-B2C759EB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C38E-52E2-4D0E-A5F0-FDBEDB5F91C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lauso_SN00227A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601560"/>
            <a:ext cx="8642160" cy="599616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Uma centena de perguntas sobre múltiplos assu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para você testar e enriquecer teus conhecime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ccff"/>
                </a:solidFill>
                <a:latin typeface="Bookman Old Style"/>
              </a:rPr>
              <a:t>Todas contém quatro alternativas, sendo metade delas fáce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Você obterá a resposta ao clicar o ‘mous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em busca da pergunta segui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s respostas assinaladas com quadrículo ‘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branco</a:t>
            </a: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’ denot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questões fáceis e as com ‘</a:t>
            </a:r>
            <a:r>
              <a:rPr b="0" lang="en-US" sz="1800" spc="-1" strike="noStrike">
                <a:solidFill>
                  <a:srgbClr val="ffff00"/>
                </a:solidFill>
                <a:latin typeface="Bookman Old Style"/>
              </a:rPr>
              <a:t>amarelo</a:t>
            </a: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’ não tão fáce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ccff"/>
                </a:solidFill>
                <a:latin typeface="Bookman Old Style"/>
              </a:rPr>
              <a:t>Tenha papel e caneta em tuas mãos para anota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0" i="1" lang="en-US" sz="1600" spc="-1" strike="noStrike">
                <a:solidFill>
                  <a:srgbClr val="663300"/>
                </a:solidFill>
                <a:latin typeface="Bookman Old Style"/>
              </a:rPr>
              <a:t>os teus acerto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0" i="1" lang="en-US" sz="1600" spc="-1" strike="noStrike">
                <a:solidFill>
                  <a:srgbClr val="663300"/>
                </a:solidFill>
                <a:latin typeface="Bookman Old Style"/>
              </a:rPr>
              <a:t>e (se desejar) quantas ‘</a:t>
            </a:r>
            <a:r>
              <a:rPr b="0" i="1" lang="en-US" sz="1600" spc="-1" strike="noStrike">
                <a:solidFill>
                  <a:srgbClr val="ffff00"/>
                </a:solidFill>
                <a:latin typeface="Bookman Old Style"/>
              </a:rPr>
              <a:t>difíceis</a:t>
            </a:r>
            <a:r>
              <a:rPr b="0" i="1" lang="en-US" sz="1600" spc="-1" strike="noStrike">
                <a:solidFill>
                  <a:srgbClr val="663300"/>
                </a:solidFill>
                <a:latin typeface="Bookman Old Style"/>
              </a:rPr>
              <a:t>’ você acerto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</a:rPr>
              <a:t>VÁ EM FRENT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67. O atual Vietnã, como antes se chamav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Pérsia   B. Indochina   C. Ceilão   D. S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68. A atual Tailândia, como antes se chamav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Mesopotâmia   B. Indochina   C. Ceilão   D. S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42000" y="322416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69. O atual Sri Lanka, como antes se chamav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Pérsia   B. Ceilão   C. Zaire   D. Indo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2000" y="398304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70. A atual República Democrática do Congo, como antes se chamav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A. República do Nilo   B. Açores   C. África do Norte   D. Z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43840" y="474192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65. Qual é o antigo nome da cidade de São Paul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Bookman Old Style"/>
              </a:rPr>
              <a:t>A. Planalto Tupiniquim   B. S.Paulo de Piratininga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 C</a:t>
            </a:r>
            <a:r>
              <a:rPr b="0" lang="en-US" sz="1400" spc="-1" strike="noStrike">
                <a:solidFill>
                  <a:srgbClr val="333399"/>
                </a:solidFill>
                <a:latin typeface="Bookman Old Style"/>
              </a:rPr>
              <a:t>. S.Paulo do Sul   D. Planalto dos Bandeir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33440" y="932040"/>
            <a:ext cx="25272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66. A cidade de Otawa, é capital de que paí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A. Canadá   B. Coréia do Norte   C. Mongólia   D. Tib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14520" y="16938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24160" y="245736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71. Como é atualmente chamado o país asiático: Birmâni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Bookman Old Style"/>
              </a:rPr>
              <a:t>A. Mianmar   B. Cayman   C. Malásia   D. Cambo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50880" y="55134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72. Que nome tem a figura retratada no dinheir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efígie   B. cifrão   C. filigrana   D. esf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51000" y="627228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75. Como se chamava a filha de Maomé‚ que se casou com Ali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Fátima   B. Aparecida   C. Rosemary   D. Su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76. Xifópagos, o que sã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Cosme &amp; Damião   B. os chibchas   C. irmãos siameses   D. os xi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0680" y="32241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77. Por que nome é conhecido o ‘fruto gêmeo’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Abel &amp; Caim   B. albino   C. malvino   D. filipin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398304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78. Homo sapiens sapiens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Bookman Old Style"/>
              </a:rPr>
              <a:t>A. o Homem atual   B. infecção da pele   C. sapos e rãs   D. a atual Homeopat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4520" y="474192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73. Que nome é dado ao papel-moeda que nunca circulou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Bookman Old Style"/>
              </a:rPr>
              <a:t>A. </a:t>
            </a:r>
            <a:r>
              <a:rPr b="0" lang="es-ES_tradnl" sz="1800" spc="-1" strike="noStrike">
                <a:solidFill>
                  <a:srgbClr val="333399"/>
                </a:solidFill>
                <a:latin typeface="Bookman Old Style"/>
              </a:rPr>
              <a:t>fiel   B. filigrana   C. flor-de-estampa   D. fidal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78280" y="93204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74. Heráldica, é o nome que se dá 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Bookman Old Style"/>
              </a:rPr>
              <a:t>A. fuselagem do avião   B. cultura inglesa   C. ciência dos brasões   D. ópera gre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81520" y="16938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44480" y="245736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79. Quem são os ‘barnabés’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A. bóias-frias   B. funcionários públicos   C. fiscais da Fórmula-1   D. artistas circe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04880" y="55134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80. Macadame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A. espécie de andaime   B. noz alimentícia   C. calçamento de estradas   D. cenário de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51480" y="627228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83. Diz o Adágio Popular: - Toda araruta tem seu dia de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branco   B. mingau   C. natal   D. caç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84. Diz o Axioma Popular: - Deus não mata mas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castiga   B. esquece   C. caçoa   D. ale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44880" y="32241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85. Alvaiade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A. antiga poltrona   B. tipo de penteado   C. ouro ordinário   D. pigmento bra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80000" y="398304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86. Benjoim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Bookman Old Style"/>
              </a:rPr>
              <a:t>A. beijinho   B. bálsamo aromático   C. amendoim em casca   D. tomada elétr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71640" y="474192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81. Diz o Dito Popular: - Barriga cheia goiaba tem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açúcar   B. mel   C. vento   D. bi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70720" y="93204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82. Diz o Refrão Popular: - Sapo de fora não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A. cala   B. assobia   C. coaxa   D. 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49920" y="16938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52960" y="24573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87. Cimitarra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A. instrumento musical   B. balança de precisão   C. panela de barro   D. sabre ori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28000" y="55134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88. Cremalheira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A. recheio de bolo   B. tipo de calçado   C. espécie de madeira   D. trilho den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05520" y="627228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91. Titicaca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Bookman Old Style"/>
              </a:rPr>
              <a:t>A. nome de um lago   B. fralda suja   C. excremento de aves   D. fêmea do tico-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92. Trema, Aspas e Asterisco, o que sã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os 3 Porquinhos   B. sinais de trânsito   C. sinais gráficos   D. os 3 Pate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62680" y="32241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93. Xilofone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Bookman Old Style"/>
              </a:rPr>
              <a:t>A. uma marimba   B. aparelho de fax   C. telefone sem fio   D. um medic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280" y="398304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94. O Ocapi, é um parente d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A. sardinha   B. foca   C. girafa   D. coru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16360" y="474192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89. Liteira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99"/>
                </a:solidFill>
                <a:latin typeface="Bookman Old Style"/>
              </a:rPr>
              <a:t>A. móvel de vidro   B. antigo meio de transporte   C. vasilha para líquidos   D. tipo de chapé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39760" y="932040"/>
            <a:ext cx="25272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90. Maravalhas, o que sã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3300"/>
                </a:solidFill>
                <a:latin typeface="Bookman Old Style"/>
              </a:rPr>
              <a:t>A. cracas do mar   B. lascas de madeira   C. poeiras cósmicas   D. barcos de pes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41440" y="16938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6080" y="24573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95. O Onagro, é um parente 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camarão   B. cavalo   C. golfinho   D. papaga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5080" y="55134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96. Que nome damos ao filho de: pintassilgo com fêmea de canári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tiziu   B. pintarroxo   C. pintagol   D. albi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53000" y="627228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99. Que nome se dá à cruz que tem a forma de: 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de Sto.Antônio   B. Vermelha   C. de Malta   D. de Sto.Andr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00. Que nome se dá à cruz que tem a forma de: X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de Sto.Antônio   B. de Malta   C. de Lorena   D. de Sto.And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83160" y="322416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Bookman Old Style"/>
              </a:rPr>
              <a:t>97. Que povo os espanhóis encontraram em Nova Granada (Am.Central), no séc.XVI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os caldeus   B. os fariseus   C. os pigmeus   D. os chibc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57880" y="93204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98. Precisamente, quantos bytes tem um Kiloby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A. 1.000   B. 1.001   C. 1.024   D. 99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72160" y="16938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03240" y="245736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4437000"/>
            <a:ext cx="8664480" cy="22320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man Old Style"/>
              </a:rPr>
              <a:t>COTAÇÃ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man Old Style"/>
              </a:rPr>
              <a:t>de 0 a 20 acertos = FRA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man Old Style"/>
              </a:rPr>
              <a:t>de 21 a 50 = REG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man Old Style"/>
              </a:rPr>
              <a:t>de 51 a 80 = B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man Old Style"/>
              </a:rPr>
              <a:t>de 81 a 100 = ÓTIM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Bookman Old Style"/>
              </a:rPr>
              <a:t>Pesquisa e Formatação: AFC – S.Paulo - Set/20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man Old Style"/>
              </a:rPr>
              <a:t>Fontes: Dicionário Aurélio, Internet e Arquivo pesso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ota: - Em março/2001 essas 100 perguntas e suas 4 alternativas, foram enviadas ao Show do Milhã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ertamente, a produção do programa e as Editoras do gênero ficaram bastante agradecidas por iss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132000" y="1557360"/>
            <a:ext cx="2924280" cy="3816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Bar dir="vert"/>
    <p:sndAc>
      <p:stSnd>
        <p:snd r:embed="rId2" name="aplauso_SN00227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1. Para encurtar a distância entre dois lugares, deveremos rumar em lin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A. sinuosa   B. parabólica   C. curva   D. re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64280" y="9414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Bookman Old Style"/>
                <a:ea typeface="MS Mincho"/>
              </a:rPr>
              <a:t>2.Qual destes paises tem em sua bandeira uma estrela de 6 pontas - A Estrela de Dav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  <a:ea typeface="MS Mincho"/>
              </a:rPr>
              <a:t>A. Israel   B. Iraque   C. Japão   D. Argent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43000" y="170028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3. O taxidermista se ocupa 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A.consertar taxímetros B.curtimento de couro C.empresariar taxi-girls D.empalhamento de anim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86680" y="2457360"/>
            <a:ext cx="215640" cy="360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4. Como chamamos o animal que tem rabo curt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A. pitoco   B. pinóquio   C. pateta   D. pixox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97000" y="32241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5. Que nome damos ao animal de chifres quando não os t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A. mocho   B. moço   C. mascate   D. masc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92160" y="398628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  <a:ea typeface="MS Mincho"/>
              </a:rPr>
              <a:t>6. A menor fração de um bilhete de loteria, como é popularmente conheci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  <a:ea typeface="MS Mincho"/>
              </a:rPr>
              <a:t>A. manuelino   B. manolita   C. unidade   D. gaspari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00640" y="474192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7. Nos tempos do Brasil Colônia, que nome os índios davam aos portugue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A. patrão   B. senhor   C. portuga   D. pê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85000" y="55134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8. Beneditinos são os frades da Ordem 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A. São Bento   B. São João Evangelista   C. São Miguel Arcanjo   D. São Bene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7280" y="627228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11. Quem são os coxas-branca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os manauaras   B. os paulistanos   C. os marajoaras   D. os curitibanos</a:t>
            </a:r>
            <a:r>
              <a:rPr b="0" lang="pt-BR" sz="18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12. Que nome possuía o território que hoje é o Estado de Rondôn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Rio Brando   B. Rio Bravo   C. Mamoré   D. Guaporé</a:t>
            </a:r>
            <a:r>
              <a:rPr b="0" lang="pt-BR" sz="1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40320" y="322416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13. Ludovicense é quem nasce 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99"/>
                </a:solidFill>
                <a:latin typeface="Bookman Old Style"/>
              </a:rPr>
              <a:t>A. São Luís do Maranhão   B. São Luís de Paraitinga   C. Santana de Parnaíba   D. São Vic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0520" y="398628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14. O sericicultor se ocupa d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Bookman Old Style"/>
              </a:rPr>
              <a:t>A. criação de bichos-da-seda   B. extração da seringa   C. plantio de alfazemas   D. pesca de sir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6840" y="474192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15. Na gíria, que nome se dá ao ladrão que age a bordo de embarcaçã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pirata   B. lalau   C. rana   D. mão-l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55134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16. O kiwi, além de uma fruta, o que também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Bookman Old Style"/>
              </a:rPr>
              <a:t>A. rio do Sahara   B. ave da Nova Zelândia   C. peixe do rio Tamanduateí   D. bairro do Vatic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68480" y="627228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9. Que nome tem o natural ou habitante de Manaus, capital do Amazon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potiguar   B. manauara   C. marajoara   D. manaue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51040" y="93204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10. Papa-goiabas são os habitantes do interior de qual Estado brasilei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A. Acre   B. Rio de Janeiro   C. Rondônia   D. Espírito Sa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78080" y="16938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24573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19. Que nome possuía o cavalo de Alexandre, o grand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Bucéfalo   B. Tranqueira   C. Molóide   D. Pun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20. Qual o nome da embarcação com que Amyr Klink cruzou o Atlântic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Titanic   B. Paraty   C. Santa Maria   D. Mayfl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2600" y="32241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21. O lema: ‘Um por todos, todos por um’ é d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99"/>
                </a:solidFill>
                <a:latin typeface="Bookman Old Style"/>
              </a:rPr>
              <a:t>A. Sobrinhos da Mônica   B. 3 Mosqueteiros   C. Chapolim Colorado   D. Seleção de Saldanh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3800" y="3986280"/>
            <a:ext cx="25272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22. O gracioso ‘golfinho’, também é conhecido p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A. delfim   B. sem-fim   C. cação   D. baleia-mi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06480" y="474192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Bookman Old Style"/>
              </a:rPr>
              <a:t>17. Segundo a Bíblia, que alimento Deus mandou em forma de chuva aos israelitas no deserto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maná   B. toró   C. cacau   D.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95360" y="932040"/>
            <a:ext cx="25272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18. Que nome tem o natural ou habitante do principado de Mônac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A. monarca   B. monegasco   C. monesco   D. mon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94120" y="16938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54120" y="245736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23. Qual destas aves é a mais veloz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gavião-peregrino   B. avestruz   C. pelicano   D. beija-f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93680" y="55134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24. Numa empresa, que cargo ocupa o responsável pelo depósito de objetos e materia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motoboy   B. almoxarife   C. supervisor   D. caix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7840" y="6272280"/>
            <a:ext cx="25272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Bookman Old Style"/>
              </a:rPr>
              <a:t>27. Diego Maradona, antes de se tornar conhecido em todo o mundo, era craque d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Argentinos Juniors   B. Corinthians   C. Real Madrid   D. Peña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28. Como, no Rio Grande do Sul, é chamada a ‘marmita’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vianda   B. requentada   C. morcela   D. sort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8960" y="322416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29. O que são cúmulos-nimbo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A. pedras preciosas  B. nuvens ameaçadoras  C. plantas carnívoras  D. fibras sinté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54240" y="398628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30. Anaconda é um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A. planta aquática   B. serpente   C. vitamina   D. líder polí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3320" y="474192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Bookman Old Style"/>
              </a:rPr>
              <a:t>25. Qual destes índios saiu-se vencedor em eleições diretas no Rio de Janei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Guarani   B. Tupinambá   C. Juruna   D. Tamo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78280" y="93204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Bookman Old Style"/>
              </a:rPr>
              <a:t>26. Na gíria, como chamamos a pessoa que exerce a vigilância em casas de diversã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A. alcagüete   B. alcaide   C. leão-de-chácara   D. alfe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29000" y="16938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440" y="24573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31. Segundo a Bíblia, o que foram: Cam, Sem e Jafe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Bookman Old Style"/>
              </a:rPr>
              <a:t>A. rios sagrados   B. animais de estimação   C. cidades-fantasmas   D. filhos de No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3520" y="55134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32. O que são: Próclise, Ênclise e Mesóclis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A. pirâmides do Egito   B. filhas de Cleópatra   C. fenômenos de linguagem   D. tumores do céreb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627228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Bookman Old Style"/>
              </a:rPr>
              <a:t>35. A quem, Deus disse: ‘Lembra-te, ó homem, de que és pó e ao pó hás de voltar’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Menelau   B. Adão   C. Moisés   D. Galil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36. Quem é o autor da frase: ‘Meu Deus, meu Deus, por que me abandonaste’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A. Saddam Hussein   B. Cristo   C. Benito Mussolini   D. Calíg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32241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37. A quem Cristo disse: ‘Não me Toques’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Maria Madalena   B. Esther   C. Verediana   D. Salom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1400" y="398628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38. ‘Fi-lo porque qui-lo’ era frase do repertório de qual político brasileir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A. Jânio Quadros   B. Borba Gato   C. Vicente Matheus   D. Santos Dumo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840" y="474192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33. Quem é o autor da frase: ‘Melhor acender uma vela que reclamar da escuridão’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Zagallo   B. Maria Bonita   C. Confúcio   D. Joana D’Ar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64000" y="93204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34. FIAT LUX, palavras com que Deus criou o mundo, quer diz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A. Agora e Sempre   B. Força e Luz   C. Louve-se a Criação   D. Faça-se a lu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45200" y="16938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7320" y="24573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39. A qual esportista se atribui a frase: ‘Brasileiro não sabe votar’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Bookman Old Style"/>
              </a:rPr>
              <a:t>A. Michael Jordan   B. Maguila   C. Pelé   D. Oscar Schmid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61000" y="55134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40. Da obra de Miguel de Cervantes, como se chamava o cavalo de Dom Quixot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Nó Cego   B. Bucéfalo   C. Rocinante   D. Guali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45000" y="627228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43. Em certos lugares do Brasil, como é conhecido o ‘jogo de palitinhos’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porrinha   B. carroção   C. tira um   D. sujin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44. Além de ‘dunga’ como é também chamado o ‘curinga’, nos jogos de carta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sujo   B. melé   C. pingo   D. mand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49800" y="322416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45. No jogo de baralho chamado: Truco, como são conhecidas ‘as melhores cartas’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tesouros   B. manilhas   C. riquezas   D. ou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44960" y="398304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46. Que nome tem ‘a carta máxima’ no jogo de baralho chamado: Truc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3300"/>
                </a:solidFill>
                <a:latin typeface="Bookman Old Style"/>
              </a:rPr>
              <a:t>A. zápete   B. sota   C. curinga   D. dun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24080" y="474192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41. Que time de futebol tem o nome de uma ave sagrada no Egito Antig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Pato Branco   B. Íbis   C. Uirapuru de Belém   D. União S.João de Ara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11400" y="93204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42. Como era chamado o antigo automóvel conversível de duas porta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A. baratinha   B. sardinha em lata   C. limousine   D. camar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74600" y="1693800"/>
            <a:ext cx="25272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44480" y="245736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47. Nas cartas de jogar, como são chamadas as cartas que não são ‘figuras’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cartas maiores   B. cartas brancas   C. curingas   D. lavadei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21040" y="55134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48. Como a ‘dama’ também é conhecida, nas cartas de jog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sota   B. rapariga   C. zápete   D. mado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93760" y="6272280"/>
            <a:ext cx="25272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51. Quantos metros de comprimento tem um ‘miriâmetro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10.000   B. 5.000   C. 1.500   D. 1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52. Diz o Dito Popular: - Morre o homem, fica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a fama   B. a viúva   C. a cama   D. a gr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6120" y="32241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53. Martelo, Estribo e Bigorna são ossinhos situados em que parte de nosso corp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dedos   B. ombros   C. joelhos   D. ouv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53160" y="398304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54. Morcela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Bookman Old Style"/>
              </a:rPr>
              <a:t>A. pulga do morcego   B. eixo da manivela   C. pequena morsa   D. espécie de chouriç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35880" y="474192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49. Nas cartas do baralho comum, quantos dos 4 Reis, estão retratados de perfil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três   B. um   C. dois   D. nenh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03720" y="93204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50. Qual letra do alfabeto representa o Valete, no baralho comu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Q   b. K   c. J   d.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07000" y="16938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97000" y="245736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55. Qual é o ingrediente principal para a fabricação do ‘chouriço’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vinha d'alho   B. sangue   C. torresmo   D. color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9800" y="55134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56. A ‘menta’ tem aroma e sabor semelha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ao kiwi   B. à hortelã   C. à framboesa   D. à ce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627228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Bookman Old Style"/>
              </a:rPr>
              <a:t>59. Das Histórias em Quadrinhos, qual destes heróis fazia mágicas e ilusionismo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Superman   B. Tarzan   C. Mancha Negra   D. Mandr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60. Das Aventuras de Tom &amp; Jerry, qual o nome do ratinho companheiro de Jerry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Espeto   B. Pimentinha   C. Mowgli   D. Gede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70120" y="32241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61. Qual destes animais não tem dent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Bookman Old Style"/>
              </a:rPr>
              <a:t>A. tamanduá   B. bugio   C. quati   D. cer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4960" y="398304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62. Qual destes animais é arborícola (vive nas árvores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A. capivara   B. lobo-guará   C. toupeira   D. mac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57960" y="474192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57. Gibi, além de ser qualquer revista em quadrinhos, o que também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A. guri de cor negra   B. futebol americano   C. ilha do Pacífico   D. doce em cal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5680" y="93204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58. Na gíria, como é chamada a máquina para falsificar papel-moed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A. gaita   B. rabecão   C. minerva   D. guit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15160" y="16938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3960" y="24573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63. O cachorro late; o gato mia; o boi muge; a cobra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silva   B. grunhe   C. bale   D. chir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24080" y="55134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64. Que animal emite chirriado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o chimpanzé   B. a girafa   C. o cisne   D. a coru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627228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20:39:55Z</dcterms:created>
  <dc:creator>AFC</dc:creator>
  <dc:description/>
  <dc:language>en-US</dc:language>
  <cp:lastModifiedBy>Usuario</cp:lastModifiedBy>
  <dcterms:modified xsi:type="dcterms:W3CDTF">2009-01-23T08:04:12Z</dcterms:modified>
  <cp:revision>80</cp:revision>
  <dc:subject/>
  <dc:title>100 Perguntas</dc:title>
</cp:coreProperties>
</file>