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93F2-5E43-41D8-96B9-BEE17655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E8F7-36B4-4ED0-BD7D-8E444D97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AC19-F3B4-48C6-8835-5B3D6C65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384C-0783-48B0-9ABF-52449E99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1767-1749-4708-AD99-D2726447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118A-1D7A-4B55-B141-EB6EA229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C822-0B10-4F77-86D8-98EC56E3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AA73-1768-4811-8651-2C595485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76CB-65E3-44A1-A9D6-F123F978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2FB4-1BF2-4500-88F8-C8116C94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5E72-986F-4343-B6EC-22908D2E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9718-7E03-4B25-A78D-680F234A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BCD9-BBEC-4F69-B8D4-1C7FC837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A431-CFA2-4C4B-9A79-CC199018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D67-16E2-4F4B-A44B-83819F05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9631-51A0-4038-8148-9FDCBE7A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7CFA-ADCC-4DB6-AFD2-37E94DE0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59C1-1588-4946-B412-1433C445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1D30-73C7-41E4-BF3C-0F9BB1B9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3520-C454-4311-AA7B-85E0B746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7878-2A69-4ACE-AB22-61227CD2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3CB5-EA9F-4AA9-BC8D-A24BB16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364E-EE94-4905-84AF-5255D545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D765-F0E4-463B-BE8F-5584B3BC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8CA7-2D64-4866-A39D-92507876D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18FA-F277-4245-AAAD-29D1D46A1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300" spc="-1" strike="noStrike">
                <a:solidFill>
                  <a:srgbClr val="ffffff"/>
                </a:solidFill>
                <a:latin typeface="Arial"/>
              </a:rPr>
              <a:t>Firmele de simulare a afacerilor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6390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47712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6294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172200" cy="57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01992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ADA 7 (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IŢIAL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luarea fiecărei firme particip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ainte de pregătirea decizi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primul an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632448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09588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601956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791320" cy="58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1981080"/>
          <a:ext cx="6369120" cy="3886200"/>
        </p:xfrm>
        <a:graphic>
          <a:graphicData uri="http://schemas.openxmlformats.org/drawingml/2006/table">
            <a:tbl>
              <a:tblPr/>
              <a:tblGrid>
                <a:gridCol w="216000"/>
                <a:gridCol w="6153120"/>
              </a:tblGrid>
              <a:tr h="1943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73" descr="TimisoaraJournalEcs_MODIF_1susCenter_300.jpg"/>
          <p:cNvPicPr/>
          <p:nvPr/>
        </p:nvPicPr>
        <p:blipFill>
          <a:blip r:embed="rId1"/>
          <a:stretch/>
        </p:blipFill>
        <p:spPr>
          <a:xfrm>
            <a:off x="0" y="1447920"/>
            <a:ext cx="8458200" cy="207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1905120" cy="154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"/>
          <p:cNvPicPr/>
          <p:nvPr/>
        </p:nvPicPr>
        <p:blipFill>
          <a:blip r:embed="rId3"/>
          <a:stretch/>
        </p:blipFill>
        <p:spPr>
          <a:xfrm>
            <a:off x="2666880" y="4038480"/>
            <a:ext cx="594360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24852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715000" cy="57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17220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24852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17220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47712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3432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62012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0572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09588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248520" cy="57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ADA 8 (URM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AR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upă luarea deciziei de că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iecare firmă participantă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ECIZIILE FIECĂREI FI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(SE IAU SEPARAT, IAR FIE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IRMĂ ARE ACCES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RAPORTUL DE PIAŢ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1992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79096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32448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32484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391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01992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553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85800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9339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47712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01956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94360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57200" y="198360"/>
            <a:ext cx="868680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246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5-17T04:11:4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