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452-4200-4127-93AC-B4E55A8B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A54-D8E0-4337-9467-E611250A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BD4-5C4C-4F62-AE37-54D41E80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014-EC2B-4FC4-8558-2EA4D6CB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64A4-F88F-4DFB-813B-F57BB40D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83F9-EDCD-44CD-9BD8-8ABD6454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3046-9E83-400F-94BE-11ECB9B2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E854-F2B9-459E-8957-72539B58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61CE-2A2F-46F9-8747-A9D682FA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10C4-F835-4D28-B0C4-50D95672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8827-151F-4A7A-B78D-28E6EECD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84A-5947-4AD7-937E-03B1A246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1D84-65BC-4C44-BCC7-231FA232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75CF-821F-4C48-B71C-1303B511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3AC9-DD64-4DE3-8699-36B55720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5033-6550-494C-8177-ECB1CE6F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1A25-DB94-4636-A641-CC1166BD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DBD-1211-43BF-90C0-8D557B46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581-A06E-441F-BA77-E5A0A1C9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CE5-7CD0-456B-998A-D526BC1A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A78-06FE-4DAA-90E0-6B55F86A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3B3-F88E-4D92-A20C-E21714C8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DC7-DBD4-45F6-95C1-37FE128C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7B9-7300-4486-B71B-ED144160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1800" cy="12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388F-DA14-40ED-976C-1B0E4D6A75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066680"/>
            <a:chOff x="8153280" y="152280"/>
            <a:chExt cx="792000" cy="10666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290520"/>
              <a:ext cx="11988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290520"/>
              <a:ext cx="11988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290520"/>
              <a:ext cx="11988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290520"/>
              <a:ext cx="11988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28760"/>
              <a:ext cx="11988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28760"/>
              <a:ext cx="11988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28760"/>
              <a:ext cx="11988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28760"/>
              <a:ext cx="11988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28760"/>
              <a:ext cx="11988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567360"/>
              <a:ext cx="119880" cy="9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567360"/>
              <a:ext cx="11988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567360"/>
              <a:ext cx="11988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567360"/>
              <a:ext cx="11988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705600"/>
              <a:ext cx="11988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705600"/>
              <a:ext cx="11988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705600"/>
              <a:ext cx="11988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705600"/>
              <a:ext cx="11988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705600"/>
              <a:ext cx="119880" cy="98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843840"/>
              <a:ext cx="119880" cy="9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843840"/>
              <a:ext cx="11988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843840"/>
              <a:ext cx="119880" cy="9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843840"/>
              <a:ext cx="119880" cy="98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982440"/>
              <a:ext cx="119880" cy="98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982440"/>
              <a:ext cx="119880" cy="98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982440"/>
              <a:ext cx="119880" cy="98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982440"/>
              <a:ext cx="119880" cy="98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120680"/>
              <a:ext cx="119880" cy="98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120680"/>
              <a:ext cx="119880" cy="98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5899-8D1A-41B7-A4C0-74D6967EDA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Line Cod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ne coding is the process of converting binary data, a sequence of bits to a digital signal. For example data, text, numbers, graphical images, audio and video that are stored in computer memory are all sequences of bits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pping of binary information sequence into the digital signal that enters the chann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. “1” maps to +A square pulse; “0” to –A pul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ne code selected to meet system requiremen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mitted pow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Power consumption = $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im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Transitions in signal help timing recov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Excessive transitions wastes b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Some channels block low frequen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periods of +A or of –A causes signal to “droo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form should not have low-frequency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tec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Ability to detect errors hel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mplexity/cos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Is code implementable in chip at high spe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2440" y="333360"/>
            <a:ext cx="852156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00"/>
                </a:solidFill>
                <a:latin typeface="Times New Roman"/>
              </a:rPr>
              <a:t>Line 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R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 = low level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 = high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 = low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 = transition from low to high at the beginning of the interv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ransition from high to low 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i-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nchester 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 = transition from high to low in middle of bit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 = transition from low to high in middle of bit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or vice ver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0 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1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lso known as a self-clocking c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451640" y="3860640"/>
            <a:ext cx="609840" cy="762120"/>
            <a:chOff x="7451640" y="3860640"/>
            <a:chExt cx="609840" cy="762120"/>
          </a:xfrm>
        </p:grpSpPr>
        <p:grpSp>
          <p:nvGrpSpPr>
            <p:cNvPr id="152" name=""/>
            <p:cNvGrpSpPr/>
            <p:nvPr/>
          </p:nvGrpSpPr>
          <p:grpSpPr>
            <a:xfrm>
              <a:off x="7451640" y="3860640"/>
              <a:ext cx="609840" cy="304920"/>
              <a:chOff x="7451640" y="3860640"/>
              <a:chExt cx="609840" cy="304920"/>
            </a:xfrm>
          </p:grpSpPr>
          <p:sp>
            <p:nvSpPr>
              <p:cNvPr id="153" name=""/>
              <p:cNvSpPr/>
              <p:nvPr/>
            </p:nvSpPr>
            <p:spPr>
              <a:xfrm>
                <a:off x="7451640" y="3860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56560" y="386064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56560" y="41655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451640" y="4317480"/>
              <a:ext cx="609840" cy="305280"/>
              <a:chOff x="7451640" y="4317480"/>
              <a:chExt cx="609840" cy="305280"/>
            </a:xfrm>
          </p:grpSpPr>
          <p:sp>
            <p:nvSpPr>
              <p:cNvPr id="157" name=""/>
              <p:cNvSpPr/>
              <p:nvPr/>
            </p:nvSpPr>
            <p:spPr>
              <a:xfrm>
                <a:off x="7451640" y="4622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756560" y="4317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756560" y="4317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692360" y="5157720"/>
            <a:ext cx="1409400" cy="939960"/>
            <a:chOff x="1692360" y="5157720"/>
            <a:chExt cx="1409400" cy="939960"/>
          </a:xfrm>
        </p:grpSpPr>
        <p:sp>
          <p:nvSpPr>
            <p:cNvPr id="161" name=""/>
            <p:cNvSpPr/>
            <p:nvPr/>
          </p:nvSpPr>
          <p:spPr>
            <a:xfrm>
              <a:off x="1711800" y="523512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1640" y="5235120"/>
              <a:ext cx="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51640" y="554544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390760" y="5234760"/>
              <a:ext cx="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90760" y="523512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30600" y="5235120"/>
              <a:ext cx="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30600" y="5545440"/>
              <a:ext cx="37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92360" y="5157720"/>
              <a:ext cx="0" cy="697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6520" y="5157720"/>
              <a:ext cx="0" cy="697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01760" y="5157720"/>
              <a:ext cx="0" cy="697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27440" y="5700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Palatino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31600" y="5700240"/>
              <a:ext cx="314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Palatino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35640" y="5013360"/>
            <a:ext cx="1314000" cy="939600"/>
            <a:chOff x="5435640" y="5013360"/>
            <a:chExt cx="1314000" cy="939600"/>
          </a:xfrm>
        </p:grpSpPr>
        <p:sp>
          <p:nvSpPr>
            <p:cNvPr id="174" name=""/>
            <p:cNvSpPr/>
            <p:nvPr/>
          </p:nvSpPr>
          <p:spPr>
            <a:xfrm>
              <a:off x="5435640" y="501336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35640" y="5400720"/>
              <a:ext cx="32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763600" y="5090400"/>
              <a:ext cx="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63600" y="5090760"/>
              <a:ext cx="32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1560" y="5090760"/>
              <a:ext cx="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1560" y="5400720"/>
              <a:ext cx="32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419880" y="5090400"/>
              <a:ext cx="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19880" y="5090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1560" y="501336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49640" y="501336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99080" y="5555520"/>
              <a:ext cx="329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56800" y="5555520"/>
              <a:ext cx="32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e coding 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98680" y="1154160"/>
            <a:ext cx="7569000" cy="5330520"/>
            <a:chOff x="598680" y="1154160"/>
            <a:chExt cx="7569000" cy="5330520"/>
          </a:xfrm>
        </p:grpSpPr>
        <p:sp>
          <p:nvSpPr>
            <p:cNvPr id="189" name=""/>
            <p:cNvSpPr/>
            <p:nvPr/>
          </p:nvSpPr>
          <p:spPr>
            <a:xfrm>
              <a:off x="598680" y="2955960"/>
              <a:ext cx="13870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RZ-inver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different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39920" y="1263600"/>
              <a:ext cx="9720" cy="496584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68480" y="1216080"/>
              <a:ext cx="11160" cy="49672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7400" y="1216080"/>
              <a:ext cx="10800" cy="49672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25960" y="1216080"/>
              <a:ext cx="11160" cy="49672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56320" y="1216080"/>
              <a:ext cx="9360" cy="49672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84880" y="1216080"/>
              <a:ext cx="9360" cy="49672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81760" y="1212840"/>
              <a:ext cx="9360" cy="49672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3800" y="1216080"/>
              <a:ext cx="7920" cy="49672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72360" y="1216080"/>
              <a:ext cx="7920" cy="49672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00920" y="1216080"/>
              <a:ext cx="7920" cy="49672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51080" y="1822320"/>
              <a:ext cx="590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43160" y="1638360"/>
              <a:ext cx="63648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8200" y="1649520"/>
              <a:ext cx="62712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62440" y="1636560"/>
              <a:ext cx="189072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8000" y="1179360"/>
              <a:ext cx="264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92400" y="11793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16280" y="11793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43400" y="11541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70520" y="11793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16360" y="11793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27760" y="11793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58120" y="11793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34120" y="1179360"/>
              <a:ext cx="307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63680" y="3560760"/>
              <a:ext cx="58914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55760" y="3363840"/>
              <a:ext cx="1255680" cy="209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994360" y="3362400"/>
              <a:ext cx="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86440" y="3363840"/>
              <a:ext cx="191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51080" y="4413240"/>
              <a:ext cx="590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55760" y="4229280"/>
              <a:ext cx="62388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11440" y="4424400"/>
              <a:ext cx="625680" cy="181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56320" y="4232160"/>
              <a:ext cx="637920" cy="192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94240" y="4414680"/>
              <a:ext cx="600120" cy="18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94360" y="4233960"/>
              <a:ext cx="65880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63680" y="2624040"/>
              <a:ext cx="590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65680" y="2436840"/>
              <a:ext cx="188748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45240" y="2624040"/>
              <a:ext cx="1263600" cy="206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51080" y="5245200"/>
              <a:ext cx="590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49640" y="5054760"/>
              <a:ext cx="322200" cy="18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4360" y="5059440"/>
              <a:ext cx="31896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51600" y="5059440"/>
              <a:ext cx="33516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71840" y="5243400"/>
              <a:ext cx="615960" cy="18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25720" y="5248440"/>
              <a:ext cx="635040" cy="18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520" y="5245200"/>
              <a:ext cx="28872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27600" y="5240160"/>
              <a:ext cx="266760" cy="190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88200" y="5238720"/>
              <a:ext cx="289080" cy="18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51080" y="6037200"/>
              <a:ext cx="590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51080" y="5838840"/>
              <a:ext cx="29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32240" y="5850000"/>
              <a:ext cx="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74960" y="5851440"/>
              <a:ext cx="30168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17800" y="5838840"/>
              <a:ext cx="30348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27640" y="5851440"/>
              <a:ext cx="627120" cy="18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53160" y="5851440"/>
              <a:ext cx="30168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73800" y="5838840"/>
              <a:ext cx="30168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5120" y="6040440"/>
              <a:ext cx="338400" cy="18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25960" y="6037200"/>
              <a:ext cx="30168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34200" y="6035760"/>
              <a:ext cx="31572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6280" y="6035760"/>
              <a:ext cx="312840" cy="19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4040" y="6026040"/>
              <a:ext cx="334800" cy="19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11440" y="3571920"/>
              <a:ext cx="1252800" cy="2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84880" y="3570120"/>
              <a:ext cx="606240" cy="18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3320" y="5240160"/>
              <a:ext cx="638280" cy="18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54760" y="6035760"/>
              <a:ext cx="63972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81320" y="6035760"/>
              <a:ext cx="63648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60760" y="5052960"/>
              <a:ext cx="63972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87800" y="5052960"/>
              <a:ext cx="63792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68480" y="2624040"/>
              <a:ext cx="628920" cy="18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37120" y="2624040"/>
              <a:ext cx="625320" cy="18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32000" y="2435400"/>
              <a:ext cx="63648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97400" y="2435400"/>
              <a:ext cx="63972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92800" y="5054760"/>
              <a:ext cx="33480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95920" y="5838840"/>
              <a:ext cx="638280" cy="189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78720" y="5059440"/>
              <a:ext cx="33984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65680" y="3382920"/>
              <a:ext cx="619200" cy="185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95840" y="1582560"/>
              <a:ext cx="937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pol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R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27440" y="4164120"/>
              <a:ext cx="1005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pol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9480" y="4957920"/>
              <a:ext cx="12420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che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9480" y="5665680"/>
              <a:ext cx="12420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che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4680" y="2473200"/>
              <a:ext cx="112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lar NR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76120" y="2289240"/>
          <a:ext cx="8515440" cy="43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289240"/>
                    <a:ext cx="851544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ctrum of Line c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9200" y="1333080"/>
            <a:ext cx="8153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 1s &amp; 0s independent &amp; equiprob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924520" y="2009880"/>
            <a:ext cx="3105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Z has high content at low frequ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polar tightly packed arou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chester wasteful of bandwid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Unipolar &amp; Polar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Non-Return-to-Zero (NRZ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3117960"/>
            <a:ext cx="405756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Unipolar NR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” maps to +A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” maps to no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Averag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*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0.5*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strings of A or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frequency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3117960"/>
            <a:ext cx="405756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Polar NR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” maps to +A/2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” maps to –A/2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Averag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*(A/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0.5*(-A/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strings of +A/2 or –A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frequency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174760" y="1109520"/>
            <a:ext cx="5714640" cy="1951200"/>
            <a:chOff x="2174760" y="1109520"/>
            <a:chExt cx="5714640" cy="1951200"/>
          </a:xfrm>
        </p:grpSpPr>
        <p:sp>
          <p:nvSpPr>
            <p:cNvPr id="277" name=""/>
            <p:cNvSpPr/>
            <p:nvPr/>
          </p:nvSpPr>
          <p:spPr>
            <a:xfrm>
              <a:off x="2183760" y="1217880"/>
              <a:ext cx="3600" cy="18424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89280" y="1172160"/>
              <a:ext cx="3600" cy="1888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94440" y="1172160"/>
              <a:ext cx="3960" cy="1888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99960" y="1172160"/>
              <a:ext cx="3600" cy="1888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05120" y="1172160"/>
              <a:ext cx="3600" cy="1888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10280" y="1172160"/>
              <a:ext cx="3960" cy="1888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5920" y="1168200"/>
              <a:ext cx="3600" cy="1892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21320" y="1172160"/>
              <a:ext cx="3600" cy="1888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6480" y="1172160"/>
              <a:ext cx="3960" cy="1888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32000" y="1172160"/>
              <a:ext cx="3600" cy="1888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94200" y="1776960"/>
              <a:ext cx="568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86280" y="1594080"/>
              <a:ext cx="611640" cy="18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94440" y="1596960"/>
              <a:ext cx="604080" cy="18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11960" y="1591560"/>
              <a:ext cx="1819800" cy="18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82480" y="1132920"/>
              <a:ext cx="25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02040" y="1132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05400" y="1132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09840" y="11095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11760" y="1132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31680" y="1132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00960" y="1132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06840" y="1132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28920" y="1132920"/>
              <a:ext cx="29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06080" y="2579760"/>
              <a:ext cx="568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14480" y="2392560"/>
              <a:ext cx="1816920" cy="18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25280" y="2579760"/>
              <a:ext cx="1215720" cy="2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89280" y="2579760"/>
              <a:ext cx="604800" cy="18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08960" y="2579760"/>
              <a:ext cx="602640" cy="18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74760" y="2391480"/>
              <a:ext cx="614520" cy="18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94440" y="2391480"/>
              <a:ext cx="614520" cy="18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81400" y="15890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polar N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1080" y="23893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N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ipolar Co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9960" y="3034800"/>
            <a:ext cx="822960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signal levels:  {-A, 0, +A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” maps to +A or –A in alter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” maps to no pu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 +pulse matched by –pulse so little content at low frequ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ng of 1s produces a square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um centered 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 string of 0s causes receiver to lose syn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ro-substitution cod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16280" y="1173240"/>
            <a:ext cx="6573240" cy="1690560"/>
            <a:chOff x="1916280" y="1173240"/>
            <a:chExt cx="6573240" cy="1690560"/>
          </a:xfrm>
        </p:grpSpPr>
        <p:sp>
          <p:nvSpPr>
            <p:cNvPr id="312" name=""/>
            <p:cNvSpPr/>
            <p:nvPr/>
          </p:nvSpPr>
          <p:spPr>
            <a:xfrm>
              <a:off x="1916280" y="1173240"/>
              <a:ext cx="2880" cy="1690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15400" y="1173240"/>
              <a:ext cx="2880" cy="1690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14880" y="1173240"/>
              <a:ext cx="2520" cy="1690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14000" y="1173240"/>
              <a:ext cx="2880" cy="1690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13480" y="1173240"/>
              <a:ext cx="2880" cy="1690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12960" y="1173240"/>
              <a:ext cx="2520" cy="1690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77520" y="1173240"/>
              <a:ext cx="2880" cy="1690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11560" y="1173240"/>
              <a:ext cx="2880" cy="1690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11040" y="1173240"/>
              <a:ext cx="2880" cy="1690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10160" y="1173240"/>
              <a:ext cx="2880" cy="1690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41280" y="1417680"/>
              <a:ext cx="29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56960" y="1417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54280" y="1417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49800" y="1390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47480" y="1417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65320" y="1417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13520" y="1417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14800" y="1417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54000" y="1417680"/>
              <a:ext cx="34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23480" y="2325600"/>
              <a:ext cx="656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28160" y="2111040"/>
              <a:ext cx="6930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25320" y="2322720"/>
              <a:ext cx="694800" cy="209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0600" y="2100600"/>
              <a:ext cx="708120" cy="221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8720" y="2327400"/>
              <a:ext cx="667440" cy="21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86520" y="2103840"/>
              <a:ext cx="7326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14280" y="196704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polar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nchester code &amp; </a:t>
            </a: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</a:t>
            </a: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 cod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2676600"/>
            <a:ext cx="408636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” maps into A/2 fir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, -A/2 last T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” maps into -A/2 fir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, A/2 la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interval has transition in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recovery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double the minimum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10-Mbp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&amp; other L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8320" y="2739600"/>
            <a:ext cx="40860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line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s block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its in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chester code is 1B2B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B5B code used in FDDI 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B10b code used in Gigabit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4B66B code used in 10G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349360" y="1119240"/>
            <a:ext cx="6019560" cy="1465200"/>
            <a:chOff x="2349360" y="1119240"/>
            <a:chExt cx="6019560" cy="1465200"/>
          </a:xfrm>
        </p:grpSpPr>
        <p:sp>
          <p:nvSpPr>
            <p:cNvPr id="342" name=""/>
            <p:cNvSpPr/>
            <p:nvPr/>
          </p:nvSpPr>
          <p:spPr>
            <a:xfrm>
              <a:off x="2349360" y="1119240"/>
              <a:ext cx="2160" cy="1465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9440" y="1119240"/>
              <a:ext cx="2520" cy="1465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30240" y="1119240"/>
              <a:ext cx="2520" cy="1465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71040" y="1119240"/>
              <a:ext cx="2160" cy="1465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11480" y="1119240"/>
              <a:ext cx="2520" cy="1465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52280" y="1119240"/>
              <a:ext cx="2520" cy="1465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60680" y="1119240"/>
              <a:ext cx="2520" cy="1465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33160" y="1119240"/>
              <a:ext cx="2520" cy="1465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73960" y="1119240"/>
              <a:ext cx="2520" cy="1465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4760" y="1119240"/>
              <a:ext cx="2520" cy="1465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53840" y="1310040"/>
              <a:ext cx="26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09040" y="13100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49120" y="13100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85600" y="1285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24240" y="13100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81600" y="13100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18200" y="13100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59360" y="13100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2680" y="131004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4400" y="2111040"/>
              <a:ext cx="6014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53320" y="1909080"/>
              <a:ext cx="327600" cy="196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67880" y="1914840"/>
              <a:ext cx="325080" cy="196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42040" y="1914840"/>
              <a:ext cx="341640" cy="196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81280" y="2108160"/>
              <a:ext cx="626400" cy="196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58200" y="2104200"/>
              <a:ext cx="647280" cy="196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62840" y="2111040"/>
              <a:ext cx="293040" cy="196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95360" y="2105640"/>
              <a:ext cx="272160" cy="201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86560" y="2104200"/>
              <a:ext cx="293040" cy="193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92960" y="2105640"/>
              <a:ext cx="648720" cy="19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05840" y="1908000"/>
              <a:ext cx="649800" cy="19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07680" y="1908000"/>
              <a:ext cx="650160" cy="19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54800" y="1910520"/>
              <a:ext cx="340200" cy="196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81040" y="1914840"/>
              <a:ext cx="347040" cy="196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06600" y="173844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chester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fferential Co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76280" y="3587760"/>
            <a:ext cx="822960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 in some systems cause transposition in polarity, +A become –A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ubsequent bits in Polar NRZ coding would be i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l line coding provides robustness to this type of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” mapped into transition in sig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” mapped into no transition in sig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spectrum as N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 occur in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used with Manchester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9800" y="1546200"/>
            <a:ext cx="1387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RZ-inve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ffer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851120" y="1143000"/>
            <a:ext cx="6607080" cy="2495520"/>
            <a:chOff x="1851120" y="1143000"/>
            <a:chExt cx="6607080" cy="2495520"/>
          </a:xfrm>
        </p:grpSpPr>
        <p:sp>
          <p:nvSpPr>
            <p:cNvPr id="380" name=""/>
            <p:cNvSpPr/>
            <p:nvPr/>
          </p:nvSpPr>
          <p:spPr>
            <a:xfrm>
              <a:off x="1851120" y="1143000"/>
              <a:ext cx="4320" cy="2495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53840" y="1143000"/>
              <a:ext cx="4320" cy="2495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56920" y="1143000"/>
              <a:ext cx="4320" cy="2495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59640" y="1143000"/>
              <a:ext cx="4320" cy="2495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62720" y="1143000"/>
              <a:ext cx="4320" cy="2495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65800" y="1143000"/>
              <a:ext cx="4320" cy="2495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33600" y="1143000"/>
              <a:ext cx="4320" cy="2495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71240" y="1143000"/>
              <a:ext cx="4320" cy="2495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74320" y="1143000"/>
              <a:ext cx="4320" cy="2495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77040" y="1143000"/>
              <a:ext cx="4680" cy="2495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75760" y="126288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96840" y="1262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98480" y="1262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96520" y="12355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97440" y="1262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19240" y="1262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75000" y="1262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78800" y="1262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12960" y="1262880"/>
              <a:ext cx="34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72360" y="2086920"/>
              <a:ext cx="6585480" cy="1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63000" y="1857600"/>
              <a:ext cx="1404000" cy="2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042600" y="1856520"/>
              <a:ext cx="0" cy="2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33600" y="1857600"/>
              <a:ext cx="2138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67360" y="2099160"/>
              <a:ext cx="1399680" cy="23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62560" y="2097720"/>
              <a:ext cx="677160" cy="21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68840" y="1879200"/>
              <a:ext cx="690480" cy="21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58680" y="3135960"/>
              <a:ext cx="659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58680" y="2905200"/>
              <a:ext cx="32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72960" y="2917080"/>
              <a:ext cx="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55280" y="2920320"/>
              <a:ext cx="336960" cy="21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10440" y="2921760"/>
              <a:ext cx="336960" cy="21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90840" y="2917080"/>
              <a:ext cx="701280" cy="21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8800" y="2920320"/>
              <a:ext cx="336960" cy="21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72880" y="2921760"/>
              <a:ext cx="336960" cy="21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75840" y="3138840"/>
              <a:ext cx="378000" cy="21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53880" y="3135960"/>
              <a:ext cx="336960" cy="21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22400" y="3134520"/>
              <a:ext cx="353520" cy="21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17560" y="3134520"/>
              <a:ext cx="349200" cy="22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08400" y="3137400"/>
              <a:ext cx="374760" cy="22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92120" y="3134520"/>
              <a:ext cx="713160" cy="21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6920" y="3134520"/>
              <a:ext cx="713520" cy="21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08520" y="2921760"/>
              <a:ext cx="713520" cy="21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41800" y="2638440"/>
            <a:ext cx="1242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22:55:48Z</dcterms:created>
  <dc:creator>Leon-Garcia/Widjaja</dc:creator>
  <dc:description/>
  <dc:language>en-US</dc:language>
  <cp:lastModifiedBy>master</cp:lastModifiedBy>
  <dcterms:modified xsi:type="dcterms:W3CDTF">2009-04-28T07:21:26Z</dcterms:modified>
  <cp:revision>446</cp:revision>
  <dc:subject>Digital Transmission Fundamentals</dc:subject>
  <dc:title>Chapter 3 Lecture Presentation</dc:title>
</cp:coreProperties>
</file>