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56E-C25A-4F3D-8329-596F4411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E9A-34D4-4198-9ADD-2671AE19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222-C77B-48EA-B3F9-05660BBF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005-22C7-4FB1-9087-4A1CA4A1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985-67F7-471A-9364-D0A19424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B45-D7E5-49DF-BA13-47A15C9E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D71E-B447-4224-BCEE-8CAE5A49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820-AF8E-4608-A1DE-CC3C967B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580-0C25-4C95-9BCC-71819AB2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561-8C6F-4CBC-A073-263B2486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54C-9077-4A4E-B874-457840F5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1FD-ABE5-4C10-8454-A4F2A664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F169-8AF9-434F-A024-876BFC08A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685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necting LANs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Networks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d Virtual 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8640" y="380988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666880"/>
            <a:ext cx="807696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ridge has a table used i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ering de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1828800"/>
            <a:ext cx="1143000" cy="566640"/>
            <a:chOff x="457200" y="1828800"/>
            <a:chExt cx="1143000" cy="56664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92200" y="182880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9999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600" y="380880"/>
            <a:ext cx="50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bridge connecting two 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632448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3560" y="1143000"/>
            <a:ext cx="81169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8640" y="380988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666880"/>
            <a:ext cx="807696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ridge does not change the physical (MAC) addresses in a fr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57200" y="1828800"/>
            <a:ext cx="1143000" cy="566640"/>
            <a:chOff x="457200" y="1828800"/>
            <a:chExt cx="1143000" cy="5666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92200" y="182880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9999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3400" y="380880"/>
            <a:ext cx="65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learning bridge and the process of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00200" y="1373040"/>
            <a:ext cx="563076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763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5560" y="15228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oop problem in a learning 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76124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2320" y="22860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system of connected LANs and its graph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57520" y="914400"/>
            <a:ext cx="555768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4120" y="380880"/>
            <a:ext cx="651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nding the shortest paths and the spanning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tree in a system of bri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33720" y="1398600"/>
            <a:ext cx="42955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0520" y="380880"/>
            <a:ext cx="7550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1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warding and blocking ports after using spanning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tree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613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7360" y="38088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outers connecting independent LANs and W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200" y="2165400"/>
            <a:ext cx="88855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4280" y="406440"/>
            <a:ext cx="60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-2   BACKBONE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5526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backbone network allows several LANs to be connected. In a backbone network, no station is directly connected to the backbone; the stations are part of a LAN, and the backbone connects the L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us Backbone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tar Backbone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nnecting Remote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452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5000" y="406440"/>
            <a:ext cx="595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-1   CONNECTING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5984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this section, we divide connecting devices into five different categories based on the layer in which they operate in a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676680"/>
            <a:ext cx="67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assive H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Active Hubs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Bri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wo-Layer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hree-Layer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4520" y="32004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8640" y="380988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666880"/>
            <a:ext cx="807696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a bus backbone, the topolog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backbone is a 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1828800"/>
            <a:ext cx="1143000" cy="566640"/>
            <a:chOff x="457200" y="1828800"/>
            <a:chExt cx="1143000" cy="56664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92200" y="182880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9999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2400" y="457200"/>
            <a:ext cx="34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1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us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611360"/>
            <a:ext cx="70293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8640" y="434340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2666880"/>
            <a:ext cx="8076960" cy="1556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a star backbone, the topology of the backbone is a st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ackbone is just one swi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1828800"/>
            <a:ext cx="1143000" cy="566640"/>
            <a:chOff x="457200" y="1828800"/>
            <a:chExt cx="1143000" cy="5666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92200" y="182880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9999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1320" y="762120"/>
            <a:ext cx="34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1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ar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19320" y="1843200"/>
            <a:ext cx="61243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8800" y="762120"/>
            <a:ext cx="59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1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nnecting remote LANs with bri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19320" y="1714680"/>
            <a:ext cx="59878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8640" y="434340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2666880"/>
            <a:ext cx="8076960" cy="1556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oint-to-point link acts as a LAN in a remote backbone connected b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te brid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7200" y="1828800"/>
            <a:ext cx="1143000" cy="566640"/>
            <a:chOff x="457200" y="1828800"/>
            <a:chExt cx="1143000" cy="56664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92200" y="182880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9999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6800" y="406440"/>
            <a:ext cx="42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-3   VIRTUAL 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15998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e can roughly define a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virtual local area networ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(VLAN) as a local area network configured by software, not by physical wi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4483080"/>
            <a:ext cx="670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embership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mmunication between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IEE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4520" y="40068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1680" y="380880"/>
            <a:ext cx="53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1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switch connecting three 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079720" y="1295280"/>
            <a:ext cx="43974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680" y="38088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1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switch using VLA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79320" y="1238400"/>
            <a:ext cx="82360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52280" y="763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6640" y="304920"/>
            <a:ext cx="72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1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wo switches in a backbone using VLA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65160" y="1066680"/>
            <a:ext cx="73407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080" y="762120"/>
            <a:ext cx="57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ve categories of connecting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4760" y="2457360"/>
            <a:ext cx="84643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335268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8640" y="411480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3429000"/>
            <a:ext cx="807696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LANs create broadcast dom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57200" y="2590920"/>
            <a:ext cx="1143000" cy="566640"/>
            <a:chOff x="457200" y="2590920"/>
            <a:chExt cx="1143000" cy="56664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457200" y="259092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92200" y="2590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9999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6280" y="76212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repeater connecting two segments of a 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7520" y="2216160"/>
            <a:ext cx="78706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8640" y="335268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666880"/>
            <a:ext cx="807696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epeater connects segments of a 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1828800"/>
            <a:ext cx="1143000" cy="566640"/>
            <a:chOff x="457200" y="1828800"/>
            <a:chExt cx="1143000" cy="5666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92200" y="182880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9999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8640" y="380988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666880"/>
            <a:ext cx="807696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epeater forwards every frame;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has no filtering cap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" y="1828800"/>
            <a:ext cx="1143000" cy="566640"/>
            <a:chOff x="457200" y="1828800"/>
            <a:chExt cx="1143000" cy="56664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92200" y="182880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9999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8640" y="380988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666880"/>
            <a:ext cx="807696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epeater is a regenerator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n amplif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1828800"/>
            <a:ext cx="1143000" cy="566640"/>
            <a:chOff x="457200" y="1828800"/>
            <a:chExt cx="1143000" cy="56664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92200" y="182880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9999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0240" y="76212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unction of a rep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5040" y="1803240"/>
            <a:ext cx="8474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0960" y="762120"/>
            <a:ext cx="39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Figure 15.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hierarchy of h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74880" y="2209680"/>
            <a:ext cx="73310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14:39:37Z</dcterms:created>
  <dc:creator>master</dc:creator>
  <dc:description/>
  <dc:language>en-US</dc:language>
  <cp:lastModifiedBy>master</cp:lastModifiedBy>
  <dcterms:modified xsi:type="dcterms:W3CDTF">2009-07-11T14:39:51Z</dcterms:modified>
  <cp:revision>1</cp:revision>
  <dc:subject/>
  <dc:title>Slide 1</dc:title>
</cp:coreProperties>
</file>