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1D644-2D60-471F-93CA-A41CB62EC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94491-7A3E-4078-83BF-A75887CF3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5FE37-ECBA-4887-A2F7-38353A96E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04CC1-A1E6-4E40-9869-FC45EBCC5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B0A1D-2760-4D74-9C75-4C2F416B9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2D44E-7C8E-4408-B1EE-71743D3B3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2AE70-8A92-496D-B7E4-DFD46E083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485C1-296A-4927-8F00-119737161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C1D23-E9E8-462E-A6A5-1E43FDA62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62F2E-BFFD-42ED-AE5D-EC9E45151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603C7-C651-4E30-9FA0-34E074157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69E1C-0E21-4E0B-A34A-7CF76BF9B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ACBE2-9B79-411C-BCBE-E90FF9953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47E9A-24ED-4A5D-9957-3AA1DE3F6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7EBD3-F9E4-43FE-9F90-3BF76E3BF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E2148-F7F8-4762-A80F-FDD63C304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6B0D4-CEBE-415D-8B19-95632596E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FDC94-2BF0-4957-91BF-0A0CEF5FE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75ADA-C3D9-40E9-AD5D-3BD183F7F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D6C76-EAC8-4D42-9F43-5AAA9840B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0A57E-A492-4FB4-B2DE-3751C737D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018D3-3BE3-49FF-996A-95818D986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12CDF-68B7-43BF-8EA2-199FACE5E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9D55B-7176-4B74-8F3A-E85B71C4A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8115-5481-4706-902F-01010421B0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D12C-3B8F-432C-B85A-C3F365F341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371600"/>
            <a:ext cx="9296280" cy="822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DMA</a:t>
            </a:r>
            <a:endParaRPr b="0" lang="en-US" sz="4200" spc="-1" strike="noStrike">
              <a:solidFill>
                <a:srgbClr val="330033"/>
              </a:solidFill>
              <a:latin typeface="Times New Roman"/>
            </a:endParaRPr>
          </a:p>
        </p:txBody>
      </p:sp>
      <p:sp>
        <p:nvSpPr>
          <p:cNvPr id="113" name="PlaceHolder 2"/>
          <p:cNvSpPr>
            <a:spLocks noGrp="1"/>
          </p:cNvSpPr>
          <p:nvPr>
            <p:ph/>
          </p:nvPr>
        </p:nvSpPr>
        <p:spPr>
          <a:xfrm>
            <a:off x="609480" y="1599840"/>
            <a:ext cx="8229600" cy="5257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MA stands for Time Division Multiple Acce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MA is a technology for delivering digital wireless service using time-division multiplexing (TD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MA technology is used by the GSM digital cellular system.</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DMA</a:t>
            </a:r>
            <a:endParaRPr b="0" lang="en-US" sz="4200" spc="-1" strike="noStrike">
              <a:solidFill>
                <a:srgbClr val="330033"/>
              </a:solidFill>
              <a:latin typeface="Times New Roman"/>
            </a:endParaRPr>
          </a:p>
        </p:txBody>
      </p:sp>
      <p:sp>
        <p:nvSpPr>
          <p:cNvPr id="115" name="PlaceHolder 2"/>
          <p:cNvSpPr>
            <a:spLocks noGrp="1"/>
          </p:cNvSpPr>
          <p:nvPr>
            <p:ph/>
          </p:nvPr>
        </p:nvSpPr>
        <p:spPr>
          <a:xfrm>
            <a:off x="60948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DMA users can only transmit in their respective time slo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MA technology divides a radio frequency into time slots and then allocates these time slots to multiple call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MA systems still depends on switch to determine when to perform a handoff.</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vantages of TDMA</a:t>
            </a:r>
            <a:endParaRPr b="0" lang="en-US" sz="4200" spc="-1" strike="noStrike">
              <a:solidFill>
                <a:srgbClr val="330033"/>
              </a:solidFill>
              <a:latin typeface="Times New Roman"/>
            </a:endParaRPr>
          </a:p>
        </p:txBody>
      </p:sp>
      <p:sp>
        <p:nvSpPr>
          <p:cNvPr id="117" name="PlaceHolder 2"/>
          <p:cNvSpPr>
            <a:spLocks noGrp="1"/>
          </p:cNvSpPr>
          <p:nvPr>
            <p:ph/>
          </p:nvPr>
        </p:nvSpPr>
        <p:spPr>
          <a:xfrm>
            <a:off x="609120" y="1599840"/>
            <a:ext cx="8077320" cy="5257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easily transmit the data as well as voice communic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MA provides Flexible bit rat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MA technology separates users according to ti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nterference from simultaneous transmiss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st-effective technology for upgrading a current analog system to digit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vantages of TDMA</a:t>
            </a:r>
            <a:endParaRPr b="0" lang="en-US" sz="4200" spc="-1" strike="noStrike">
              <a:solidFill>
                <a:srgbClr val="330033"/>
              </a:solidFill>
              <a:latin typeface="Times New Roman"/>
            </a:endParaRPr>
          </a:p>
        </p:txBody>
      </p:sp>
      <p:sp>
        <p:nvSpPr>
          <p:cNvPr id="119" name="PlaceHolder 2"/>
          <p:cNvSpPr>
            <a:spLocks noGrp="1"/>
          </p:cNvSpPr>
          <p:nvPr>
            <p:ph/>
          </p:nvPr>
        </p:nvSpPr>
        <p:spPr>
          <a:xfrm>
            <a:off x="609480" y="1599840"/>
            <a:ext cx="7925040" cy="5257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an ability to carry 64 kbps to 120 Mbps of data rat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for mobile or base stations to initiate and execute hands off.</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ttery life is higher in TD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advantages of TDMA</a:t>
            </a:r>
            <a:endParaRPr b="0" lang="en-US" sz="4200" spc="-1" strike="noStrike">
              <a:solidFill>
                <a:srgbClr val="330033"/>
              </a:solidFill>
              <a:latin typeface="Times New Roman"/>
            </a:endParaRPr>
          </a:p>
        </p:txBody>
      </p:sp>
      <p:sp>
        <p:nvSpPr>
          <p:cNvPr id="121" name="PlaceHolder 2"/>
          <p:cNvSpPr>
            <a:spLocks noGrp="1"/>
          </p:cNvSpPr>
          <p:nvPr>
            <p:ph/>
          </p:nvPr>
        </p:nvSpPr>
        <p:spPr>
          <a:xfrm>
            <a:off x="60948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less bandwidth than CDM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less coverage area as compared to CDM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has a predefined time slo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 card is also lost when a handset is lo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Differences between CDMA and TDMA</a:t>
            </a:r>
            <a:endParaRPr b="0" lang="en-US" sz="3800" spc="-1" strike="noStrike">
              <a:solidFill>
                <a:srgbClr val="330033"/>
              </a:solidFill>
              <a:latin typeface="Times New Roman"/>
            </a:endParaRPr>
          </a:p>
        </p:txBody>
      </p:sp>
      <p:sp>
        <p:nvSpPr>
          <p:cNvPr id="123" name="PlaceHolder 2"/>
          <p:cNvSpPr>
            <a:spLocks noGrp="1"/>
          </p:cNvSpPr>
          <p:nvPr>
            <p:ph/>
          </p:nvPr>
        </p:nvSpPr>
        <p:spPr>
          <a:xfrm>
            <a:off x="60948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MA technology claims that its bandwidth is thirteen times efficient than TDMA and forty times efficient than analog system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MA also have better security and higher data and voice transmission quality because of the spread spectrum technology it uses, which has increased resistance to multipath distortion.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ttery life is higher in TDMA compared to CDMA because CDMA handsets transmit data all the time and TDMA does not require constant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Differences between CDMA and TDMA</a:t>
            </a:r>
            <a:endParaRPr b="0" lang="en-US" sz="3800" spc="-1" strike="noStrike">
              <a:solidFill>
                <a:srgbClr val="330033"/>
              </a:solidFill>
              <a:latin typeface="Times New Roman"/>
            </a:endParaRPr>
          </a:p>
        </p:txBody>
      </p:sp>
      <p:sp>
        <p:nvSpPr>
          <p:cNvPr id="125" name="PlaceHolder 2"/>
          <p:cNvSpPr>
            <a:spLocks noGrp="1"/>
          </p:cNvSpPr>
          <p:nvPr>
            <p:ph/>
          </p:nvPr>
        </p:nvSpPr>
        <p:spPr>
          <a:xfrm>
            <a:off x="60948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MA has greater coverage area when compared to TDMA. Though, when it comes to international roaming TDMA is better than CDM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MA is patented by Qualcomm, so an extra fee is paid to Qualcomm.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t comes to United States and Canada market size for CDMA is larger than GSM’s market size but worldwide the market size for GSM is far bigger both in the number of subscribers and coverage ,than CDM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CDMA Vs TDMA in travel</a:t>
            </a:r>
            <a:endParaRPr b="0" lang="en-US" sz="4200" spc="-1" strike="noStrike">
              <a:solidFill>
                <a:srgbClr val="330033"/>
              </a:solidFill>
              <a:latin typeface="Times New Roman"/>
            </a:endParaRPr>
          </a:p>
        </p:txBody>
      </p:sp>
      <p:sp>
        <p:nvSpPr>
          <p:cNvPr id="127" name="PlaceHolder 2"/>
          <p:cNvSpPr>
            <a:spLocks noGrp="1"/>
          </p:cNvSpPr>
          <p:nvPr>
            <p:ph/>
          </p:nvPr>
        </p:nvSpPr>
        <p:spPr>
          <a:xfrm>
            <a:off x="60948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GSM and CDMA can be found across United States, which doesn’t mean that it doesn’t matter which technology we choos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ravel domestically it is possible that we reach areas where digital service is not availabl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raveling between places it is possible that we reach certain rural areas were only analog access is offered.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MA handsets offer analog capabilities which the GSM don’t off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CDMA Vs TDMA in travel</a:t>
            </a:r>
            <a:endParaRPr b="0" lang="en-US" sz="4200" spc="-1" strike="noStrike">
              <a:solidFill>
                <a:srgbClr val="330033"/>
              </a:solidFill>
              <a:latin typeface="Times New Roman"/>
            </a:endParaRPr>
          </a:p>
        </p:txBody>
      </p:sp>
      <p:sp>
        <p:nvSpPr>
          <p:cNvPr id="129" name="PlaceHolder 2"/>
          <p:cNvSpPr>
            <a:spLocks noGrp="1"/>
          </p:cNvSpPr>
          <p:nvPr>
            <p:ph/>
          </p:nvPr>
        </p:nvSpPr>
        <p:spPr>
          <a:xfrm>
            <a:off x="6858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difference between GSM and CDMA is in the data transfer method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SM’s high-speed wireless data technology, GPRS (General Packet Radio Service), usually offers a slower data bandwidth for wireless data connection than CDMA’s high-speed technology, which has the capability of providing ISDN (Integrated Services Digital Network) with speeds as much as 144Kb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CDMA Vs TDMA in travel</a:t>
            </a:r>
            <a:endParaRPr b="0" lang="en-US" sz="4200" spc="-1" strike="noStrike">
              <a:solidFill>
                <a:srgbClr val="330033"/>
              </a:solidFill>
              <a:latin typeface="Times New Roman"/>
            </a:endParaRPr>
          </a:p>
        </p:txBody>
      </p:sp>
      <p:sp>
        <p:nvSpPr>
          <p:cNvPr id="131" name="PlaceHolder 2"/>
          <p:cNvSpPr>
            <a:spLocks noGrp="1"/>
          </p:cNvSpPr>
          <p:nvPr>
            <p:ph/>
          </p:nvPr>
        </p:nvSpPr>
        <p:spPr>
          <a:xfrm>
            <a:off x="762120" y="1523880"/>
            <a:ext cx="77724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M’s benefits over the CDMA in domestic purpose are that GSM uses SIM card that identifies a user and stores the information in the handse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 card can be swapped between handsets, which enable to move all the contacts to the new handset with ease.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MA can have this flexibility with their own service that stores data on the operator’s database.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ervice allows the user to swap data’s between two handsets with a little trouble, but the advantage is it can be done when the handset is even lost but in GSM technology, when a handset is lost, SIM card is also lost with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77920"/>
            <a:ext cx="7772400" cy="612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DMA</a:t>
            </a:r>
            <a:r>
              <a:rPr b="0" lang="en-US" sz="4200" spc="-1" strike="noStrike">
                <a:solidFill>
                  <a:srgbClr val="330033"/>
                </a:solidFill>
                <a:latin typeface="Times New Roman"/>
              </a:rPr>
              <a:t>	</a:t>
            </a:r>
            <a:r>
              <a:rPr b="0" lang="en-US" sz="4200" spc="-1" strike="noStrike">
                <a:solidFill>
                  <a:srgbClr val="330033"/>
                </a:solidFill>
                <a:latin typeface="Times New Roman"/>
              </a:rPr>
              <a:t>TDMA</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CDMA Vs TDMA in travel</a:t>
            </a:r>
            <a:endParaRPr b="0" lang="en-US" sz="4200" spc="-1" strike="noStrike">
              <a:solidFill>
                <a:srgbClr val="330033"/>
              </a:solidFill>
              <a:latin typeface="Times New Roman"/>
            </a:endParaRPr>
          </a:p>
        </p:txBody>
      </p:sp>
      <p:sp>
        <p:nvSpPr>
          <p:cNvPr id="133" name="PlaceHolder 2"/>
          <p:cNvSpPr>
            <a:spLocks noGrp="1"/>
          </p:cNvSpPr>
          <p:nvPr>
            <p:ph/>
          </p:nvPr>
        </p:nvSpPr>
        <p:spPr>
          <a:xfrm>
            <a:off x="609480" y="1523880"/>
            <a:ext cx="7772400" cy="453096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t comes for international roaming handsets with GSM is far better than CDMA handsets because GSM is used in most the markets across the glob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using tri-band or quad-band can travel to Europe, India and most of Asia and still can use their cell phon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MA does not have this multiband capability, thus cannot be used multiple countries with 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135"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comparisons made above we cannot say that TDMA is better than CDMA or vice versa. The main advantage of the CDMA is that, in the single detection method it is more flexible than TDMA or joint detection. CDMA is said to have higher capacity than TDMA. But in the future GSM can be extended by an optional CDMA component in order to further increase the capac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137" name="PlaceHolder 2"/>
          <p:cNvSpPr>
            <a:spLocks noGrp="1"/>
          </p:cNvSpPr>
          <p:nvPr>
            <p:ph/>
          </p:nvPr>
        </p:nvSpPr>
        <p:spPr>
          <a:xfrm>
            <a:off x="685800" y="1523880"/>
            <a:ext cx="7772400" cy="453096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it does not matter whether which one is better CDMA or TDMA right now.</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be only found out with the evolution of these technologie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going for a cell phone the user should choose the technology according to where they use it.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users who travel abroad it is better to go with GSM handset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users in Pakistan TDMA is better than CDMA because of the coverage we can get at most areas where CDMA signals cannot be transmit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047760" y="2895120"/>
            <a:ext cx="3809880" cy="12193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ctr">
            <a:noAutofit/>
          </a:bodyPr>
          <a:p>
            <a:pPr>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oup Members:-</a:t>
            </a:r>
            <a:endParaRPr b="0" lang="en-US" sz="4200" spc="-1" strike="noStrike">
              <a:solidFill>
                <a:srgbClr val="330033"/>
              </a:solidFill>
              <a:latin typeface="Times New Roman"/>
            </a:endParaRPr>
          </a:p>
        </p:txBody>
      </p:sp>
      <p:sp>
        <p:nvSpPr>
          <p:cNvPr id="99" name="PlaceHolder 2"/>
          <p:cNvSpPr>
            <a:spLocks noGrp="1"/>
          </p:cNvSpPr>
          <p:nvPr>
            <p:ph/>
          </p:nvPr>
        </p:nvSpPr>
        <p:spPr>
          <a:xfrm>
            <a:off x="2666520" y="2285640"/>
            <a:ext cx="5334120" cy="28954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el Arshad</a:t>
            </a:r>
            <a:endParaRPr b="0" lang="en-US" sz="2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hmood Ul Hassan</a:t>
            </a:r>
            <a:endParaRPr b="0" lang="en-US" sz="2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man Nazir</a:t>
            </a:r>
            <a:endParaRPr b="0" lang="en-US" sz="2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r Sajj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DMA and TDMA </a:t>
            </a:r>
            <a:endParaRPr b="0" lang="en-US" sz="4200" spc="-1" strike="noStrike">
              <a:solidFill>
                <a:srgbClr val="330033"/>
              </a:solidFill>
              <a:latin typeface="Times New Roman"/>
            </a:endParaRPr>
          </a:p>
        </p:txBody>
      </p:sp>
      <p:sp>
        <p:nvSpPr>
          <p:cNvPr id="101" name="PlaceHolder 2"/>
          <p:cNvSpPr>
            <a:spLocks noGrp="1"/>
          </p:cNvSpPr>
          <p:nvPr>
            <p:ph/>
          </p:nvPr>
        </p:nvSpPr>
        <p:spPr>
          <a:xfrm>
            <a:off x="609480" y="1599840"/>
            <a:ext cx="8229600" cy="5257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MA and TDMA are two very different methodologies use to achieve the same task, these methodologies use frequency spectrum much more efficiently than the traditional dedicated fixed frequency transmitting system. The main goal is to dramatically increase the number of simultaneous users within a specific portion of  radio spectrum.</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DMA</a:t>
            </a:r>
            <a:endParaRPr b="0" lang="en-US" sz="4200" spc="-1" strike="noStrike">
              <a:solidFill>
                <a:srgbClr val="330033"/>
              </a:solidFill>
              <a:latin typeface="Times New Roman"/>
            </a:endParaRPr>
          </a:p>
        </p:txBody>
      </p:sp>
      <p:sp>
        <p:nvSpPr>
          <p:cNvPr id="103" name="PlaceHolder 2"/>
          <p:cNvSpPr>
            <a:spLocks noGrp="1"/>
          </p:cNvSpPr>
          <p:nvPr>
            <p:ph/>
          </p:nvPr>
        </p:nvSpPr>
        <p:spPr>
          <a:xfrm>
            <a:off x="609480" y="1599840"/>
            <a:ext cx="8229600" cy="5257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MA is stands for Code-Division Multiple Access, it’s a digital cellular technology that uses spread-spectrum techniqu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DMA, every user is on the SAME frequency and channe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MA Operates at both 800 and 1900 MHz frequency bands</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DMA</a:t>
            </a:r>
            <a:endParaRPr b="0" lang="en-US" sz="4200" spc="-1" strike="noStrike">
              <a:solidFill>
                <a:srgbClr val="330033"/>
              </a:solidFill>
              <a:latin typeface="Times New Roman"/>
            </a:endParaRPr>
          </a:p>
        </p:txBody>
      </p:sp>
      <p:sp>
        <p:nvSpPr>
          <p:cNvPr id="105" name="PlaceHolder 2"/>
          <p:cNvSpPr>
            <a:spLocks noGrp="1"/>
          </p:cNvSpPr>
          <p:nvPr>
            <p:ph/>
          </p:nvPr>
        </p:nvSpPr>
        <p:spPr>
          <a:xfrm>
            <a:off x="609480" y="167616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ell site can be made without breaking the connection of the current cell which is known as soft handoff.</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MA is actually a military technology first used during World War II by the Englis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vantages of CDMA</a:t>
            </a:r>
            <a:endParaRPr b="0" lang="en-US" sz="4200" spc="-1" strike="noStrike">
              <a:solidFill>
                <a:srgbClr val="330033"/>
              </a:solidFill>
              <a:latin typeface="Times New Roman"/>
            </a:endParaRPr>
          </a:p>
        </p:txBody>
      </p:sp>
      <p:sp>
        <p:nvSpPr>
          <p:cNvPr id="107" name="PlaceHolder 2"/>
          <p:cNvSpPr>
            <a:spLocks noGrp="1"/>
          </p:cNvSpPr>
          <p:nvPr>
            <p:ph/>
          </p:nvPr>
        </p:nvSpPr>
        <p:spPr>
          <a:xfrm>
            <a:off x="609480" y="1599840"/>
            <a:ext cx="8229600" cy="5257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MA is used in the rural areas where GSM cannot cov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of connection is occur only when the phone is at least twice as far from the base st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addition of more use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signal qua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ense of handoff when changing cell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vantages of CDMA</a:t>
            </a:r>
            <a:endParaRPr b="0" lang="en-US" sz="4200" spc="-1" strike="noStrike">
              <a:solidFill>
                <a:srgbClr val="330033"/>
              </a:solidFill>
              <a:latin typeface="Times New Roman"/>
            </a:endParaRPr>
          </a:p>
        </p:txBody>
      </p:sp>
      <p:sp>
        <p:nvSpPr>
          <p:cNvPr id="109" name="PlaceHolder 2"/>
          <p:cNvSpPr>
            <a:spLocks noGrp="1"/>
          </p:cNvSpPr>
          <p:nvPr>
            <p:ph/>
          </p:nvPr>
        </p:nvSpPr>
        <p:spPr>
          <a:xfrm>
            <a:off x="609480" y="1599840"/>
            <a:ext cx="8229600" cy="5257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uses a vocoder EVRC for noise reduc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duce Multi-path losing because of large signal bandwidt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limit on the number of user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advantages of CDMA</a:t>
            </a:r>
            <a:endParaRPr b="0" lang="en-US" sz="4200" spc="-1" strike="noStrike">
              <a:solidFill>
                <a:srgbClr val="330033"/>
              </a:solidFill>
              <a:latin typeface="Times New Roman"/>
            </a:endParaRPr>
          </a:p>
        </p:txBody>
      </p:sp>
      <p:sp>
        <p:nvSpPr>
          <p:cNvPr id="111" name="PlaceHolder 2"/>
          <p:cNvSpPr>
            <a:spLocks noGrp="1"/>
          </p:cNvSpPr>
          <p:nvPr>
            <p:ph/>
          </p:nvPr>
        </p:nvSpPr>
        <p:spPr>
          <a:xfrm>
            <a:off x="609480" y="1599840"/>
            <a:ext cx="8229600" cy="5257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number of users increases, the overall quality of service decreas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jamm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os not allow the international roaming capabilities as compared to GS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is technology the ability to upgrade or change to another handset is not eas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Far- problem ari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11:21:21Z</dcterms:created>
  <dc:creator>ADEEL</dc:creator>
  <dc:description/>
  <dc:language>en-US</dc:language>
  <cp:lastModifiedBy>student</cp:lastModifiedBy>
  <dcterms:modified xsi:type="dcterms:W3CDTF">2012-02-17T10:39:35Z</dcterms:modified>
  <cp:revision>69</cp:revision>
  <dc:subject/>
  <dc:title>CDMA</dc:title>
</cp:coreProperties>
</file>