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76367-E3C3-4397-8446-14EA97E97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CC6AB-FFFA-42E1-BA35-27E2B8BA7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D56E8-E10D-486B-AF9D-866E3F94A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BA7F4-1BCE-46E3-A8B6-714A32012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F738D-D6E9-4BFF-8B5D-8DCA3C79E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5D297-00FC-4A73-B6B7-CD4515E8B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E2ED5-682D-4D59-B064-B7FD08DD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1467E-9D73-4746-9F68-D8AF53D38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3A98D-9189-4F6A-A082-8213D64A4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E91D9-D481-4C99-97A5-BDCCBF577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BA118-B9A7-4079-B64B-B7541410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A8AA3-2913-412C-AB2C-22FBC535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CCDB9-FCC1-4644-BDE3-71945E779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E32C-03E6-4AFD-AEC8-B18DE339E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2E013-E62E-4F2C-80F9-2FAFBA782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91284-A50D-48D6-9328-38AE615F9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3FACA-4FFE-4EF9-AD3B-DF96D6CBD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4E3F9-E08F-4223-BE2C-3BC40197C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B235C-EAE7-45A3-87F1-84DCF506E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B2FE-102A-45B5-AE5E-931608B59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5534-1E60-4358-AD31-5750D4AD1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19A6C-2730-495A-B38A-EF195703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C184-9A14-4D2F-8192-C7C9DE3B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2A2B8-86A9-4D33-9D4E-70669E8B0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19CD-DEB5-48C5-893D-1DE821FE1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157A-6864-4B3F-B03E-1B8D8891945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Mubashar\Desktop\NETWORKING FINAL PRESENTATION MIT-2\packet_switching[1].swf" TargetMode="External"/><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371600"/>
            <a:ext cx="9296280" cy="822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atagram Packet Switching</a:t>
            </a: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datagram approach each packet is treated independently with no reference to packets that have gone before.  No connection is set up.</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can take any practical route</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may arrive out of order</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may go missing</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 to receiver to re-order packets and recover from missing packets</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processing time per packet per node</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bust in the face of link or node fail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276720" y="0"/>
            <a:ext cx="5486400" cy="6629400"/>
          </a:xfrm>
          <a:prstGeom prst="rect">
            <a:avLst/>
          </a:prstGeom>
          <a:ln w="0">
            <a:noFill/>
          </a:ln>
        </p:spPr>
      </p:pic>
      <p:sp>
        <p:nvSpPr>
          <p:cNvPr id="103" name=""/>
          <p:cNvSpPr/>
          <p:nvPr/>
        </p:nvSpPr>
        <p:spPr>
          <a:xfrm>
            <a:off x="228600" y="1752480"/>
            <a:ext cx="28954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Switching Datagram Appro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tual Circuit Packet Switching</a:t>
            </a:r>
            <a:endParaRPr b="0" lang="en-US" sz="4400" spc="-1" strike="noStrike">
              <a:solidFill>
                <a:srgbClr val="ffffff"/>
              </a:solidFill>
              <a:latin typeface="Times New Roman"/>
            </a:endParaRPr>
          </a:p>
        </p:txBody>
      </p:sp>
      <p:sp>
        <p:nvSpPr>
          <p:cNvPr id="105" name="PlaceHolder 2"/>
          <p:cNvSpPr>
            <a:spLocks noGrp="1"/>
          </p:cNvSpPr>
          <p:nvPr>
            <p:ph/>
          </p:nvPr>
        </p:nvSpPr>
        <p:spPr>
          <a:xfrm>
            <a:off x="228600" y="1523520"/>
            <a:ext cx="87631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Virtual Circuit approach a pre-planned route is established before any packets are sen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call set up before the exchange of data (handshak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ackets follow the same route and therefore arrive in seque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acket contains a virtual circuit identifier instead of destination addres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set up ti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routing decisions required for each packet - Less routing or processing ti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sceptible to data loss in the face of link or node failur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request to drop circu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a dedicated pa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657600" y="0"/>
            <a:ext cx="5181480" cy="6629400"/>
          </a:xfrm>
          <a:prstGeom prst="rect">
            <a:avLst/>
          </a:prstGeom>
          <a:ln w="0">
            <a:noFill/>
          </a:ln>
        </p:spPr>
      </p:pic>
      <p:sp>
        <p:nvSpPr>
          <p:cNvPr id="107" name=""/>
          <p:cNvSpPr/>
          <p:nvPr/>
        </p:nvSpPr>
        <p:spPr>
          <a:xfrm>
            <a:off x="228600" y="1752480"/>
            <a:ext cx="289548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Switching Virtual Circuit Appro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tual Circuits vs. Datagram</a:t>
            </a:r>
            <a:endParaRPr b="0" lang="en-US" sz="4400" spc="-1" strike="noStrike">
              <a:solidFill>
                <a:srgbClr val="ffffff"/>
              </a:solidFill>
              <a:latin typeface="Times New Roman"/>
            </a:endParaRPr>
          </a:p>
        </p:txBody>
      </p:sp>
      <p:sp>
        <p:nvSpPr>
          <p:cNvPr id="109"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tual circuits</a:t>
            </a:r>
            <a:endParaRPr b="0" lang="en-US" sz="32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work can provide sequencing and error control</a:t>
            </a: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are forwarded more quickly</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routing decisions to make</a:t>
            </a:r>
            <a:endParaRPr b="0" lang="en-US" sz="24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reliable</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a node looses all circuits through that node</a:t>
            </a:r>
            <a:endParaRPr b="0" lang="en-US" sz="24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gram</a:t>
            </a:r>
            <a:endParaRPr b="0" lang="en-US" sz="32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call setup phase</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er if few packets</a:t>
            </a:r>
            <a:endParaRPr b="0" lang="en-US" sz="24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flexible</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ting can be used to avoid congested parts of the net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cket switching - datagrams or virtual circuits</a:t>
            </a:r>
            <a:endParaRPr b="0" lang="en-US" sz="4400" spc="-1" strike="noStrike">
              <a:solidFill>
                <a:srgbClr val="ffffff"/>
              </a:solidFill>
              <a:latin typeface="Times New Roman"/>
            </a:endParaRPr>
          </a:p>
        </p:txBody>
      </p:sp>
      <p:sp>
        <p:nvSpPr>
          <p:cNvPr id="11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face between station and network nod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 oriented</a:t>
            </a:r>
            <a:endParaRPr b="0" lang="en-US" sz="28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ion requests logical connection (virtual circuit)</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ackets identified as belonging to that connection &amp; sequentially numbered</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work delivers packets in sequence</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 virtual circuit service</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ent from internal virtual circuit opera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less</a:t>
            </a:r>
            <a:endParaRPr b="0" lang="en-US" sz="28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s handled independently</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 datagram service</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ent from internal datagram oper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456840"/>
            <a:ext cx="32004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ternal </a:t>
            </a:r>
            <a:br>
              <a:rPr sz="4400"/>
            </a:br>
            <a:r>
              <a:rPr b="0" lang="en-US" sz="4400" spc="-1" strike="noStrike">
                <a:solidFill>
                  <a:srgbClr val="ffffff"/>
                </a:solidFill>
                <a:latin typeface="Times New Roman"/>
              </a:rPr>
              <a:t>Virtual </a:t>
            </a:r>
            <a:br>
              <a:rPr sz="4400"/>
            </a:br>
            <a:r>
              <a:rPr b="0" lang="en-US" sz="4400" spc="-1" strike="noStrike">
                <a:solidFill>
                  <a:srgbClr val="ffffff"/>
                </a:solidFill>
                <a:latin typeface="Times New Roman"/>
              </a:rPr>
              <a:t>Circuit and</a:t>
            </a:r>
            <a:br>
              <a:rPr sz="4400"/>
            </a:br>
            <a:r>
              <a:rPr b="0" lang="en-US" sz="4400" spc="-1" strike="noStrike">
                <a:solidFill>
                  <a:srgbClr val="ffffff"/>
                </a:solidFill>
                <a:latin typeface="Times New Roman"/>
              </a:rPr>
              <a:t>Datagram </a:t>
            </a:r>
            <a:br>
              <a:rPr sz="4400"/>
            </a:br>
            <a:r>
              <a:rPr b="0" lang="en-US" sz="4400" spc="-1" strike="noStrike">
                <a:solidFill>
                  <a:srgbClr val="ffffff"/>
                </a:solidFill>
                <a:latin typeface="Times New Roman"/>
              </a:rPr>
              <a:t>Operation</a:t>
            </a:r>
            <a:endParaRPr b="0" lang="en-US" sz="4400" spc="-1" strike="noStrike">
              <a:solidFill>
                <a:srgbClr val="ffffff"/>
              </a:solidFill>
              <a:latin typeface="Times New Roman"/>
            </a:endParaRPr>
          </a:p>
        </p:txBody>
      </p:sp>
      <p:pic>
        <p:nvPicPr>
          <p:cNvPr id="113" name="" descr=""/>
          <p:cNvPicPr/>
          <p:nvPr/>
        </p:nvPicPr>
        <p:blipFill>
          <a:blip r:embed="rId2"/>
          <a:srcRect l="0" t="0" r="0" b="11118"/>
          <a:stretch/>
        </p:blipFill>
        <p:spPr>
          <a:xfrm>
            <a:off x="3292560" y="0"/>
            <a:ext cx="5851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685800"/>
            <a:ext cx="304812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ernal</a:t>
            </a:r>
            <a:br>
              <a:rPr sz="4400"/>
            </a:br>
            <a:r>
              <a:rPr b="0" lang="en-US" sz="4400" spc="-1" strike="noStrike">
                <a:solidFill>
                  <a:srgbClr val="ffffff"/>
                </a:solidFill>
                <a:latin typeface="Times New Roman"/>
              </a:rPr>
              <a:t>Virtual</a:t>
            </a:r>
            <a:br>
              <a:rPr sz="4400"/>
            </a:br>
            <a:r>
              <a:rPr b="0" lang="en-US" sz="4400" spc="-1" strike="noStrike">
                <a:solidFill>
                  <a:srgbClr val="ffffff"/>
                </a:solidFill>
                <a:latin typeface="Times New Roman"/>
              </a:rPr>
              <a:t>Circuit and</a:t>
            </a:r>
            <a:br>
              <a:rPr sz="4400"/>
            </a:br>
            <a:r>
              <a:rPr b="0" lang="en-US" sz="4400" spc="-1" strike="noStrike">
                <a:solidFill>
                  <a:srgbClr val="ffffff"/>
                </a:solidFill>
                <a:latin typeface="Times New Roman"/>
              </a:rPr>
              <a:t>Datagram </a:t>
            </a:r>
            <a:br>
              <a:rPr sz="4400"/>
            </a:br>
            <a:r>
              <a:rPr b="0" lang="en-US" sz="4400" spc="-1" strike="noStrike">
                <a:solidFill>
                  <a:srgbClr val="ffffff"/>
                </a:solidFill>
                <a:latin typeface="Times New Roman"/>
              </a:rPr>
              <a:t>Operation</a:t>
            </a:r>
            <a:endParaRPr b="0" lang="en-US" sz="4400" spc="-1" strike="noStrike">
              <a:solidFill>
                <a:srgbClr val="ffffff"/>
              </a:solidFill>
              <a:latin typeface="Times New Roman"/>
            </a:endParaRPr>
          </a:p>
        </p:txBody>
      </p:sp>
      <p:pic>
        <p:nvPicPr>
          <p:cNvPr id="115" name="" descr=""/>
          <p:cNvPicPr/>
          <p:nvPr/>
        </p:nvPicPr>
        <p:blipFill>
          <a:blip r:embed="rId2"/>
          <a:srcRect l="0" t="0" r="0" b="6920"/>
          <a:stretch/>
        </p:blipFill>
        <p:spPr>
          <a:xfrm>
            <a:off x="3576600" y="0"/>
            <a:ext cx="55674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ame Relay</a:t>
            </a: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rame Relay</a:t>
            </a:r>
            <a:r>
              <a:rPr b="0" i="1" lang="en-US" sz="3200" spc="-1" strike="noStrike">
                <a:solidFill>
                  <a:srgbClr val="ffffff"/>
                </a:solidFill>
                <a:latin typeface="Times New Roman"/>
              </a:rPr>
              <a:t> </a:t>
            </a:r>
            <a:r>
              <a:rPr b="0" lang="en-US" sz="3200" spc="-1" strike="noStrike">
                <a:solidFill>
                  <a:srgbClr val="ffffff"/>
                </a:solidFill>
                <a:latin typeface="Times New Roman"/>
              </a:rPr>
              <a:t>is a high-performance WAN protocol that operates at the physical and data link layers of the OSI reference mod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rame Relay is an example of a packet-switched techn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ame Relay Virtual Circuits</a:t>
            </a:r>
            <a:endParaRPr b="0" lang="en-US" sz="4400" spc="-1" strike="noStrike">
              <a:solidFill>
                <a:srgbClr val="ffff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witched Virtual Circui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SM mobile technolog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ermanent Virtual Circui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IMS technolo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Members</a:t>
            </a:r>
            <a:endParaRPr b="0" lang="en-US" sz="44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ooj Hasssan</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fsah Parvez</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ran Shahzadi</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eena Sarwer</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daf Bai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gestion Control Mechanisms</a:t>
            </a:r>
            <a:endParaRPr b="0" lang="en-US" sz="40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ward Explicit Congestion Notification (FEC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t of the Address field in frame hea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t the value of the frames’ FECN bit to 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low control may be initiated or ignored.</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gestion Control Mechanisms</a:t>
            </a:r>
            <a:endParaRPr b="0" lang="en-US" sz="4000" spc="-1" strike="noStrike">
              <a:solidFill>
                <a:srgbClr val="ffff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ackward Explicit Congestion Notification (BEC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t of the Address field in frame hea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ticular path through the network is conges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low control may be initiated, igno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rame Relay Discard Eligibility</a:t>
            </a:r>
            <a:endParaRPr b="0" lang="en-US" sz="40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Discard Eligibility (DE) bit</a:t>
            </a:r>
            <a:r>
              <a:rPr b="0" i="1" lang="en-US" sz="3200" spc="-1" strike="noStrike">
                <a:solidFill>
                  <a:srgbClr val="ffffff"/>
                </a:solidFill>
                <a:latin typeface="Times New Roman"/>
              </a:rPr>
              <a:t> </a:t>
            </a:r>
            <a:r>
              <a:rPr b="0" lang="en-US" sz="3200" spc="-1" strike="noStrike">
                <a:solidFill>
                  <a:srgbClr val="ffffff"/>
                </a:solidFill>
                <a:latin typeface="Times New Roman"/>
              </a:rPr>
              <a:t>is used to indicate that a frame has lower importance than other frame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DE bit is part of the Address field in the Frame Relay frame header.</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Value of the DE bit of a frame to 1 to indicate that the frame has lower importance than other fra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rame Relay Error Checking</a:t>
            </a:r>
            <a:endParaRPr b="0" lang="en-US" sz="4400" spc="-1" strike="noStrike">
              <a:solidFill>
                <a:srgbClr val="ffffff"/>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rame Relay uses a common error-checking mechanism known as the cyclic redundancy check (CRC).</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CRC compares two calculated values to determine whether errors occurred during the transmission from source to destinatio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duces network overhead by implementing error chec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rame Relay Frame Formats</a:t>
            </a:r>
            <a:endParaRPr b="0" lang="en-US" sz="4400" spc="-1" strike="noStrike">
              <a:solidFill>
                <a:srgbClr val="ffffff"/>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two frame forma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Frame Relay Fram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a:solidFill>
                  <a:srgbClr val="ffffff"/>
                </a:solidFill>
                <a:latin typeface="Times New Roman"/>
              </a:rPr>
              <a:t>LMI Frame Form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andard Frame Relay Frame</a:t>
            </a:r>
            <a:endParaRPr b="0" lang="en-US" sz="44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2" name="" descr=""/>
          <p:cNvPicPr/>
          <p:nvPr/>
        </p:nvPicPr>
        <p:blipFill>
          <a:blip r:embed="rId2"/>
          <a:stretch/>
        </p:blipFill>
        <p:spPr>
          <a:xfrm>
            <a:off x="755640" y="2633760"/>
            <a:ext cx="7416720" cy="31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MI Frame Format</a:t>
            </a:r>
            <a:endParaRPr b="0" lang="en-US" sz="4400" spc="-1" strike="noStrike">
              <a:solidFill>
                <a:srgbClr val="ffffff"/>
              </a:solidFill>
              <a:latin typeface="Times New Roman"/>
            </a:endParaRPr>
          </a:p>
        </p:txBody>
      </p:sp>
      <p:pic>
        <p:nvPicPr>
          <p:cNvPr id="134" name="" descr=""/>
          <p:cNvPicPr/>
          <p:nvPr/>
        </p:nvPicPr>
        <p:blipFill>
          <a:blip r:embed="rId2"/>
          <a:stretch/>
        </p:blipFill>
        <p:spPr>
          <a:xfrm>
            <a:off x="0" y="1628640"/>
            <a:ext cx="9144000" cy="2880000"/>
          </a:xfrm>
          <a:prstGeom prst="rect">
            <a:avLst/>
          </a:prstGeom>
          <a:ln w="0">
            <a:noFill/>
          </a:ln>
        </p:spPr>
      </p:pic>
      <p:sp>
        <p:nvSpPr>
          <p:cNvPr id="135" name=""/>
          <p:cNvSpPr/>
          <p:nvPr/>
        </p:nvSpPr>
        <p:spPr>
          <a:xfrm>
            <a:off x="152640" y="4724280"/>
            <a:ext cx="577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l Management Interface (LMI)</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ata Link Connection Identifier (DLCI)</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ame Check Sequence (F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ame Relay</a:t>
            </a:r>
            <a:endParaRPr b="0" lang="en-US" sz="44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pabili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ndow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transmis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1219320" y="1828800"/>
            <a:ext cx="6095880" cy="23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THANKS</a:t>
            </a:r>
            <a:endPar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1523520"/>
            <a:ext cx="762012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ffffff"/>
                </a:solidFill>
                <a:latin typeface="Times New Roman"/>
              </a:rPr>
              <a:t>Group # 07</a:t>
            </a:r>
            <a:br>
              <a:rPr sz="4800"/>
            </a:br>
            <a:br>
              <a:rPr sz="4800"/>
            </a:br>
            <a:r>
              <a:rPr b="1" lang="en-US" sz="5400" spc="-1" strike="noStrike" u="sng">
                <a:solidFill>
                  <a:srgbClr val="ffffff"/>
                </a:solidFill>
                <a:uFillTx/>
                <a:latin typeface="Times New Roman"/>
              </a:rPr>
              <a:t>Topic</a:t>
            </a:r>
            <a:br>
              <a:rPr sz="5400"/>
            </a:br>
            <a:r>
              <a:rPr b="0" lang="en-US" sz="4800" spc="-1" strike="noStrike">
                <a:solidFill>
                  <a:srgbClr val="ffffff"/>
                </a:solidFill>
                <a:latin typeface="Times New Roman"/>
              </a:rPr>
              <a:t>Packet Switching</a:t>
            </a:r>
            <a:br>
              <a:rPr sz="4800"/>
            </a:br>
            <a:r>
              <a:rPr b="0" lang="en-US" sz="4800" spc="-1" strike="noStrike">
                <a:solidFill>
                  <a:srgbClr val="ffffff"/>
                </a:solidFill>
                <a:latin typeface="Times New Roman"/>
              </a:rPr>
              <a:t>And</a:t>
            </a:r>
            <a:br>
              <a:rPr sz="4800"/>
            </a:br>
            <a:r>
              <a:rPr b="0" lang="en-US" sz="4800" spc="-1" strike="noStrike">
                <a:solidFill>
                  <a:srgbClr val="ffffff"/>
                </a:solidFill>
                <a:latin typeface="Times New Roman"/>
              </a:rPr>
              <a:t>Frame Rela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908000" y="2286000"/>
            <a:ext cx="5832720" cy="1981080"/>
          </a:xfrm>
          <a:prstGeom prst="rect">
            <a:avLst/>
          </a:prstGeom>
          <a:ln w="0">
            <a:noFill/>
          </a:ln>
        </p:spPr>
      </p:pic>
      <p:sp>
        <p:nvSpPr>
          <p:cNvPr id="87"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cket Switching</a:t>
            </a: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1143000" y="4419360"/>
            <a:ext cx="73152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ed in 1970s for long-distance data transmission due to circuit switching limit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cket vs Circuit Switching</a:t>
            </a:r>
            <a:endParaRPr b="0" lang="en-US" sz="40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user/host data connection the line is often idle, so circuit-switching is ineffici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rcuit-switching requires both devices to transmit and receive at the same data rate, limiting interconnection op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roduction</a:t>
            </a: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et Switching  refers to protocols in which messages are divided into packets before they are sent. Each packet is then transmitted individually and can even follow different routes to its destination. Once all the packets forming a message arrive at the destination, they are recompiled into the original mess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cket Switching Operation</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523520"/>
            <a:ext cx="7772400" cy="5334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are transmitted in short packets.  Typically an upper bound on packet size is 1000 octe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station has a longer message to send it breaks it up into a series of small packets.  Each packet now contains part of the user's data and some control informatio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rol information should at least contai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tination Addre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rce Addre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 and forward - Packets are received, stored briefly (buffered) and past on to the next no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tages</a:t>
            </a:r>
            <a:endParaRPr b="0" lang="en-US" sz="4400" spc="-1" strike="noStrike">
              <a:solidFill>
                <a:srgbClr val="ffffff"/>
              </a:solidFill>
              <a:latin typeface="Times New Roman"/>
            </a:endParaRPr>
          </a:p>
        </p:txBody>
      </p:sp>
      <p:sp>
        <p:nvSpPr>
          <p:cNvPr id="96" name="PlaceHolder 2"/>
          <p:cNvSpPr>
            <a:spLocks noGrp="1"/>
          </p:cNvSpPr>
          <p:nvPr>
            <p:ph/>
          </p:nvPr>
        </p:nvSpPr>
        <p:spPr>
          <a:xfrm>
            <a:off x="152280" y="1523520"/>
            <a:ext cx="9144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e efficien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node to node link can be shared by many packets over ti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queued and transmitted as fast as possibl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rate convers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station connects to the local node at its own spe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des buffer data if required to equalize r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are accepted even when network is bus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ivery may slow dow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orities can be u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witching Technique - Virtual Circuits and Datagrams</a:t>
            </a: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on breaks long message into pack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ets sent one at a time to the net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ets handled in two way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gra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 circui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
            <a:hlinkClick r:id="rId2"/>
          </p:cNvPr>
          <p:cNvSpPr/>
          <p:nvPr/>
        </p:nvSpPr>
        <p:spPr>
          <a:xfrm>
            <a:off x="1447920" y="2666880"/>
            <a:ext cx="5105160" cy="1043280"/>
          </a:xfrm>
          <a:custGeom>
            <a:avLst/>
            <a:gdLst>
              <a:gd name="textAreaLeft" fmla="*/ 67320 w 5105160"/>
              <a:gd name="textAreaRight" fmla="*/ 5037840 w 5105160"/>
              <a:gd name="textAreaTop" fmla="*/ 67320 h 1043280"/>
              <a:gd name="textAreaBottom" fmla="*/ 975960 h 1043280"/>
            </a:gdLst>
            <a:ahLst/>
            <a:rect l="textAreaLeft" t="textAreaTop" r="textAreaRight" b="textAreaBottom"/>
            <a:pathLst>
              <a:path w="105668" h="21600">
                <a:moveTo>
                  <a:pt x="0" y="0"/>
                </a:moveTo>
                <a:lnTo>
                  <a:pt x="105668" y="0"/>
                </a:lnTo>
                <a:lnTo>
                  <a:pt x="105668" y="21600"/>
                </a:lnTo>
                <a:lnTo>
                  <a:pt x="0" y="21600"/>
                </a:lnTo>
                <a:close/>
              </a:path>
              <a:path fill="lightenLess" w="105668" h="21600">
                <a:moveTo>
                  <a:pt x="0" y="0"/>
                </a:moveTo>
                <a:lnTo>
                  <a:pt x="105668" y="0"/>
                </a:lnTo>
                <a:lnTo>
                  <a:pt x="104268" y="1400"/>
                </a:lnTo>
                <a:lnTo>
                  <a:pt x="1400" y="1400"/>
                </a:lnTo>
                <a:close/>
              </a:path>
              <a:path fill="darken" w="105668" h="21600">
                <a:moveTo>
                  <a:pt x="105668" y="0"/>
                </a:moveTo>
                <a:lnTo>
                  <a:pt x="105668" y="21600"/>
                </a:lnTo>
                <a:lnTo>
                  <a:pt x="104268" y="20200"/>
                </a:lnTo>
                <a:lnTo>
                  <a:pt x="104268" y="1400"/>
                </a:lnTo>
                <a:close/>
              </a:path>
              <a:path fill="darkenLess" w="105668" h="21600">
                <a:moveTo>
                  <a:pt x="105668" y="21600"/>
                </a:moveTo>
                <a:lnTo>
                  <a:pt x="0" y="21600"/>
                </a:lnTo>
                <a:lnTo>
                  <a:pt x="1400" y="20200"/>
                </a:lnTo>
                <a:lnTo>
                  <a:pt x="104268" y="20200"/>
                </a:lnTo>
                <a:close/>
              </a:path>
              <a:path fill="lighten" w="105668" h="21600">
                <a:moveTo>
                  <a:pt x="0" y="21600"/>
                </a:moveTo>
                <a:lnTo>
                  <a:pt x="0" y="0"/>
                </a:lnTo>
                <a:lnTo>
                  <a:pt x="1400" y="1400"/>
                </a:lnTo>
                <a:lnTo>
                  <a:pt x="1400" y="20200"/>
                </a:lnTo>
                <a:close/>
              </a:path>
              <a:path fill="darken" w="105668" h="21600">
                <a:moveTo>
                  <a:pt x="45827" y="7301"/>
                </a:moveTo>
                <a:lnTo>
                  <a:pt x="46741" y="7301"/>
                </a:lnTo>
                <a:lnTo>
                  <a:pt x="47124" y="7667"/>
                </a:lnTo>
                <a:lnTo>
                  <a:pt x="56333" y="7667"/>
                </a:lnTo>
                <a:lnTo>
                  <a:pt x="56890" y="8224"/>
                </a:lnTo>
                <a:lnTo>
                  <a:pt x="56890" y="8772"/>
                </a:lnTo>
                <a:lnTo>
                  <a:pt x="58735" y="8772"/>
                </a:lnTo>
                <a:lnTo>
                  <a:pt x="59101" y="8224"/>
                </a:lnTo>
                <a:lnTo>
                  <a:pt x="59840" y="8224"/>
                </a:lnTo>
                <a:lnTo>
                  <a:pt x="59840" y="13376"/>
                </a:lnTo>
                <a:lnTo>
                  <a:pt x="59101" y="13376"/>
                </a:lnTo>
                <a:lnTo>
                  <a:pt x="58735" y="12828"/>
                </a:lnTo>
                <a:lnTo>
                  <a:pt x="56890" y="12828"/>
                </a:lnTo>
                <a:lnTo>
                  <a:pt x="56890" y="14107"/>
                </a:lnTo>
                <a:lnTo>
                  <a:pt x="47307" y="14107"/>
                </a:lnTo>
                <a:lnTo>
                  <a:pt x="47307" y="9877"/>
                </a:lnTo>
                <a:lnTo>
                  <a:pt x="47124" y="9877"/>
                </a:lnTo>
                <a:lnTo>
                  <a:pt x="46741" y="10243"/>
                </a:lnTo>
                <a:lnTo>
                  <a:pt x="45827" y="10243"/>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K OF PACK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WIT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1:58:59Z</dcterms:created>
  <dc:creator>Mubashar</dc:creator>
  <dc:description/>
  <dc:language>en-US</dc:language>
  <cp:lastModifiedBy>Mubashar</cp:lastModifiedBy>
  <dcterms:modified xsi:type="dcterms:W3CDTF">2009-07-07T14:10:46Z</dcterms:modified>
  <cp:revision>10</cp:revision>
  <dc:subject/>
  <dc:title>Slide 1</dc:title>
</cp:coreProperties>
</file>