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6133-FF90-4692-AE8C-7B630B2CC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C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0F8-1F04-4B26-B36B-CB5FD794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21D-5D8B-4C50-AAA1-C1018793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8D4-B579-4571-8277-AD3C327F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FEC-94C6-47E8-A85A-0592E1A1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3BA-3F05-44A0-8A9E-35D5EBD7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993-C41F-4A30-B1C1-3F316330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ED2-1A05-4B52-B54E-706FCC6D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ED2-BC1F-45B4-B053-6C6A52D1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43D-F1CD-44DD-888B-B403BB93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B71-C1D3-4BC4-A895-5C848457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064-9540-40B1-8479-BA069D3C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6E4-B2DF-4CFF-BC9B-0A3D84B5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A289-EC81-4A28-80F3-B0C33D261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ZigBee current focus is to define a general-purpose, inexpensive, self-organizing mesh network that can be used for industrial control, embedded sensing, medical data collection, smoke and intruder warning, building automation, home automation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Application area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Home Entertainment and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mart lighting, advanced temperature control, safety and security, movies and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Home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Water sensors, power sensors, smoke and fire detectors, smart appliances and access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2860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ZigBee - 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Mobil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mobile-payment, mobile-monitoring and control, mobile-security and access control, mobile-healthcar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Commercial Building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Energy monitoring, HVAC, lighting, 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ndustrial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Process control, asset management, environmental management, energy management, industrial devic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ZigBee – 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Usage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31920"/>
            <a:ext cx="66340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ZigBee - 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Plat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1676520"/>
            <a:ext cx="4537080" cy="4319640"/>
          </a:xfrm>
          <a:prstGeom prst="rect">
            <a:avLst/>
          </a:prstGeom>
          <a:solidFill>
            <a:srgbClr val="c0c0c0">
              <a:alpha val="40000"/>
            </a:srgbClr>
          </a:solidFill>
          <a:ln w="38160">
            <a:solidFill>
              <a:srgbClr val="bbe0e3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143000" cy="990720"/>
          </a:xfrm>
          <a:prstGeom prst="leftArrow">
            <a:avLst>
              <a:gd name="adj1" fmla="val 50000"/>
              <a:gd name="adj2" fmla="val 28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70000" y="3186000"/>
            <a:ext cx="3959280" cy="2448000"/>
          </a:xfrm>
          <a:prstGeom prst="rect">
            <a:avLst/>
          </a:prstGeom>
          <a:solidFill>
            <a:srgbClr val="ffffff">
              <a:alpha val="7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4572000"/>
            <a:ext cx="3384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.15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57280" y="1962000"/>
            <a:ext cx="3384720" cy="936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3505320"/>
            <a:ext cx="3384360" cy="7905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gBe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91360" y="43434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mpliant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T C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product to carry the ZigBee Alliance logo, it must first successfully complete the ZigBee Certification Program. This ensures that the product complies with the standards described in the ZigBee specif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ose products that pass ZigBee certification can display the ZigBee lo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wo ZigBee certified testing progra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gBee Compliant Platform (ZCP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ZCP program applies to modules or platforms that are intended as building blocks for end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gBee Certified Produ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is program applies to end products that are built upon a ZigBee Compliant Platform. After successful completion, these products can display the ZigBee lo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ZIGBE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gBee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required for each ZB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es network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gBee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es in multiple routing of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gBee End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allow association or rou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s very low cost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INING A ZIGBEE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ways to join ZigBee Net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Assoc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WK Rejo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ZigBee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 - 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ZigBee is an option for high level communication protocols using small, low-power and digital ra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It based on the IEEE 802.15.4-2003 standard for wireless personal area networks , such as, wireless headphones..connecting with cell phones via short-range ra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The technology defined by the ZigBee specification is planned to be simpler and less expensive than other technologies, such as Bluetooth. Wi-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ZigBee focuses at radio-frequency applications that require a low data rate, long battery life, and secure networ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The ZigBee Alliance is a group of more than 200 companies which maintain and publish the ZigBe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1905120" cy="380880"/>
          </a:xfrm>
          <a:prstGeom prst="rect">
            <a:avLst/>
          </a:prstGeom>
          <a:ln w="57240">
            <a:solidFill>
              <a:srgbClr val="ffffff"/>
            </a:solidFill>
            <a:round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14400" y="5181480"/>
            <a:ext cx="1800360" cy="846360"/>
          </a:xfrm>
          <a:prstGeom prst="rect">
            <a:avLst/>
          </a:prstGeom>
          <a:ln w="57240">
            <a:solidFill>
              <a:srgbClr val="ffffff"/>
            </a:solidFill>
            <a:round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781680" y="1523880"/>
            <a:ext cx="1270080" cy="1270080"/>
          </a:xfrm>
          <a:prstGeom prst="rect">
            <a:avLst/>
          </a:prstGeom>
          <a:ln w="57240">
            <a:solidFill>
              <a:srgbClr val="ffffff"/>
            </a:solidFill>
            <a:round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733920" y="1752480"/>
            <a:ext cx="1904760" cy="790560"/>
          </a:xfrm>
          <a:prstGeom prst="rect">
            <a:avLst/>
          </a:prstGeom>
          <a:ln w="57240">
            <a:solidFill>
              <a:srgbClr val="ffffff"/>
            </a:solidFill>
            <a:round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248520" y="4495680"/>
            <a:ext cx="2539800" cy="838440"/>
          </a:xfrm>
          <a:prstGeom prst="rect">
            <a:avLst/>
          </a:prstGeom>
          <a:ln w="57240">
            <a:solidFill>
              <a:srgbClr val="ffffff"/>
            </a:solidFill>
            <a:round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733920" y="3105000"/>
            <a:ext cx="1904760" cy="628920"/>
          </a:xfrm>
          <a:prstGeom prst="rect">
            <a:avLst/>
          </a:prstGeom>
          <a:ln w="57240">
            <a:solidFill>
              <a:srgbClr val="ffffff"/>
            </a:solidFill>
            <a:round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324480" y="3048120"/>
            <a:ext cx="2160720" cy="809640"/>
          </a:xfrm>
          <a:prstGeom prst="rect">
            <a:avLst/>
          </a:prstGeom>
          <a:ln w="57240">
            <a:solidFill>
              <a:srgbClr val="ffffff"/>
            </a:solidFill>
            <a:round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914400" y="3124080"/>
            <a:ext cx="1905120" cy="524160"/>
          </a:xfrm>
          <a:prstGeom prst="rect">
            <a:avLst/>
          </a:prstGeom>
          <a:ln w="57240">
            <a:solidFill>
              <a:srgbClr val="ffffff"/>
            </a:solidFill>
            <a:round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3733920" y="4343400"/>
            <a:ext cx="1904760" cy="666720"/>
          </a:xfrm>
          <a:prstGeom prst="rect">
            <a:avLst/>
          </a:prstGeom>
          <a:ln w="57240">
            <a:solidFill>
              <a:srgbClr val="ffffff"/>
            </a:solidFill>
            <a:round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914400" y="4191120"/>
            <a:ext cx="1905120" cy="590400"/>
          </a:xfrm>
          <a:prstGeom prst="rect">
            <a:avLst/>
          </a:prstGeom>
          <a:ln w="57240">
            <a:solidFill>
              <a:srgbClr val="ffffff"/>
            </a:solidFill>
            <a:round/>
          </a:ln>
        </p:spPr>
      </p:pic>
      <p:sp>
        <p:nvSpPr>
          <p:cNvPr id="60" name=""/>
          <p:cNvSpPr/>
          <p:nvPr/>
        </p:nvSpPr>
        <p:spPr>
          <a:xfrm>
            <a:off x="3429000" y="5567400"/>
            <a:ext cx="36003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bbe0e3"/>
                </a:solidFill>
                <a:latin typeface="Verdana"/>
              </a:rPr>
              <a:t>and many more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ZigBee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 - </a:t>
            </a: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Al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idea of ZigBee-style networks was generated in 1998, when Wi-Fi and Bluetooth were going to be unsuitable for many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In 2003,Philips participate in this project, and Philips remains a promoter member on the ZigBee Alliance Board of Dir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ZigBee Alliance announced in October 2004 that the membership had more than doubled in the preceding year and had grown to more than 100 member companies, in 22 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y April 2005 membership had grown to more than 150 companies, and by December 2005 membership had passed 200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ZigBee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 - 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ZigBee specifications were defined on 14 December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ZigBee Alliance announces public availability of Specification 1.0 on 13 June 2005, known as ZigBee 2004 Spec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ZigBee Alliance announces the completion and immediate member availability of the enhanced version of the ZigBee Standard in September 2006, known as ZigBee 2006 Spec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uring the last quarter of 2007, the new ZigBee PRO specification was fin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ZigBee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History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The ZigBe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ZigBee protocol was engineered by the ZigBee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ZigBee protocol carries all the benefits of the IEE 802.15.4 protocol with added networking function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protocol was designed to provide an easy-to-use wireless data solution by low-power consumption, support for multiple network structures and secure conn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860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ZigBee - 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952880" y="1447920"/>
            <a:ext cx="373392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499"/>
              </a:spcBef>
              <a:buClr>
                <a:srgbClr val="bbe0e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ook Antiqua"/>
              </a:rPr>
              <a:t>“</a:t>
            </a:r>
            <a:r>
              <a:rPr b="0" lang="en-US" sz="2000" spc="-1" strike="noStrike">
                <a:solidFill>
                  <a:srgbClr val="bbe0e3"/>
                </a:solidFill>
                <a:latin typeface="Book Antiqua"/>
              </a:rPr>
              <a:t>the softwar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499"/>
              </a:spcBef>
              <a:buClr>
                <a:srgbClr val="bbe0e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ook Antiqua"/>
              </a:rPr>
              <a:t>Network, Security &amp; Application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499"/>
              </a:spcBef>
              <a:buClr>
                <a:srgbClr val="bbe0e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ook Antiqua"/>
              </a:rPr>
              <a:t>Br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ook Antiqua"/>
              </a:rPr>
              <a:t>IEEE 802.15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499"/>
              </a:spcBef>
              <a:buClr>
                <a:srgbClr val="bbe0e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ook Antiqua"/>
              </a:rPr>
              <a:t>“</a:t>
            </a:r>
            <a:r>
              <a:rPr b="0" lang="en-US" sz="2000" spc="-1" strike="noStrike">
                <a:solidFill>
                  <a:srgbClr val="bbe0e3"/>
                </a:solidFill>
                <a:latin typeface="Book Antiqua"/>
              </a:rPr>
              <a:t>the hardwar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499"/>
              </a:spcBef>
              <a:buClr>
                <a:srgbClr val="bbe0e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ook Antiqua"/>
              </a:rPr>
              <a:t>Physical &amp; Media Access Control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499"/>
              </a:spcBef>
              <a:buClr>
                <a:srgbClr val="bbe0e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IEEE 802.15.4 &amp; ZigB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4419720"/>
            <a:ext cx="2590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868MHz / 915MHz / 2.4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8862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048120"/>
            <a:ext cx="2590920" cy="761760"/>
          </a:xfrm>
          <a:prstGeom prst="rect">
            <a:avLst/>
          </a:prstGeom>
          <a:solidFill>
            <a:srgbClr val="dcd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tar / Mesh / Cluster-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362320"/>
            <a:ext cx="2590920" cy="685800"/>
          </a:xfrm>
          <a:prstGeom prst="rect">
            <a:avLst/>
          </a:prstGeom>
          <a:solidFill>
            <a:srgbClr val="dcd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32- / 64- / 128-bit 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295280"/>
            <a:ext cx="2590920" cy="609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2590920" cy="381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5440" y="2666880"/>
            <a:ext cx="109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ZigB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24400" y="4191120"/>
            <a:ext cx="109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802.15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25400" y="1409760"/>
            <a:ext cx="129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5486400"/>
            <a:ext cx="304920" cy="24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90080" y="543708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ili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486400"/>
            <a:ext cx="304560" cy="244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72600" y="543384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5486400"/>
            <a:ext cx="304560" cy="244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5280" y="543708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2722320" cy="509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89880" y="54100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2560" y="541332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3080" y="540864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Book Antiqua"/>
              </a:rPr>
              <a:t>Sili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2880" y="540864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Book Antiqua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85560" y="538632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Book Antiqua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886200"/>
            <a:ext cx="0" cy="1371600"/>
          </a:xfrm>
          <a:prstGeom prst="line">
            <a:avLst/>
          </a:prstGeom>
          <a:ln w="93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981080"/>
            <a:ext cx="0" cy="1828800"/>
          </a:xfrm>
          <a:prstGeom prst="line">
            <a:avLst/>
          </a:prstGeom>
          <a:ln w="93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048120"/>
            <a:ext cx="2590920" cy="761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tar / Mesh / Cluster-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362320"/>
            <a:ext cx="2590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32- / 64- / 128-bit 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8862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048120"/>
            <a:ext cx="2590920" cy="761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tar / Mesh / Cluster-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2590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32- / 64- / 128-bit 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419720"/>
            <a:ext cx="2590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868MHz / 915MHz / 2.4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8862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048120"/>
            <a:ext cx="2590920" cy="761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tar / Mesh / Cluster-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362320"/>
            <a:ext cx="2590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32- / 64- / 128-bit 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419720"/>
            <a:ext cx="2590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8862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Low duty cycle - Provides long battery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upport for multiple network topologies: Static, dynamic, star and me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Up to 65,000 nodes on a 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Link quality ind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Clear channel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Retries and acknowledg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upport for guaranteed time slots and packet fresh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"/>
            <a:ext cx="91440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ZigBee Protocol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 -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ZigBee - 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178600"/>
            <a:ext cx="8016840" cy="155520"/>
          </a:xfrm>
          <a:prstGeom prst="rect">
            <a:avLst/>
          </a:prstGeom>
          <a:solidFill>
            <a:srgbClr val="009999"/>
          </a:solidFill>
          <a:ln w="3240">
            <a:solidFill>
              <a:srgbClr val="0099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447920"/>
            <a:ext cx="8016840" cy="155520"/>
          </a:xfrm>
          <a:prstGeom prst="rect">
            <a:avLst/>
          </a:prstGeom>
          <a:solidFill>
            <a:srgbClr val="009999"/>
          </a:solidFill>
          <a:ln w="3240">
            <a:solidFill>
              <a:srgbClr val="0099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001000" cy="29829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21:54:09Z</dcterms:created>
  <dc:creator>Hassaanz</dc:creator>
  <dc:description/>
  <dc:language>en-US</dc:language>
  <cp:lastModifiedBy>Hassaanz</cp:lastModifiedBy>
  <dcterms:modified xsi:type="dcterms:W3CDTF">2009-07-08T08:23:10Z</dcterms:modified>
  <cp:revision>49</cp:revision>
  <dc:subject/>
  <dc:title>Slide 1</dc:title>
</cp:coreProperties>
</file>