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4932A-9638-4408-B77C-397848F87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7E8D3-4574-4824-A05C-8660E1CC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C051B-36CB-4F9A-93AB-C47FAB2C5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51C7B-3D8F-48B8-9459-46232B584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224B6-AF3F-4AAF-A7E8-24D855F3B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C491B-AA55-4DA2-B944-5FFB65E13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BE8CE-8CF7-4FAE-9AB1-39853C3BA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EBD3B-C3A2-4D25-832D-6756788AB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E248F-3E8F-4F1C-B0E8-2FE36417F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1BB4-4E6F-4DC5-AF6E-AAFA766B6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4FF3E-10CC-490E-988A-4682C5064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8BF4-3A73-40A2-BA5C-BBCF6DBA9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22CD5-1702-4699-9FAA-4B5957C2B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03C3-6051-4662-B20C-3A33F657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51A34-ECB0-4008-8B79-D7FF4186D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F96FF-002D-41E1-B1AB-E10577F84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01AF1-150E-414C-9A61-3395E72EA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9F60C-5EC7-43F3-BDC9-CE59B25C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C61C8-18DB-4168-AD51-6103CF59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E3E9-73E5-417C-917E-74117555B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23EF-95B4-4E88-B1A4-7B60E7EF9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2C05-6C1F-4E49-B654-ECFBE701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3FB5-06A1-4F96-BD33-B089D403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77D9-0EAF-4978-985B-10356FF1B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81BE-D55F-4051-859B-641E6C926D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32A2-529C-4303-915C-551A148766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87" name="" descr=""/>
          <p:cNvPicPr/>
          <p:nvPr/>
        </p:nvPicPr>
        <p:blipFill>
          <a:blip r:embed="rId1"/>
          <a:stretch/>
        </p:blipFill>
        <p:spPr>
          <a:xfrm>
            <a:off x="0" y="19080"/>
            <a:ext cx="914400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nSpc>
                <a:spcPct val="100000"/>
              </a:lnSpc>
              <a:spcBef>
                <a:spcPts val="649"/>
              </a:spcBef>
              <a:buClr>
                <a:srgbClr val="3b812f"/>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02.11b </a:t>
            </a:r>
            <a:r>
              <a:rPr b="0" lang="en-US" sz="2600" spc="-1" strike="noStrike">
                <a:solidFill>
                  <a:srgbClr val="000000"/>
                </a:solidFill>
                <a:latin typeface="Times New Roman"/>
              </a:rPr>
              <a:t>is the slowest and least expensive standard. For a while, its cost made it popular, but now it's becoming less common as faster standards become less expensive. 802.11b transmits in the 2.4 GHz frequency band of the radio spectrum. It can handle up to 11 megabits of data per second, and it uses </a:t>
            </a:r>
            <a:r>
              <a:rPr b="1" lang="en-US" sz="2600" spc="-1" strike="noStrike">
                <a:solidFill>
                  <a:srgbClr val="000000"/>
                </a:solidFill>
                <a:latin typeface="Times New Roman"/>
              </a:rPr>
              <a:t>complementary code keying</a:t>
            </a:r>
            <a:r>
              <a:rPr b="0" lang="en-US" sz="2600" spc="-1" strike="noStrike">
                <a:solidFill>
                  <a:srgbClr val="000000"/>
                </a:solidFill>
                <a:latin typeface="Times New Roman"/>
              </a:rPr>
              <a:t> (CCK) modulation to improve speeds.</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nSpc>
                <a:spcPct val="90000"/>
              </a:lnSpc>
              <a:spcBef>
                <a:spcPts val="649"/>
              </a:spcBef>
              <a:buClr>
                <a:srgbClr val="3b812f"/>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02.11g</a:t>
            </a:r>
            <a:r>
              <a:rPr b="0" lang="en-US" sz="2600" spc="-1" strike="noStrike">
                <a:solidFill>
                  <a:srgbClr val="000000"/>
                </a:solidFill>
                <a:latin typeface="Times New Roman"/>
              </a:rPr>
              <a:t> transmits at 2.4 GHz like 802.11b, but it's a lot faster -- it can handle up to 54 megabits of data per second. 802.11g is faster because it uses the same OFDM coding as 802.11a. </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802.11n</a:t>
            </a:r>
            <a:r>
              <a:rPr b="0" lang="en-US" sz="2200" spc="-1" strike="noStrike">
                <a:solidFill>
                  <a:srgbClr val="000000"/>
                </a:solidFill>
                <a:latin typeface="Times New Roman"/>
              </a:rPr>
              <a:t> is the newest standard that is widely available. This standard significantly improves speed and range. For instance, although 802.11g theoretically moves 54 megabits of data per second, it only achieves real-world speeds of about 24 megabits of data per second because of network congestion. 802.11n, however, reportedly can achieve speeds as high as 140 megabits per second. The standard is currently in draft form -- the </a:t>
            </a:r>
            <a:r>
              <a:rPr b="1" lang="en-US" sz="2200" spc="-1" strike="noStrike">
                <a:solidFill>
                  <a:srgbClr val="000000"/>
                </a:solidFill>
                <a:latin typeface="Times New Roman"/>
              </a:rPr>
              <a:t>Institute of Electrical and Electronics Engineers (IEEE)</a:t>
            </a:r>
            <a:r>
              <a:rPr b="0" lang="en-US" sz="2200" spc="-1" strike="noStrike">
                <a:solidFill>
                  <a:srgbClr val="000000"/>
                </a:solidFill>
                <a:latin typeface="Times New Roman"/>
              </a:rPr>
              <a:t> plans to formally ratify 802.11n by the end of 2009. </a:t>
            </a:r>
            <a:endParaRPr b="0" lang="en-US" sz="22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 </a:t>
            </a:r>
            <a:r>
              <a:rPr b="1" lang="en-US" sz="4200" spc="-1" strike="noStrike">
                <a:solidFill>
                  <a:srgbClr val="006633"/>
                </a:solidFill>
                <a:latin typeface="Times New Roman"/>
              </a:rPr>
              <a:t>What is Wi-Max?</a:t>
            </a:r>
            <a:r>
              <a:rPr b="0" lang="en-US" sz="4200" spc="-1" strike="noStrike">
                <a:solidFill>
                  <a:srgbClr val="006633"/>
                </a:solidFill>
                <a:latin typeface="Times New Roman"/>
              </a:rPr>
              <a:t> </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iMax standard delivers high-speed broadband Internet access over a wireless connection. It can be used over relatively long distanc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the IEEE 802.16 Air Interface Standard, WiMax delivers a point-to-multipoint architecture, making it an ideal method for carriers to deliver broadband to locations where wired connections would be difficult or costly. It may also provide a useful solution for delivering broadband to rural areas where high-speed lines have not yet become available. A WiMax connection can also be bridged or routed to a standard wired or wireless Local Area Network (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though it is a wireless technology, unlike some other wireless technologies, it doesn't require a direct line of sight between the source and endpoint, and it has a service range of 50 kilometers. It provides a shared data rate of up to 70Mbps, which is enough to service up to a thousand homes with high-speed ac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Max requires a tower, similar to a cell phone tower, which is connected to the Internet using a standard wired high-speed connection, such as a T3 line. But as opposed to a traditional Internet Service Provider (ISP), which divides that bandwidth among customers via wire, it uses a microwave link to establish a connec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IEEE 802.16 Specifications used by wimax:</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ange - 30-mile (50-km) radius from base station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peed - 70 megabits per second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ne-of-sight not needed between user and base station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bands - 2 to 11 GHz and 10 to 66 GHz (licensed and unlicensed band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 </a:t>
            </a:r>
            <a:r>
              <a:rPr b="1" lang="en-US" sz="4200" spc="-1" strike="noStrike">
                <a:solidFill>
                  <a:srgbClr val="006633"/>
                </a:solidFill>
                <a:latin typeface="Times New Roman"/>
              </a:rPr>
              <a:t>Comparison</a:t>
            </a:r>
            <a:r>
              <a:rPr b="0" lang="en-US" sz="4200" spc="-1" strike="noStrike">
                <a:solidFill>
                  <a:srgbClr val="006633"/>
                </a:solidFill>
                <a:latin typeface="Times New Roman"/>
              </a:rPr>
              <a:t> </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tandard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u="sng">
                <a:solidFill>
                  <a:srgbClr val="000000"/>
                </a:solidFill>
                <a:uFillTx/>
                <a:latin typeface="Times New Roman"/>
              </a:rPr>
              <a:t>WiFi:</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WiFi is based on the 802.11 wireless standard. There are a number of sub-series such as the 802.11(a)(b) or (g).</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u="sng">
                <a:solidFill>
                  <a:srgbClr val="000000"/>
                </a:solidFill>
                <a:uFillTx/>
                <a:latin typeface="Times New Roman"/>
              </a:rPr>
              <a:t>WiMax:</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WiMAX is a different standard known as the 802.1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 </a:t>
            </a:r>
            <a:r>
              <a:rPr b="1" lang="en-US" sz="4200" spc="-1" strike="noStrike">
                <a:solidFill>
                  <a:srgbClr val="006633"/>
                </a:solidFill>
                <a:latin typeface="Times New Roman"/>
              </a:rPr>
              <a:t>Comparison</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ed:</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WiF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fastest WiFi connection can transmit up to 54 megabits per second under optimal condition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WiMax:</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iMAX should be able to handle up to </a:t>
            </a:r>
            <a:r>
              <a:rPr b="1" lang="en-US" sz="2600" spc="-1" strike="noStrike">
                <a:solidFill>
                  <a:srgbClr val="000000"/>
                </a:solidFill>
                <a:latin typeface="Times New Roman"/>
              </a:rPr>
              <a:t>70 megabits per second</a:t>
            </a:r>
            <a:r>
              <a:rPr b="0" lang="en-US" sz="2600" spc="-1" strike="noStrike">
                <a:solidFill>
                  <a:srgbClr val="000000"/>
                </a:solidFill>
                <a:latin typeface="Times New Roman"/>
              </a:rPr>
              <a:t>. Even once that 70 megabits is split up between several dozen businesses or a few hundred home users, it will provide at least the equivalent of cable-modem transfer rates to each us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 </a:t>
            </a:r>
            <a:r>
              <a:rPr b="1" lang="en-US" sz="4200" spc="-1" strike="noStrike">
                <a:solidFill>
                  <a:srgbClr val="006633"/>
                </a:solidFill>
                <a:latin typeface="Times New Roman"/>
              </a:rPr>
              <a:t>Comparison</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istanc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WiF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biggest difference is distance. WiMAX  outdistance WiFi by miles. WiFi's range is about 100 feet (30 m).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WiMax:</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For non-line of sight, the range of WiMax is 25 square miles (65 square kilometers). And for line of sight between the </a:t>
            </a:r>
            <a:r>
              <a:rPr b="0" lang="en-US" sz="3000" spc="-1" strike="noStrike">
                <a:solidFill>
                  <a:srgbClr val="000000"/>
                </a:solidFill>
                <a:latin typeface="Times New Roman"/>
              </a:rPr>
              <a:t>transmiss</a:t>
            </a:r>
            <a:r>
              <a:rPr b="0" lang="en-US" sz="2600" spc="-1" strike="noStrike">
                <a:solidFill>
                  <a:srgbClr val="000000"/>
                </a:solidFill>
                <a:latin typeface="Times New Roman"/>
              </a:rPr>
              <a:t>ion point and receiving antenna, the range </a:t>
            </a:r>
            <a:r>
              <a:rPr b="0" lang="en-US" sz="2200" spc="-1" strike="noStrike">
                <a:solidFill>
                  <a:srgbClr val="000000"/>
                </a:solidFill>
                <a:latin typeface="Times New Roman"/>
              </a:rPr>
              <a:t>jumps</a:t>
            </a:r>
            <a:r>
              <a:rPr b="0" lang="en-US" sz="2600" spc="-1" strike="noStrike">
                <a:solidFill>
                  <a:srgbClr val="000000"/>
                </a:solidFill>
                <a:latin typeface="Times New Roman"/>
              </a:rPr>
              <a:t> up to 2,800 square miles (9,300 square kilome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1576440"/>
          </a:xfrm>
          <a:prstGeom prst="rect">
            <a:avLst/>
          </a:prstGeom>
          <a:ln w="0">
            <a:noFill/>
          </a:ln>
        </p:spPr>
      </p:pic>
      <p:sp>
        <p:nvSpPr>
          <p:cNvPr id="89" name=""/>
          <p:cNvSpPr txBox="1"/>
          <p:nvPr/>
        </p:nvSpPr>
        <p:spPr>
          <a:xfrm>
            <a:off x="2057400" y="2057400"/>
            <a:ext cx="51436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UIIT</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90" name=""/>
          <p:cNvSpPr txBox="1"/>
          <p:nvPr/>
        </p:nvSpPr>
        <p:spPr>
          <a:xfrm rot="279600">
            <a:off x="609480" y="3886200"/>
            <a:ext cx="7845480" cy="1743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Fi Vs Wimax</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oup Members</a:t>
            </a:r>
            <a:endParaRPr b="0" lang="en-US" sz="4200" spc="-1" strike="noStrike">
              <a:solidFill>
                <a:srgbClr val="006633"/>
              </a:solidFill>
              <a:latin typeface="Garamond"/>
            </a:endParaRPr>
          </a:p>
        </p:txBody>
      </p:sp>
      <p:sp>
        <p:nvSpPr>
          <p:cNvPr id="92" name="PlaceHolder 2"/>
          <p:cNvSpPr>
            <a:spLocks noGrp="1"/>
          </p:cNvSpPr>
          <p:nvPr>
            <p:ph/>
          </p:nvPr>
        </p:nvSpPr>
        <p:spPr>
          <a:xfrm>
            <a:off x="1905120" y="1599840"/>
            <a:ext cx="533376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sad Kh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sif Asgh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hram Akram</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hammad Ali Tallal</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What is WiFi?</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Fi, which stands for </a:t>
            </a:r>
            <a:r>
              <a:rPr b="0" i="1" lang="en-US" sz="3000" spc="-1" strike="noStrike">
                <a:solidFill>
                  <a:srgbClr val="000000"/>
                </a:solidFill>
                <a:latin typeface="Times New Roman"/>
              </a:rPr>
              <a:t>wireless fidelity</a:t>
            </a:r>
            <a:r>
              <a:rPr b="0" lang="en-US" sz="3000" spc="-1" strike="noStrike">
                <a:solidFill>
                  <a:srgbClr val="000000"/>
                </a:solidFill>
                <a:latin typeface="Times New Roman"/>
              </a:rPr>
              <a:t>. Wi-Fi refers to any system that uses the 802.11 standard, which was developed by the Institute of Electrical and Electronics Engineers (IEEE) and released in 1997. The term </a:t>
            </a:r>
            <a:r>
              <a:rPr b="0" i="1" lang="en-US" sz="3000" spc="-1" strike="noStrike">
                <a:solidFill>
                  <a:srgbClr val="000000"/>
                </a:solidFill>
                <a:latin typeface="Times New Roman"/>
              </a:rPr>
              <a:t>Wi-Fi</a:t>
            </a:r>
            <a:r>
              <a:rPr b="0" lang="en-US" sz="3000" spc="-1" strike="noStrike">
                <a:solidFill>
                  <a:srgbClr val="000000"/>
                </a:solidFill>
                <a:latin typeface="Times New Roman"/>
              </a:rPr>
              <a:t>, which is alternatively spelled WiFi, Wi-fi, Wifi, or wifi, was pushed by the Wi-Fi Alliance, a trade group that pioneered commercialization of the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Wi-Fi network, computers with wi-fi network cards connect wirelessly to a wireless router. The router is connected to the Internet by means of a modem, typically a cable or DSL modem. Any user within 200 feet or so (about 61 meters) of the access point can then connect to the Internet, though for good transfer rates, distances of 100 feet (30.5 meters) or less are more common. Retailers also sell wireless signal boosters that extend the range of a wireless net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fi networks can either be "open", such that anyone can use them, or "closed", in which case a password is needed. An area blanketed in wireless access is often called a </a:t>
            </a:r>
            <a:r>
              <a:rPr b="0" i="1" lang="en-US" sz="3000" spc="-1" strike="noStrike">
                <a:solidFill>
                  <a:srgbClr val="000000"/>
                </a:solidFill>
                <a:latin typeface="Times New Roman"/>
              </a:rPr>
              <a:t>wireless hotspot</a:t>
            </a:r>
            <a:r>
              <a:rPr b="0" lang="en-US" sz="3000" spc="-1" strike="noStrike">
                <a:solidFill>
                  <a:srgbClr val="000000"/>
                </a:solidFill>
                <a:latin typeface="Times New Roman"/>
              </a:rPr>
              <a:t>.</a:t>
            </a:r>
            <a:r>
              <a:rPr b="0" i="1" lang="en-US" sz="3000" spc="-1" strike="noStrike">
                <a:solidFill>
                  <a:srgbClr val="000000"/>
                </a:solidFill>
                <a:latin typeface="Times New Roman"/>
              </a:rPr>
              <a:t> </a:t>
            </a:r>
            <a:r>
              <a:rPr b="0" lang="en-US" sz="3000" spc="-1" strike="noStrike">
                <a:solidFill>
                  <a:srgbClr val="000000"/>
                </a:solidFill>
                <a:latin typeface="Times New Roman"/>
              </a:rPr>
              <a:t>Wifi technology uses radio for communication, typically operating at a frequency of 2.4GHz.</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nics that are "WiFi Certified" are guaranteed to interoperate with each other regardless of bran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w wifi technologies will extend range from 300 feet (91.5 meters) to 600 feet (183 meters) and beyond, while boosting data transfer rates. Most new laptops nowadays come equipped with internal wireless networking car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Fi radio waves possesses following  characteristic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y transmit at frequencies of 2.4 GHz or 5 GHz. This frequency is considerably higher than the frequencies used for cell phones, walkie-talkies and televis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higher frequency allows the signal to carry more data.</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y use 802.11 networking standards, which come in several flavors: </a:t>
            </a:r>
            <a:endParaRPr b="0" lang="en-US" sz="2600" spc="-1" strike="noStrike">
              <a:solidFill>
                <a:srgbClr val="000000"/>
              </a:solidFill>
              <a:latin typeface="Arial"/>
            </a:endParaRPr>
          </a:p>
          <a:p>
            <a:pPr lvl="1" marL="669960" indent="-325440">
              <a:lnSpc>
                <a:spcPct val="10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02.11a</a:t>
            </a:r>
            <a:r>
              <a:rPr b="0" lang="en-US" sz="2600" spc="-1" strike="noStrike">
                <a:solidFill>
                  <a:srgbClr val="000000"/>
                </a:solidFill>
                <a:latin typeface="Times New Roman"/>
              </a:rPr>
              <a:t> transmits at 5 GHz and can move up to 54 megabits of data per second. It also uses </a:t>
            </a:r>
            <a:r>
              <a:rPr b="1" lang="en-US" sz="2600" spc="-1" strike="noStrike">
                <a:solidFill>
                  <a:srgbClr val="000000"/>
                </a:solidFill>
                <a:latin typeface="Times New Roman"/>
              </a:rPr>
              <a:t>orthogonal frequency-division multiplexing</a:t>
            </a:r>
            <a:r>
              <a:rPr b="0" lang="en-US" sz="2600" spc="-1" strike="noStrike">
                <a:solidFill>
                  <a:srgbClr val="000000"/>
                </a:solidFill>
                <a:latin typeface="Times New Roman"/>
              </a:rPr>
              <a:t> (OFDM), a more efficient coding technique that splits that radio signal into several sub-signals before they reach a receiver. This greatly reduces interference.</a:t>
            </a:r>
            <a:r>
              <a:rPr b="0" lang="en-U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7:05:48Z</dcterms:created>
  <dc:creator>ali</dc:creator>
  <dc:description/>
  <dc:language>en-US</dc:language>
  <cp:lastModifiedBy>ali</cp:lastModifiedBy>
  <dcterms:modified xsi:type="dcterms:W3CDTF">2009-07-07T07:36:23Z</dcterms:modified>
  <cp:revision>2</cp:revision>
  <dc:subject/>
  <dc:title>Wi-Fi Vs Wimax</dc:title>
</cp:coreProperties>
</file>