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A3A-08EB-4149-97E1-D409A573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534-C162-4223-A5B6-82A7EDE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0CD-E8D2-45C6-BB5C-35610D0C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1D6-8605-48F6-960D-BB820134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57A7-6770-48EC-AAB0-B2E512E7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137-E855-4E4B-AC3E-5EAD320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C551-B58B-44B5-BE8E-237BCA2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500-391F-433C-922C-CDA1A84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49F-85D3-449A-A787-7005E710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AFEB-9046-48B2-9E77-9CC56CC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FED1-487F-43F7-8295-0B84D20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7FE-8542-4526-9BC2-F2F1D37D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5D4-C4AE-4957-A730-7DE0269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883-E0B0-4674-AE82-F5D1258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0756-0B9A-4B0C-AE51-8245B9A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990E-C90D-4B6D-8F9E-9787BCAC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B0B0-8AEB-4003-ABAF-EDEBEF3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E9F-6171-4289-AC47-78293C9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90C-B70B-4927-B6F6-BE3C5F9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589-0F6E-4BE4-B13E-EBDCDC90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3E7-B723-4AB6-84D7-D4497E7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900-D911-431C-9872-DB201BA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63B-EA18-433E-B907-A10BD5E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D5D-B80F-4677-8359-DEA57B8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1362240" cy="94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badi MT Condensed Extra Bol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A9FA-E63D-47DE-88FC-069A655924CF}" type="slidenum">
              <a:rPr b="0" lang="en-US" sz="1600" spc="-1" strike="noStrike">
                <a:solidFill>
                  <a:srgbClr val="000000"/>
                </a:solidFill>
                <a:latin typeface="Abadi MT Condensed Extra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>
            <a:off x="4495680" y="3639960"/>
            <a:ext cx="46483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badi MT Condensed Extra Bold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Extra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Extra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86D-B537-4058-829B-E503F6B35D39}" type="slidenum">
              <a:rPr b="0" lang="en-US" sz="1400" spc="-1" strike="noStrike">
                <a:solidFill>
                  <a:srgbClr val="000000"/>
                </a:solidFill>
                <a:latin typeface="Abadi MT Condensed Extra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Extra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Extra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Extra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badi MT Condensed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Extra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Quality of Service</a:t>
            </a:r>
            <a:endParaRPr b="0" lang="en-US" sz="3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Open Loop Control: Prevention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Retransmission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policy</a:t>
            </a: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nd timers must to be designed to optimize efficiency and at the same time prevent congestion</a:t>
            </a:r>
            <a:endParaRPr b="0" lang="en-US" sz="20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Window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policy: Selective Repeat is better than Go-back-N</a:t>
            </a:r>
            <a:endParaRPr b="0" lang="en-US" sz="20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cknowledgement</a:t>
            </a:r>
            <a:r>
              <a:rPr b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policy:  does not ACK every packet</a:t>
            </a:r>
            <a:endParaRPr b="0" lang="en-US" sz="20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Discard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policy: prevent congestion and at the same time may not harm the integrity of the transmission</a:t>
            </a:r>
            <a:endParaRPr b="0" lang="en-US" sz="20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dmission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policy: Switch first check the resource requirement of a flow before admitting it to the network</a:t>
            </a:r>
            <a:endParaRPr b="0" lang="en-US" sz="2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losed-Loop Congestion Control: Removal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Back pressure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inform the previous upstream router to reduce the rate of outgoing packets if congested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hoke point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a packet sent by a router to the source to inform it of congestion, similar to IC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s source quench packet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mplicit signaling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slow down its sending rate by detecting an implicit signal concerning congestion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Explicit signaling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Backward signaling / Forward signaling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1878120" y="4000680"/>
            <a:ext cx="5122800" cy="82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000160" y="4857840"/>
            <a:ext cx="49104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 in TCP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CP assumes that the cause of a lost segment is due to congestion in the network.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f the cause of the lost segment is congestion, retransmission of the segment does not remove the cause—it aggravates it.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e sender has two pieces of information: the receiver-advertised window size and the congestion window siz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CP Congestion window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ctual window size = minimum (rwnd, cwnd)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(where rwnd = receiver window size, cwnd = congestion window size)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CP Congestion Policy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Based on three phases: slow start, congestion avoidance, and congestion detection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Slow Start: Exponential Increas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n the slow-start algorithm, the size of the congestion window increases exponentially until it reaches a threshold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500200" y="3174840"/>
            <a:ext cx="4286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CP Congestion Policy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Avoidance: Additive Increas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e size of the congestion window increases additively unti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is detected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2382840" y="2681280"/>
            <a:ext cx="4118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CP Congestion Policy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Detection: Multiplicative Decreas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n implementation reacts to congestion detection in one of two ways: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f detection is by time-out, a new slow start phase starts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f detection is by three ACKs, a new congestion avoidance phase starts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054160" y="3257640"/>
            <a:ext cx="50180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QoS Techniques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Scheduling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FIFO queuing, priority queuing, and weighted fair queuing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raffic shaping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Leaky bucket, token bucket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Resource reservation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dmission control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accept or reject a flow based on predefined parameters called flow specification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FIFO queuing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43080" y="4213080"/>
            <a:ext cx="66150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raffic Shaping: L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eaky Bucket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raffic shaping: to control the amount and the rate of the traffic sent to network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wo techniques: </a:t>
            </a:r>
            <a:r>
              <a:rPr b="0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leaky bucket 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token bucket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 leaky bucket algorithm shapes bursty traffic into fixed-rate traffic by averaging the data rate. It may drop the packets if the bucket is full.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313000" y="3211560"/>
            <a:ext cx="4187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Leaky Bucket Implementation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414324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lgorithm for variable-length packets: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647640" indent="-25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badi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nitialize a counter to n at the tick of the clock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647640" indent="-25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badi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If n is greater than the size of the packet, send packet and decrement the counter by the packet size. Repeat this step until n is smaller than the packet siz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lvl="1" marL="647640" indent="-25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badi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Reset the counter and go to step 1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542960" y="1782720"/>
            <a:ext cx="5958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Traffic Conditioner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Meter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checks to see if the incoming flow matches the negotiated traffic profil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Marker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can re-mark a packet with best-effort delivery or down-mark a packet based on the meter information; no up-mark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Shaper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use the meter information to reshape the traffic if not compliant with the negotiated profile. 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Dropper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, like a shaper with no buffer, discard packets if the flow severely violates the profil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2286000" y="4267080"/>
            <a:ext cx="62071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76520" y="533520"/>
            <a:ext cx="6553080" cy="60195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523880"/>
            <a:ext cx="426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SEN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R SAUD ALT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YED HASSAN JAFFER KAZ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 ARS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IHYAB HASSA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HANA MUKH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A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 and Quality of Service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76720" y="2852280"/>
            <a:ext cx="44654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Data Traffic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wo Examples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Traffic Descriptors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raffic descriptor are qualitative values that represent a data flow</a:t>
            </a:r>
            <a:endParaRPr b="0" lang="en-US" sz="16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Average data rate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= amount of data/time</a:t>
            </a:r>
            <a:endParaRPr b="0" lang="en-US" sz="16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Peak data rate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the max. data rate of the traffic</a:t>
            </a:r>
            <a:endParaRPr b="0" lang="en-US" sz="16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Max. burst size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the max. length of time the traffic is generated at the peak rate</a:t>
            </a:r>
            <a:endParaRPr b="0" lang="en-US" sz="16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Effective bandwidth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: bandwidth that the network needs to allocate for traffic flow</a:t>
            </a:r>
            <a:endParaRPr b="0" lang="en-US" sz="16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2000160" y="3500280"/>
            <a:ext cx="50720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raffic Profiles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stant-bit-rate (CBR)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Variable-bit-rate (VBR)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Bursty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1928880" y="2800440"/>
            <a:ext cx="5286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: the load on the network is greater than the capacity of the network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: the mechanisms to control the congestion and keep the load below the capacity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occurs because routers and switches have queues- buffers that hold the packets before and after processing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e rate of packet arrival &gt; packet processing tim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input queue longer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e packet departure time &gt; packet processing tim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output queue longer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500120" y="4143240"/>
            <a:ext cx="59468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Network Performance-1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Packet delay versus network load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Delay id composed of propagation delay and processing delay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2484360" y="2573280"/>
            <a:ext cx="4175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Network Performance-2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roughput versus network load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hroughput: the number of packets passing through the network in a unit of time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2268360" y="2513160"/>
            <a:ext cx="4464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ongestion control refers to techniques and mechanisms that can either prevent congestion, before it happens, or remove congestion, after it has happened. 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  <a:p>
            <a:pPr marL="343080" indent="-343080"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badi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Two broad categories: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open-loop congestion control 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(prevention) and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closed-loop congestion control</a:t>
            </a:r>
            <a:r>
              <a:rPr b="0" lang="en-US" sz="1800" spc="-1" strike="noStrike">
                <a:solidFill>
                  <a:srgbClr val="000000"/>
                </a:solidFill>
                <a:latin typeface="Abadi MT Condensed Extra Bold"/>
                <a:ea typeface="굴림"/>
              </a:rPr>
              <a:t> (removal).</a:t>
            </a:r>
            <a:endParaRPr b="0" lang="en-US" sz="18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student</cp:lastModifiedBy>
  <dcterms:modified xsi:type="dcterms:W3CDTF">2002-07-07T06:00:57Z</dcterms:modified>
  <cp:revision>11</cp:revision>
  <dc:subject/>
  <dc:title>Slide 1</dc:title>
</cp:coreProperties>
</file>