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21.wmf" ContentType="image/x-wmf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D143-F1B3-45FE-810F-C0ED1913D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C47A-6DF3-479B-8F3B-679EF0600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F373-D41B-4B8D-9EE2-94B246871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4B96-94A9-487D-B3FA-5BA77E1F1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454E-3B25-4603-8DAE-CD8AC0A70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A9A0-BC61-4A0C-9A11-AAABD81B6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3B7E-3B98-44AD-A22A-265859A94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B049-3D5E-4508-9321-7922E525E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48FB-093F-4228-84B8-6D9C68C6E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5C5C-F690-4D99-8A73-C80356A8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EBE1-F78D-443D-BFA6-BD824CD44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AC40-A4BA-474F-9947-361EEDE9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303D5-0463-48B7-BCA6-E98E4B6594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99240" y="1676520"/>
            <a:ext cx="6453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f0066"/>
                </a:solidFill>
                <a:latin typeface="Times New Roman"/>
              </a:rPr>
              <a:t>Transmission</a:t>
            </a:r>
            <a:br>
              <a:rPr sz="8800"/>
            </a:br>
            <a:r>
              <a:rPr b="1" i="1" lang="en-US" sz="8800" spc="-1" strike="noStrike">
                <a:solidFill>
                  <a:srgbClr val="ff0066"/>
                </a:solidFill>
                <a:latin typeface="Times New Roman"/>
              </a:rPr>
              <a:t>Medi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990720" y="90360"/>
            <a:ext cx="48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Figure 7.7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axial c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62120" y="1944720"/>
            <a:ext cx="7678440" cy="31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901160" y="1389240"/>
            <a:ext cx="50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Table 7.2  Categories of  coaxial c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874880" y="1981080"/>
          <a:ext cx="6049800" cy="2743200"/>
        </p:xfrm>
        <a:graphic>
          <a:graphicData uri="http://schemas.openxmlformats.org/drawingml/2006/table">
            <a:tbl>
              <a:tblPr/>
              <a:tblGrid>
                <a:gridCol w="1863720"/>
                <a:gridCol w="1865160"/>
                <a:gridCol w="2320920"/>
              </a:tblGrid>
              <a:tr h="77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99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99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mped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99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9999"/>
                      </a:solidFill>
                    </a:lnR>
                    <a:lnT w="18720">
                      <a:solidFill>
                        <a:srgbClr val="0099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612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RG-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99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5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ble T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99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77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RG-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99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hin Ethern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99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585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RG-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99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9999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hick Ethern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99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9999"/>
                      </a:solidFill>
                    </a:lnB>
                    <a:solidFill>
                      <a:srgbClr val="6666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990720" y="90360"/>
            <a:ext cx="48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Figure 7.8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BNC conn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87440" y="2895480"/>
            <a:ext cx="8199360" cy="20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990720" y="90360"/>
            <a:ext cx="48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Figure 7.9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axial cable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81040" y="1246320"/>
            <a:ext cx="749628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990720" y="90360"/>
            <a:ext cx="48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Figure 7.10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Bending of light 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5800" y="2708280"/>
            <a:ext cx="735012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990720" y="90360"/>
            <a:ext cx="48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Figure 7.11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Optical fi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04920" y="2867040"/>
            <a:ext cx="828180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990720" y="90360"/>
            <a:ext cx="48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Figure 7.12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Propagation m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71440" y="2014560"/>
            <a:ext cx="803448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990720" y="90360"/>
            <a:ext cx="48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Figure 7.13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062000" y="1600200"/>
            <a:ext cx="6024600" cy="44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684720" y="1371600"/>
            <a:ext cx="290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Table 7.3  Fiber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685800" y="1913040"/>
          <a:ext cx="7634160" cy="3344760"/>
        </p:xfrm>
        <a:graphic>
          <a:graphicData uri="http://schemas.openxmlformats.org/drawingml/2006/table">
            <a:tbl>
              <a:tblPr/>
              <a:tblGrid>
                <a:gridCol w="1386000"/>
                <a:gridCol w="1752480"/>
                <a:gridCol w="1752480"/>
                <a:gridCol w="2743200"/>
              </a:tblGrid>
              <a:tr h="76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99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99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99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lad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99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9999"/>
                      </a:solidFill>
                    </a:lnR>
                    <a:lnT w="18720">
                      <a:solidFill>
                        <a:srgbClr val="0099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613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50/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99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ultimode, graded-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99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76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62.5/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99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ultimode, graded-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99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590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/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99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ultimode, graded-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99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601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7/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99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9999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9999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ingle-m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99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9999"/>
                      </a:solidFill>
                    </a:lnB>
                    <a:solidFill>
                      <a:srgbClr val="6666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990720" y="90360"/>
            <a:ext cx="48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Figure 7.14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iber 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522360" y="1641600"/>
            <a:ext cx="8099280" cy="43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90720" y="9036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Figure 7.1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ransmission medium and physic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2280" y="3265560"/>
            <a:ext cx="8866440" cy="16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990720" y="90360"/>
            <a:ext cx="48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Figure 7.15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iber-optic cable conn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09640" y="2119320"/>
            <a:ext cx="726768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990720" y="90360"/>
            <a:ext cx="48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Figure 7.16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Optical fiber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147680" y="1066680"/>
            <a:ext cx="7158240" cy="546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"/>
          <p:cNvGrpSpPr/>
          <p:nvPr/>
        </p:nvGrpSpPr>
        <p:grpSpPr>
          <a:xfrm>
            <a:off x="0" y="0"/>
            <a:ext cx="8686800" cy="6552720"/>
            <a:chOff x="0" y="0"/>
            <a:chExt cx="8686800" cy="6552720"/>
          </a:xfrm>
        </p:grpSpPr>
        <p:sp>
          <p:nvSpPr>
            <p:cNvPr id="199" name=""/>
            <p:cNvSpPr/>
            <p:nvPr/>
          </p:nvSpPr>
          <p:spPr>
            <a:xfrm>
              <a:off x="380880" y="409680"/>
              <a:ext cx="8305920" cy="61430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0" y="0"/>
              <a:ext cx="8534520" cy="1310400"/>
            </a:xfrm>
            <a:prstGeom prst="pi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0" y="114696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233640" y="304920"/>
            <a:ext cx="762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7.2   Unguided Media: Wirel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62120" y="2209680"/>
            <a:ext cx="5715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adio Wa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icrowa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fra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1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10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10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990720" y="9036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Figure 7.17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Electromagnetic spectrum for wireless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04920" y="2465280"/>
            <a:ext cx="8062920" cy="19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990720" y="90360"/>
            <a:ext cx="48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Figure 7.18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Propagation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636480" y="1976400"/>
            <a:ext cx="7440840" cy="29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291960" y="22860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Table 7.4  B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228600" y="762120"/>
          <a:ext cx="8686800" cy="5073480"/>
        </p:xfrm>
        <a:graphic>
          <a:graphicData uri="http://schemas.openxmlformats.org/drawingml/2006/table">
            <a:tbl>
              <a:tblPr/>
              <a:tblGrid>
                <a:gridCol w="990720"/>
                <a:gridCol w="2286000"/>
                <a:gridCol w="1447560"/>
                <a:gridCol w="3962520"/>
              </a:tblGrid>
              <a:tr h="531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99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99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99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pag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99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ppl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9999"/>
                      </a:solidFill>
                    </a:lnR>
                    <a:lnT w="18720">
                      <a:solidFill>
                        <a:srgbClr val="0099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5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VL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99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–30 K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r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ong-range radio navig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99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L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99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–300 K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r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adio beacons and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avigational loca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99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425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M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99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0 KHz–3 M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M rad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99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HF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99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–30 M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itizens band (CB),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hip/aircraft commun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99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VHF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99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–300 M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ky and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ine-of-sigh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HF TV,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M rad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99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UHF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99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0 MHz–3 G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ine-of-sigh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HF TV, cellular phones,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ging, satell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99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636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SHF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99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–30 G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ine-of-sigh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tellite commun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99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45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EH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99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–300 G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9999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ine-of-sigh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9999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ong-range radio navig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99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9999"/>
                      </a:solidFill>
                    </a:lnB>
                    <a:solidFill>
                      <a:srgbClr val="3366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990720" y="90360"/>
            <a:ext cx="48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Figure 7.19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Wireless transmission wa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170000" y="2411280"/>
            <a:ext cx="6804000" cy="20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990720" y="90360"/>
            <a:ext cx="48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Figure 7.20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Omnidirectional anten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2590920" y="1209600"/>
            <a:ext cx="357336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838080" y="2195640"/>
            <a:ext cx="7543800" cy="173988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Radio waves are used for multicast communications, such as radio and television, and paging system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ubRRectCallout"/>
          <p:cNvSpPr/>
          <p:nvPr/>
        </p:nvSpPr>
        <p:spPr>
          <a:xfrm>
            <a:off x="838080" y="990720"/>
            <a:ext cx="2743200" cy="1143000"/>
          </a:xfrm>
          <a:custGeom>
            <a:avLst/>
            <a:gdLst>
              <a:gd name="textAreaLeft" fmla="*/ 18360 w 2743200"/>
              <a:gd name="textAreaRight" fmla="*/ 2719080 w 2743200"/>
              <a:gd name="textAreaTop" fmla="*/ 7560 h 1143000"/>
              <a:gd name="textAreaBottom" fmla="*/ 905400 h 114300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82640" cy="9144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2135520" y="1143000"/>
            <a:ext cx="122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t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990720" y="90360"/>
            <a:ext cx="48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Figure 7.21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Unidirectional anten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1068480" y="2209680"/>
            <a:ext cx="7084800" cy="29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90720" y="90360"/>
            <a:ext cx="48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Figure 7.2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asses of transmission 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5800" y="2062080"/>
            <a:ext cx="7331040" cy="25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838080" y="2195640"/>
            <a:ext cx="7543800" cy="228852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icrowaves are used for unicast communication such as cellular telephones, satellite networks, and wireless LA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ubRRectCallout"/>
          <p:cNvSpPr/>
          <p:nvPr/>
        </p:nvSpPr>
        <p:spPr>
          <a:xfrm>
            <a:off x="838080" y="990720"/>
            <a:ext cx="2743200" cy="1143000"/>
          </a:xfrm>
          <a:custGeom>
            <a:avLst/>
            <a:gdLst>
              <a:gd name="textAreaLeft" fmla="*/ 18360 w 2743200"/>
              <a:gd name="textAreaRight" fmla="*/ 2719080 w 2743200"/>
              <a:gd name="textAreaTop" fmla="*/ 7560 h 1143000"/>
              <a:gd name="textAreaBottom" fmla="*/ 905400 h 114300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82640" cy="9144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2135520" y="1143000"/>
            <a:ext cx="122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t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838080" y="2195640"/>
            <a:ext cx="7543800" cy="173988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nfrared signals can be used for short-range communication in a closed area using line-of-sight propaga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ubRRectCallout"/>
          <p:cNvSpPr/>
          <p:nvPr/>
        </p:nvSpPr>
        <p:spPr>
          <a:xfrm>
            <a:off x="838080" y="990720"/>
            <a:ext cx="2743200" cy="1143000"/>
          </a:xfrm>
          <a:custGeom>
            <a:avLst/>
            <a:gdLst>
              <a:gd name="textAreaLeft" fmla="*/ 18360 w 2743200"/>
              <a:gd name="textAreaRight" fmla="*/ 2719080 w 2743200"/>
              <a:gd name="textAreaTop" fmla="*/ 7560 h 1143000"/>
              <a:gd name="textAreaBottom" fmla="*/ 905400 h 114300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82640" cy="91440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2135520" y="1143000"/>
            <a:ext cx="122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t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8686800" cy="6552720"/>
            <a:chOff x="0" y="0"/>
            <a:chExt cx="8686800" cy="6552720"/>
          </a:xfrm>
        </p:grpSpPr>
        <p:sp>
          <p:nvSpPr>
            <p:cNvPr id="61" name=""/>
            <p:cNvSpPr/>
            <p:nvPr/>
          </p:nvSpPr>
          <p:spPr>
            <a:xfrm>
              <a:off x="380880" y="409680"/>
              <a:ext cx="8305920" cy="61430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0"/>
              <a:ext cx="8534520" cy="1310400"/>
            </a:xfrm>
            <a:prstGeom prst="pi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114696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231840" y="304920"/>
            <a:ext cx="463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7.1   Guided Me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2133720"/>
            <a:ext cx="60199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wisted-Pair C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Fiber-Optic C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1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90720" y="90360"/>
            <a:ext cx="48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Figure 7.3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wisted-pair c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04920" y="2976480"/>
            <a:ext cx="835488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990720" y="90360"/>
            <a:ext cx="48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Figure 7.4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UTP and S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03360" y="1887480"/>
            <a:ext cx="8235720" cy="30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46880" y="228600"/>
            <a:ext cx="703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Table 7.1  Categories of unshielded twisted-pair c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04920" y="762120"/>
          <a:ext cx="8686800" cy="5181480"/>
        </p:xfrm>
        <a:graphic>
          <a:graphicData uri="http://schemas.openxmlformats.org/drawingml/2006/table">
            <a:tbl>
              <a:tblPr/>
              <a:tblGrid>
                <a:gridCol w="1447560"/>
                <a:gridCol w="1447920"/>
                <a:gridCol w="1600200"/>
                <a:gridCol w="2666880"/>
                <a:gridCol w="1524240"/>
              </a:tblGrid>
              <a:tr h="76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99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99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andwid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99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ata 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99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igital/Analo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99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9999"/>
                      </a:solidFill>
                    </a:lnR>
                    <a:lnT w="18720">
                      <a:solidFill>
                        <a:srgbClr val="0099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613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99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ery 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&lt; 100 kb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nalo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leph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99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76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99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&lt; 2 M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 Mb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nalog/dig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-1 li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99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590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99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 M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 Mb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ig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99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612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99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 M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 Mb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ig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99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611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99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 M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 Mb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ig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99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612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6 (draf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99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 M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 Mb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ig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99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601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7 (draf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99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0 M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9999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0 Mb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9999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ig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9999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99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9999"/>
                      </a:solidFill>
                    </a:lnB>
                    <a:solidFill>
                      <a:srgbClr val="6666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990720" y="90360"/>
            <a:ext cx="48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Figure 7.5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UTP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04960" y="1922400"/>
            <a:ext cx="753264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990720" y="90360"/>
            <a:ext cx="48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Figure 7.6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UTP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89120" y="1460520"/>
            <a:ext cx="7211880" cy="47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5T17:31:12Z</dcterms:created>
  <dc:creator>saud</dc:creator>
  <dc:description/>
  <dc:language>en-US</dc:language>
  <cp:lastModifiedBy>saud</cp:lastModifiedBy>
  <dcterms:modified xsi:type="dcterms:W3CDTF">2007-06-15T17:31:25Z</dcterms:modified>
  <cp:revision>1</cp:revision>
  <dc:subject/>
  <dc:title>Slide 1</dc:title>
</cp:coreProperties>
</file>