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8286-FF60-44EF-8CDB-8C8F82B3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0945-6290-4745-BCBC-CAD73A9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4078-BFF0-4484-88A0-4DC13B9F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4786-8133-47D5-8C70-B51BE577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06E6-236A-4177-9092-CFF44A4C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38B8-3365-49F1-92BD-0FD85717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323-131F-4B18-BC44-704C2DFC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F0D1-652B-496C-BCAF-ADB3A2A6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991-C8E2-41EF-B080-433B0AE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541-05C1-43EA-8FCD-91C5B5B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BC78-C0AE-4415-8C67-DD3E9E6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3A53-6F64-4C99-A10F-A54D6FE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E249-32BC-4BD6-B102-2D1AE42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0C3E-235C-4172-ACD3-1A70FF6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88E6-75B7-482F-B355-7F773943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F9B6-4DA0-4F13-8BCB-45A9A626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336E-A0DB-42EA-874B-441BC164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196D-1CFA-460D-AF1D-2BD9DD1B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AAB4-FE73-4DB0-9214-40B09FCC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2201-F451-4ADF-B36A-91597EF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9CAC-BF3F-465B-8F57-C294329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8D77-35DF-4C72-85BD-0306B2DA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2A04-BA2D-469D-BFF5-0E24656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7C08-45DE-49F0-AF8C-3BF1FE3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FEC3-62F3-4621-A5FD-938DA83EB14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A34-F2B7-4F33-80E8-8EC6618CB91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160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e5e5ff"/>
                </a:solidFill>
                <a:latin typeface="Garamond"/>
              </a:rPr>
              <a:t>Economia Solidária: Outra economia acontec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quecimento"/>
          <p:cNvPicPr/>
          <p:nvPr/>
        </p:nvPicPr>
        <p:blipFill>
          <a:blip r:embed="rId1"/>
          <a:stretch/>
        </p:blipFill>
        <p:spPr>
          <a:xfrm>
            <a:off x="2484360" y="1484280"/>
            <a:ext cx="4098960" cy="477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2421000" y="765000"/>
            <a:ext cx="42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quecimento Globa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2608200" y="238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964520" y="76500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ecarização do trabalh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4" descr="01_b"/>
          <p:cNvPicPr/>
          <p:nvPr/>
        </p:nvPicPr>
        <p:blipFill>
          <a:blip r:embed="rId1"/>
          <a:stretch/>
        </p:blipFill>
        <p:spPr>
          <a:xfrm>
            <a:off x="2340000" y="2138400"/>
            <a:ext cx="43927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629080" y="76500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balho infanti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escravidom"/>
          <p:cNvPicPr/>
          <p:nvPr/>
        </p:nvPicPr>
        <p:blipFill>
          <a:blip r:embed="rId1"/>
          <a:stretch/>
        </p:blipFill>
        <p:spPr>
          <a:xfrm>
            <a:off x="3132000" y="1773360"/>
            <a:ext cx="2710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14600" y="71280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Trabalho escravo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8" descr="Em nenhuma carvoaria foi encontrada água potável"/>
          <p:cNvPicPr/>
          <p:nvPr/>
        </p:nvPicPr>
        <p:blipFill>
          <a:blip r:embed="rId1"/>
          <a:stretch/>
        </p:blipFill>
        <p:spPr>
          <a:xfrm>
            <a:off x="2195640" y="2060640"/>
            <a:ext cx="48243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obreza-cciseta"/>
          <p:cNvPicPr/>
          <p:nvPr/>
        </p:nvPicPr>
        <p:blipFill>
          <a:blip r:embed="rId1"/>
          <a:stretch/>
        </p:blipFill>
        <p:spPr>
          <a:xfrm>
            <a:off x="1859040" y="2055960"/>
            <a:ext cx="5305320" cy="3389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269880" y="87948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Verdana"/>
              </a:rPr>
              <a:t>Pobreza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raque: abusos  são crimes de guerra"/>
          <p:cNvPicPr/>
          <p:nvPr/>
        </p:nvPicPr>
        <p:blipFill>
          <a:blip r:embed="rId1"/>
          <a:stretch/>
        </p:blipFill>
        <p:spPr>
          <a:xfrm>
            <a:off x="2340000" y="1989000"/>
            <a:ext cx="4319640" cy="3240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463560" y="879480"/>
            <a:ext cx="19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Verdana"/>
              </a:rPr>
              <a:t>Guerra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419640" y="3645000"/>
            <a:ext cx="547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erá que teremos que nos render a este tipo de vida?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9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12" descr="sumop-grande-pequeno"/>
          <p:cNvPicPr/>
          <p:nvPr/>
        </p:nvPicPr>
        <p:blipFill>
          <a:blip r:embed="rId2"/>
          <a:stretch/>
        </p:blipFill>
        <p:spPr>
          <a:xfrm>
            <a:off x="654120" y="3213000"/>
            <a:ext cx="2477880" cy="2880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3"/>
          <p:cNvSpPr/>
          <p:nvPr/>
        </p:nvSpPr>
        <p:spPr>
          <a:xfrm>
            <a:off x="755640" y="1700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O capitalismo é um sistema capaz de produzir riqueza gerando miséria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900000" y="1773360"/>
            <a:ext cx="712800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A Economia solidária é entendida como uma estratégia de enfrentamento aos processos de exclusão social e de precarização do trabalho que acompanham o desenvolvimento do capitalismo nos últimos tempos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Economia solidária: </a:t>
            </a:r>
            <a:br>
              <a:rPr sz="4400"/>
            </a:b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Conceito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Economia solidária: Conceito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É um conjunto de práticas socioeconômicas coletivas de produção, distribuição, consumo, poupança e crédito centradas no humano, em que a solidariedade e a reciprocidade se colocam como elementos definidores do agir econômico em contraste com o individualismo e a competitividade características do padrão de comportamento tradicional nas sociedades capitalistas (Adaptado a partir de Singer, 2003, e SENAES, 200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7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640" y="2997000"/>
            <a:ext cx="8893080" cy="22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pt-BR" sz="2800" spc="-1" strike="noStrike">
                <a:solidFill>
                  <a:srgbClr val="e5e5ff"/>
                </a:solidFill>
                <a:latin typeface="Garamond"/>
              </a:rPr>
              <a:t>Pense em um jeito de produzir, vender, consumir produtos, oferecer e receber crédito, onde as pessoas não são movidas pela ganância, mas pelo desejo de que não haja excluído, de que todos possam viver bem”</a:t>
            </a:r>
            <a:br>
              <a:rPr sz="2800"/>
            </a:br>
            <a:r>
              <a:rPr b="0" lang="pt-BR" sz="2800" spc="-1" strike="noStrike">
                <a:solidFill>
                  <a:srgbClr val="e5e5ff"/>
                </a:solidFill>
                <a:latin typeface="Garamond"/>
              </a:rPr>
              <a:t>(Cartilha da Campanha Nacional de Mobilização Social - SENAES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56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5e5ff"/>
                </a:solidFill>
                <a:latin typeface="Garamond"/>
              </a:rPr>
              <a:t>Economia solidária: Conceito III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5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rofit"/>
          <p:cNvPicPr/>
          <p:nvPr/>
        </p:nvPicPr>
        <p:blipFill>
          <a:blip r:embed="rId1"/>
          <a:stretch/>
        </p:blipFill>
        <p:spPr>
          <a:xfrm>
            <a:off x="2987640" y="1589040"/>
            <a:ext cx="3384720" cy="3063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216160" y="40464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Capitalismo Selvagem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e5e5ff"/>
                </a:solidFill>
                <a:latin typeface="Garamond"/>
              </a:rPr>
              <a:t>Princípios: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50344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olidariedade (princípio geral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utogestão e relações democráticas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iabilidade sócio-econômic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operação (articulação em rede com outros empreendimentos e atore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8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e5e5ff"/>
                </a:solidFill>
                <a:latin typeface="Garamond"/>
              </a:rPr>
              <a:t>Práticas: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857240"/>
            <a:ext cx="82296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operativismo / Associativismo;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mércio just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lubes de troc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resas recuperada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sumo conscient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ças solidária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onsabilidade social corporativ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ubaçã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e5e5ff"/>
                </a:solidFill>
                <a:latin typeface="Garamond"/>
              </a:rPr>
              <a:t>Desafios: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1857240"/>
            <a:ext cx="856908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Formaçã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mercializaçã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édit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stência Técnica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(SENAES, 2006)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ros: Marco Jurídico, Pesquisa, Desburocratização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5e5ff"/>
                </a:solidFill>
                <a:latin typeface="Garamond"/>
              </a:rPr>
              <a:t>ATORES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Picture 9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347920" y="2349360"/>
            <a:ext cx="566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mpreendimentos Solidário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ntidades de Apoio e Assessoria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midores Conscient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5e5ff"/>
                </a:solidFill>
                <a:latin typeface="Garamond"/>
              </a:rPr>
              <a:t>ATOR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Picture 9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90960" y="3284640"/>
            <a:ext cx="37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operativas Populare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810320" y="328464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ssociaçõe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811440" y="4149720"/>
            <a:ext cx="34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Bancos Comunitário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095200" y="234936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mpreendimentos Solidário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4724280" y="421488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mpresas Recuperada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e5e5ff"/>
                </a:solidFill>
                <a:latin typeface="Garamond"/>
              </a:rPr>
              <a:t>ATOR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9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643040" y="2811600"/>
            <a:ext cx="5286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icípio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do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ão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6"/>
          <p:cNvSpPr/>
          <p:nvPr/>
        </p:nvSpPr>
        <p:spPr>
          <a:xfrm>
            <a:off x="960480" y="3259080"/>
            <a:ext cx="12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NG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37240" y="40766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Grupos de Extensão Universitári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027160" y="2143080"/>
            <a:ext cx="55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ntidades de Apoio e Assessoria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9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5e5ff"/>
                </a:solidFill>
                <a:latin typeface="Garamond"/>
              </a:rPr>
              <a:t>ATOR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097280" y="500076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ncubadora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5e5ff"/>
                </a:solidFill>
                <a:latin typeface="Garamond"/>
              </a:rPr>
              <a:t>ATOR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54080" y="2687760"/>
            <a:ext cx="47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sumidores Conscient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3565800" y="1125360"/>
            <a:ext cx="48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movimento no Brasi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7" descr="ecosol"/>
          <p:cNvPicPr/>
          <p:nvPr/>
        </p:nvPicPr>
        <p:blipFill>
          <a:blip r:embed="rId2"/>
          <a:stretch/>
        </p:blipFill>
        <p:spPr>
          <a:xfrm>
            <a:off x="324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679840" y="242100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órum Social Mundi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0" y="2928960"/>
            <a:ext cx="44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</a:rPr>
              <a:t>Criação da SENAE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Garamond"/>
              </a:rPr>
              <a:t>(2003)/MTE/Governo Feder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50920" y="37162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989000" y="38577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órum Brasileiro ECOSO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57640" y="4941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órum Baiano ECOSOL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572000" y="4429080"/>
            <a:ext cx="545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</a:rPr>
              <a:t>Criação da SESO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Garamond"/>
              </a:rPr>
              <a:t>(Lei 10.549/2006) na SETRE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Garamond"/>
              </a:rPr>
              <a:t>Governo do Estado da Bahi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9144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5e5ff"/>
                </a:solidFill>
                <a:latin typeface="Garamond"/>
              </a:rPr>
              <a:t>Programa Bahia Solidária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14240" y="1714680"/>
            <a:ext cx="7612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Programa Bahia Solidária se propõe a fortalecer o associativismo e cooperativismo, promover o desenvolvimento e a divulgação da economia solidária, mediante políticas integradas, visando à geração de trabalho e renda, respeito à cidadania e promoção do desenvolvimento justo e solidário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O programa Bahia Solidária tem como suas principais ações: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Garamond"/>
              </a:rPr>
              <a:t>• </a:t>
            </a:r>
            <a:r>
              <a:rPr b="1" lang="pt-BR" sz="2200" spc="-1" strike="noStrike">
                <a:solidFill>
                  <a:srgbClr val="ff0000"/>
                </a:solidFill>
                <a:latin typeface="Garamond"/>
              </a:rPr>
              <a:t>Reciclar para Crescer</a:t>
            </a:r>
            <a:br>
              <a:rPr sz="2200"/>
            </a:br>
            <a:r>
              <a:rPr b="1" lang="pt-BR" sz="2200" spc="-1" strike="noStrike">
                <a:solidFill>
                  <a:srgbClr val="ff0000"/>
                </a:solidFill>
                <a:latin typeface="Garamond"/>
              </a:rPr>
              <a:t>• Centros Públicos </a:t>
            </a:r>
            <a:br>
              <a:rPr sz="2200"/>
            </a:br>
            <a:r>
              <a:rPr b="1" lang="pt-BR" sz="2200" spc="-1" strike="noStrike">
                <a:solidFill>
                  <a:srgbClr val="ff0000"/>
                </a:solidFill>
                <a:latin typeface="Garamond"/>
              </a:rPr>
              <a:t>• Mapeamento dos Empreendimentos Solidários</a:t>
            </a:r>
            <a:br>
              <a:rPr sz="2200"/>
            </a:br>
            <a:r>
              <a:rPr b="1" lang="pt-BR" sz="2200" spc="-1" strike="noStrike">
                <a:solidFill>
                  <a:srgbClr val="ff0000"/>
                </a:solidFill>
                <a:latin typeface="Garamond"/>
              </a:rPr>
              <a:t>• CrediBahia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_capitalismo"/>
          <p:cNvPicPr/>
          <p:nvPr/>
        </p:nvPicPr>
        <p:blipFill>
          <a:blip r:embed="rId1"/>
          <a:stretch/>
        </p:blipFill>
        <p:spPr>
          <a:xfrm>
            <a:off x="3079800" y="1258920"/>
            <a:ext cx="3220920" cy="4257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217240" y="40464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Capitalismo Selvagem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9144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pt-BR" sz="3000" spc="-1" strike="noStrike">
                <a:solidFill>
                  <a:srgbClr val="e5e5ff"/>
                </a:solidFill>
                <a:latin typeface="Garamond"/>
              </a:rPr>
              <a:t>Programa Bahia Solidária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714240" y="1714680"/>
            <a:ext cx="7612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BJETIV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stimular a prática do consumo consciente e do comércio justo e solidário por meio de uma rede de comercialização e por meio de uma agenda de eventos pedagógicos destas prática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estar consultoria administrativa aos empreendimentos de economia solidária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mover eventos de articulação e auto-organização dos atores da economia solidária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stimular a formação de grupos produtivos a partir do público do CrediBahia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9144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5e5ff"/>
                </a:solidFill>
                <a:latin typeface="Garamond"/>
              </a:rPr>
              <a:t>Programa Bahia Solidária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714240" y="1714680"/>
            <a:ext cx="7612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BJETIV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Incubar empreendimentos de economia solidária por meio das Incubadoras Públicas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esenvolver e estimular o uso de Tecnologias da Informação para a gestão e desenvolvimento dos empreendimentos por meio dos CDC em parceria com a SECTI;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rticular outras ações públicas pertinentes ao desenvolvimento da economia solidária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91440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CENTRO PÚBLICO ESTADUAL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DE ECONOMIA SOLIDÁRIA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Retângulo 3"/>
          <p:cNvSpPr/>
          <p:nvPr/>
        </p:nvSpPr>
        <p:spPr>
          <a:xfrm>
            <a:off x="747720" y="1357200"/>
            <a:ext cx="7799400" cy="68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São espaços multifuncionais de desenvolvimento e fomento à economia solidária que oferecem aos empreendimentos populares e solidários serviços de: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Consultoria organizacional,</a:t>
            </a: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Difusão de tecnologia de incubação</a:t>
            </a: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Microcrédito e finanças solidárias</a:t>
            </a: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Cursos de qualificação,</a:t>
            </a: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Espaço de ensino-aprendizagem de comércio justo e solidário,</a:t>
            </a: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Orientações para comercialização e divulgação dos produtos dos empreendimentos, espaço para eventos como reuniões dos fóruns e redes locais;</a:t>
            </a:r>
            <a:br>
              <a:rPr sz="1700"/>
            </a:b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• Atividades culturais e de fortalecimento da identidade.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Principais desafios do CESOL: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Gestão democrática;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Abrangência territorial dos serviços;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Articulação intermunicipal e governamental;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Metodologia de funcionamento;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Garamond"/>
              </a:rPr>
              <a:t>Constituição de uma rede estadual de comercialização dos produtos da EcoSol.</a:t>
            </a: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endParaRPr b="1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91440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CENTRO PÚBLICO ESTADUAL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DE ECONOMIA SOLIDÁRIA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tângulo 3"/>
          <p:cNvSpPr/>
          <p:nvPr/>
        </p:nvSpPr>
        <p:spPr>
          <a:xfrm>
            <a:off x="747720" y="1357200"/>
            <a:ext cx="779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Endereço: 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ua Álvares Cabral, nº 16 prédio Oscar Cordeiro,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omércio, Salvador- Bahia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-mail: cesol@setre.ba.gov.br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Tels.: (71) 3117-1589 / 1591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6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196416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780000" y="2060640"/>
            <a:ext cx="46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Em resposta a uma ética da exclusão, estamos todos desafiados a praticar uma ética da solidariedade.”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Herbert de Souza (Betinho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Picture 8" descr="betinho"/>
          <p:cNvPicPr/>
          <p:nvPr/>
        </p:nvPicPr>
        <p:blipFill>
          <a:blip r:embed="rId2"/>
          <a:stretch/>
        </p:blipFill>
        <p:spPr>
          <a:xfrm>
            <a:off x="468360" y="1916280"/>
            <a:ext cx="26859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e5e5ff"/>
                </a:solidFill>
                <a:latin typeface="Garamond"/>
              </a:rPr>
              <a:t>CONTATOS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SESOL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: (71) 3115-156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ERINTENDENTE: HELBETH OLI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OORD. DE ESTUDOS E DIVULGAÇÃO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LARA MATOS: TEL.  (71) 3115-994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OORD. DE MICROCRÉDITO E FINANÇAS  SOLIDÁRIAS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WELITO MENDES: TEL. (71) 3371-1812 /3115-32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OORD. DE FOMENTO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KARINE OLIVEIRA: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TEL.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(71)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3115-9919/153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4" descr="marca_setras"/>
          <p:cNvPicPr/>
          <p:nvPr/>
        </p:nvPicPr>
        <p:blipFill>
          <a:blip r:embed="rId1"/>
          <a:stretch/>
        </p:blipFill>
        <p:spPr>
          <a:xfrm>
            <a:off x="106200" y="162000"/>
            <a:ext cx="2305080" cy="1179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995120" y="252360"/>
            <a:ext cx="743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Garamond"/>
              </a:rPr>
              <a:t>Superintendência de Economia Solidária - SESOL</a:t>
            </a:r>
            <a:endParaRPr b="1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ArtImage"/>
          <p:cNvPicPr/>
          <p:nvPr/>
        </p:nvPicPr>
        <p:blipFill>
          <a:blip r:embed="rId1"/>
          <a:stretch/>
        </p:blipFill>
        <p:spPr>
          <a:xfrm>
            <a:off x="1692360" y="1203480"/>
            <a:ext cx="56196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296160" y="40464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Consumismo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elevisori in un supermercato"/>
          <p:cNvPicPr/>
          <p:nvPr/>
        </p:nvPicPr>
        <p:blipFill>
          <a:blip r:embed="rId1"/>
          <a:stretch/>
        </p:blipFill>
        <p:spPr>
          <a:xfrm>
            <a:off x="2050920" y="130320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3151440" y="40464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Consumismo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154320" y="9079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Desemprego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2050920" y="2133720"/>
          <a:ext cx="532944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133720"/>
                    <a:ext cx="532944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esemprego"/>
          <p:cNvPicPr/>
          <p:nvPr/>
        </p:nvPicPr>
        <p:blipFill>
          <a:blip r:embed="rId1"/>
          <a:stretch/>
        </p:blipFill>
        <p:spPr>
          <a:xfrm>
            <a:off x="1763640" y="2060640"/>
            <a:ext cx="5400720" cy="330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09960" y="76500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Desemprego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labirint"/>
          <p:cNvPicPr/>
          <p:nvPr/>
        </p:nvPicPr>
        <p:blipFill>
          <a:blip r:embed="rId1"/>
          <a:stretch/>
        </p:blipFill>
        <p:spPr>
          <a:xfrm>
            <a:off x="2797200" y="1628640"/>
            <a:ext cx="3790800" cy="4094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631600" y="549360"/>
            <a:ext cx="41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Enclausuramento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industrias_poluentes"/>
          <p:cNvPicPr/>
          <p:nvPr/>
        </p:nvPicPr>
        <p:blipFill>
          <a:blip r:embed="rId1"/>
          <a:stretch/>
        </p:blipFill>
        <p:spPr>
          <a:xfrm>
            <a:off x="2411280" y="2060640"/>
            <a:ext cx="4407120" cy="297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676160" y="11206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gradação do Meio Ambient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2:08:13Z</dcterms:created>
  <dc:creator>Tatiana Reis</dc:creator>
  <dc:description/>
  <dc:language>en-US</dc:language>
  <cp:lastModifiedBy>ALAIN</cp:lastModifiedBy>
  <dcterms:modified xsi:type="dcterms:W3CDTF">2010-05-23T18:55:52Z</dcterms:modified>
  <cp:revision>109</cp:revision>
  <dc:subject/>
  <dc:title>Slide 1</dc:title>
</cp:coreProperties>
</file>