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E0C2F5-ED8F-419C-BAF6-8CDE00380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50CDF7-CEC0-4D8D-A660-5B59F2590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E34B21-3AB6-41C9-A61B-CF8BDED9D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020A8E-230F-4884-91A8-CE66FBADC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9D66B-980D-455A-9A2F-42BF1E244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ADEDF-103A-4709-BC62-072C85154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30467-5D80-437E-B3C9-838AC7C0E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80046-0935-4C59-AE50-D406A3D3F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D3BA3-A88F-4385-9B13-955FF8C65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BFAE3-7C1B-4891-9279-658A5983B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AE58A-0BDA-4BD6-91B0-130179553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99EAA2-2C60-4DFB-AB39-5E6E709D7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A5240-E69D-4F76-8CB7-077EEA96A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E83D5-8404-498E-9595-7FEEB53B2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1FA19-3B3F-4022-8B7C-848D3D2BD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D38FF-EDDA-4EBF-91CE-C603C0569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40923-A97F-4518-9A67-634AAE037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80A6BE-AAE4-401D-8A3B-D5D2FA3CB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7D2F37-5804-4C7F-9D5F-F4CF3AB8C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F1B501-3759-4F7F-8C08-48AD0BA6D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F90C0A-40CF-4777-A659-0248B9C2D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E376F6-8B1B-4817-95EB-A639E5CE5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7BA497-7ADD-4C9B-903C-560E8CD8D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EC5136-3123-4CE9-BC9F-FA5638EC7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BBE17-1C66-40C8-B2B4-6796428A5A67}" type="slidenum">
              <a:rPr b="0" lang="pt-B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5EF28-A4D8-4AF0-907F-F9A220046AEF}" type="slidenum">
              <a:rPr b="0" lang="pt-B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4360" y="25160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>
                <a:solidFill>
                  <a:srgbClr val="e5e5ff"/>
                </a:solidFill>
                <a:latin typeface="Garamond"/>
              </a:rPr>
              <a:t>O Direito na perspectiva da Economia Solidária</a:t>
            </a:r>
            <a:endParaRPr b="1" lang="en-US" sz="5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1" name="Picture 4" descr="marca_setras"/>
          <p:cNvPicPr/>
          <p:nvPr/>
        </p:nvPicPr>
        <p:blipFill>
          <a:blip r:embed="rId1"/>
          <a:stretch/>
        </p:blipFill>
        <p:spPr>
          <a:xfrm>
            <a:off x="106200" y="162000"/>
            <a:ext cx="2305080" cy="117936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5"/>
          <p:cNvSpPr/>
          <p:nvPr/>
        </p:nvSpPr>
        <p:spPr>
          <a:xfrm>
            <a:off x="1964160" y="252360"/>
            <a:ext cx="74332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ffffff"/>
                </a:solidFill>
                <a:latin typeface="Garamond"/>
              </a:rPr>
              <a:t>Superintendência de Economia Solidária - SESOL</a:t>
            </a:r>
            <a:endParaRPr b="1" lang="en-US" sz="23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7"/>
          <p:cNvSpPr/>
          <p:nvPr/>
        </p:nvSpPr>
        <p:spPr>
          <a:xfrm>
            <a:off x="2608200" y="23814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857160" y="1680120"/>
            <a:ext cx="7072560" cy="35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ffffff"/>
                </a:solidFill>
                <a:uFillTx/>
                <a:latin typeface="Garamond"/>
                <a:ea typeface="Times New Roman"/>
              </a:rPr>
              <a:t>(3) Responsabilidade dos Sócios:</a:t>
            </a:r>
            <a:endParaRPr b="1" lang="en-US" sz="2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1" lang="pt-BR" sz="2200" spc="-1" strike="noStrike">
                <a:solidFill>
                  <a:srgbClr val="ffffff"/>
                </a:solidFill>
                <a:latin typeface="Garamond"/>
                <a:ea typeface="Times New Roman"/>
              </a:rPr>
              <a:t>Art. 990, Código Civil:  </a:t>
            </a:r>
            <a:r>
              <a:rPr b="1" i="1" lang="pt-BR" sz="2200" spc="-1" strike="noStrike">
                <a:solidFill>
                  <a:srgbClr val="ffffff"/>
                </a:solidFill>
                <a:latin typeface="Garamond"/>
                <a:ea typeface="Times New Roman"/>
              </a:rPr>
              <a:t>“Todos os sócios respondem solidária e ilimitadamente pelas obrigações sociais (...).”</a:t>
            </a:r>
            <a:endParaRPr b="1" lang="en-US" sz="2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Garamond"/>
              </a:rPr>
              <a:t>Resumindo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: Sem registro, </a:t>
            </a:r>
            <a:r>
              <a:rPr b="1" lang="pt-BR" sz="1800" spc="-1" strike="noStrike">
                <a:solidFill>
                  <a:srgbClr val="ffffff"/>
                </a:solidFill>
                <a:latin typeface="Garamond"/>
              </a:rPr>
              <a:t>todos os membros respondem com seu patrimônio pessoal pelos débitos da organização.</a:t>
            </a: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857160" y="549360"/>
            <a:ext cx="721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Disciplina jurídica das Organizações Informais</a:t>
            </a: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4"/>
          <p:cNvSpPr/>
          <p:nvPr/>
        </p:nvSpPr>
        <p:spPr>
          <a:xfrm>
            <a:off x="1012320" y="285840"/>
            <a:ext cx="362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Impactos da informalidade</a:t>
            </a: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Retângulo 4"/>
          <p:cNvSpPr/>
          <p:nvPr/>
        </p:nvSpPr>
        <p:spPr>
          <a:xfrm>
            <a:off x="928800" y="1720800"/>
            <a:ext cx="6643440" cy="47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ff"/>
                </a:solidFill>
                <a:latin typeface="Garamond"/>
              </a:rPr>
              <a:t>A Sociedade em Comum não tem possibilidade de, por exemplo, contratar, submeter-se a procedimento licitatório, nem exercer o direito de ajuizar uma ação de cobrança contra um devedor, pois não existe enquanto sujeito de direito.</a:t>
            </a:r>
            <a:endParaRPr b="1" lang="en-US" sz="2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ff"/>
                </a:solidFill>
                <a:latin typeface="Garamond"/>
              </a:rPr>
              <a:t>A despeito disso, qualquer terceiro que se sentir prejudicado poderá exigir  que o patrimônio da organização suporte a responsabilização por atos gestão praticados por qualquer dos sócios </a:t>
            </a:r>
            <a:r>
              <a:rPr b="1" lang="pt-BR" sz="2000" spc="-1" strike="noStrike">
                <a:solidFill>
                  <a:srgbClr val="ffffff"/>
                </a:solidFill>
                <a:latin typeface="Garamond"/>
              </a:rPr>
              <a:t>(Código Civil de 2002, artigo 989).</a:t>
            </a: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tângulo 3"/>
          <p:cNvSpPr/>
          <p:nvPr/>
        </p:nvSpPr>
        <p:spPr>
          <a:xfrm>
            <a:off x="857160" y="1357200"/>
            <a:ext cx="724392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fffff"/>
                </a:solidFill>
                <a:latin typeface="Garamond"/>
              </a:rPr>
              <a:t>A economia solidária luta pela preservação dos direitos sociais e também pela sua ampliação.</a:t>
            </a:r>
            <a:endParaRPr b="1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pt-BR" sz="2600" spc="-1" strike="noStrike">
                <a:solidFill>
                  <a:srgbClr val="ffffff"/>
                </a:solidFill>
                <a:latin typeface="Garamond"/>
              </a:rPr>
              <a:t>Mas como se hão de garantir direitos sem o necessário reconhecimento de atores da economia solidária como sujeitos? </a:t>
            </a:r>
            <a:endParaRPr b="1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1012320" y="285840"/>
            <a:ext cx="362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Impactos da informalidade</a:t>
            </a: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tângulo 3"/>
          <p:cNvSpPr/>
          <p:nvPr/>
        </p:nvSpPr>
        <p:spPr>
          <a:xfrm>
            <a:off x="928800" y="1000080"/>
            <a:ext cx="6929280" cy="63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pt-BR" sz="2800" spc="-1" strike="noStrike">
                <a:solidFill>
                  <a:srgbClr val="ffffff"/>
                </a:solidFill>
                <a:latin typeface="Garamond"/>
              </a:rPr>
              <a:t>Percorremos um longo caminho, 178 anos de história do esforço para construir o cidadão brasileiro. </a:t>
            </a: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Garamond"/>
              </a:rPr>
              <a:t>Chegamos ao final da jornada com a sensação desconfortável de incompletude.</a:t>
            </a: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Garamond"/>
              </a:rPr>
              <a:t>Os progressos feitos são inegáveis, mas foram lentos e não escondem o longo caminho que ainda falta percorrer.”</a:t>
            </a: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Garamond"/>
              </a:rPr>
              <a:t>CARVALHO, José Murilo de. Cidadania no Brasil. O  longo Caminho.  3ª   ed.  Rio de Janeiro: Civilização Brasileira, 2002.</a:t>
            </a:r>
            <a:endParaRPr b="1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1012320" y="285840"/>
            <a:ext cx="362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Impactos da informalidade</a:t>
            </a: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0" name="Imagem 3" descr="economia_solidaria.jpg"/>
          <p:cNvPicPr/>
          <p:nvPr/>
        </p:nvPicPr>
        <p:blipFill>
          <a:blip r:embed="rId1"/>
          <a:stretch/>
        </p:blipFill>
        <p:spPr>
          <a:xfrm>
            <a:off x="7786800" y="5500800"/>
            <a:ext cx="1098360" cy="107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6"/>
          <p:cNvSpPr/>
          <p:nvPr/>
        </p:nvSpPr>
        <p:spPr>
          <a:xfrm>
            <a:off x="714240" y="214200"/>
            <a:ext cx="4176720" cy="576360"/>
          </a:xfrm>
          <a:prstGeom prst="rect">
            <a:avLst/>
          </a:prstGeom>
          <a:solidFill>
            <a:srgbClr val="003399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900000" y="1700280"/>
            <a:ext cx="7344000" cy="39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ff"/>
                </a:solidFill>
                <a:latin typeface="Garamond"/>
              </a:rPr>
              <a:t>O que se vê na prática:</a:t>
            </a:r>
            <a:endParaRPr b="1" lang="en-US" sz="2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buClr>
                <a:srgbClr val="ffffff"/>
              </a:buClr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ff"/>
                </a:solidFill>
                <a:latin typeface="Garamond"/>
              </a:rPr>
              <a:t>Dificuldade na distinção entre os modelos jurídico-organizacionais (Associação, Cooperativa, Sociedade, etc.)</a:t>
            </a:r>
            <a:endParaRPr b="1" lang="en-US" sz="2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buClr>
                <a:srgbClr val="ffffff"/>
              </a:buClr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buClr>
                <a:srgbClr val="ffffff"/>
              </a:buClr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ff"/>
                </a:solidFill>
                <a:latin typeface="Garamond"/>
              </a:rPr>
              <a:t>Dificuldade na distinção entre os títulos qualificadores / certificações;</a:t>
            </a:r>
            <a:endParaRPr b="1" lang="en-US" sz="2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buClr>
                <a:srgbClr val="ffffff"/>
              </a:buClr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buClr>
                <a:srgbClr val="ffffff"/>
              </a:buClr>
              <a:buFont typeface="Garamond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Garamond"/>
              </a:rPr>
              <a:t>Dificuldade na elaboração de atas e estatutos.</a:t>
            </a:r>
            <a:endParaRPr b="1" lang="en-US" sz="2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buClr>
                <a:srgbClr val="ffffff"/>
              </a:buClr>
              <a:buFont typeface="Garamond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Text Box 10"/>
          <p:cNvSpPr/>
          <p:nvPr/>
        </p:nvSpPr>
        <p:spPr>
          <a:xfrm>
            <a:off x="785880" y="285840"/>
            <a:ext cx="6377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fffff"/>
                </a:solidFill>
                <a:latin typeface="Garamond"/>
              </a:rPr>
              <a:t>Esfera Jurídica</a:t>
            </a:r>
            <a:endParaRPr b="1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6"/>
          <p:cNvSpPr/>
          <p:nvPr/>
        </p:nvSpPr>
        <p:spPr>
          <a:xfrm>
            <a:off x="714240" y="214200"/>
            <a:ext cx="4176720" cy="576360"/>
          </a:xfrm>
          <a:prstGeom prst="rect">
            <a:avLst/>
          </a:prstGeom>
          <a:solidFill>
            <a:srgbClr val="003399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157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e5e5ff"/>
                </a:solidFill>
                <a:latin typeface="Garamond"/>
              </a:rPr>
              <a:t>    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Retângulo 5"/>
          <p:cNvSpPr/>
          <p:nvPr/>
        </p:nvSpPr>
        <p:spPr>
          <a:xfrm>
            <a:off x="1285920" y="1071720"/>
            <a:ext cx="6238800" cy="28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buClr>
                <a:srgbClr val="ffffff"/>
              </a:buClr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Garamond"/>
              </a:rPr>
              <a:t>Dificuldade na distinção entre os modelos jurídico-organizacionais (Associação, Cooperativa, Sociedade, etc.)</a:t>
            </a: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buClr>
                <a:srgbClr val="ffffff"/>
              </a:buClr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928800" y="2031840"/>
          <a:ext cx="7215120" cy="3597480"/>
        </p:xfrm>
        <a:graphic>
          <a:graphicData uri="http://schemas.openxmlformats.org/drawingml/2006/table">
            <a:tbl>
              <a:tblPr/>
              <a:tblGrid>
                <a:gridCol w="1646280"/>
                <a:gridCol w="1647720"/>
                <a:gridCol w="2195640"/>
                <a:gridCol w="17254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ssociações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Fundações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ooperativas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ociedades Limitadas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ociedade de pessoas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onalização de um conjunto de bens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ociedade de Pessoas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ociedade de capital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8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bjetivo principal é  realizar atividades assistenciais, culturais,  desportivas, etc. (fim não econômico)*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Fim determinado, não econômico e de interesse coletivo.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bjetivo principal é a prestação de serviços econômicos ou financeiros aos sócios (fim econômico  não lucrativo)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bjetivo principal é o lucro (fim econômico e lucrativo)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8" name="Text Box 10"/>
          <p:cNvSpPr/>
          <p:nvPr/>
        </p:nvSpPr>
        <p:spPr>
          <a:xfrm>
            <a:off x="785880" y="285840"/>
            <a:ext cx="6377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fffff"/>
                </a:solidFill>
                <a:latin typeface="Garamond"/>
              </a:rPr>
              <a:t>Esfera Jurídica</a:t>
            </a:r>
            <a:endParaRPr b="1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CaixaDeTexto 6"/>
          <p:cNvSpPr/>
          <p:nvPr/>
        </p:nvSpPr>
        <p:spPr>
          <a:xfrm>
            <a:off x="1150560" y="5929200"/>
            <a:ext cx="605124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Garamond"/>
              </a:rPr>
              <a:t>* Obs.</a:t>
            </a:r>
            <a:r>
              <a:rPr b="0" lang="pt-BR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Garamond"/>
              </a:rPr>
              <a:t>Cunho social  X Cunho associativo</a:t>
            </a: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Garamond"/>
              </a:rPr>
              <a:t>Atividade econômica X Finalidade econômica</a:t>
            </a: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6"/>
          <p:cNvSpPr/>
          <p:nvPr/>
        </p:nvSpPr>
        <p:spPr>
          <a:xfrm>
            <a:off x="714240" y="214200"/>
            <a:ext cx="4176720" cy="576360"/>
          </a:xfrm>
          <a:prstGeom prst="rect">
            <a:avLst/>
          </a:prstGeom>
          <a:solidFill>
            <a:srgbClr val="003399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57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e5e5ff"/>
                </a:solidFill>
                <a:latin typeface="Garamond"/>
              </a:rPr>
              <a:t>    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2" name="Retângulo 5"/>
          <p:cNvSpPr/>
          <p:nvPr/>
        </p:nvSpPr>
        <p:spPr>
          <a:xfrm>
            <a:off x="1285920" y="1071720"/>
            <a:ext cx="6238800" cy="28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buClr>
                <a:srgbClr val="ffffff"/>
              </a:buClr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Garamond"/>
              </a:rPr>
              <a:t>Dificuldade na distinção entre os modelos jurídico-organizacionais (Associação, Cooperativa, Sociedade, etc.)</a:t>
            </a: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buClr>
                <a:srgbClr val="ffffff"/>
              </a:buClr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785880" y="2031840"/>
          <a:ext cx="7500960" cy="3346560"/>
        </p:xfrm>
        <a:graphic>
          <a:graphicData uri="http://schemas.openxmlformats.org/drawingml/2006/table">
            <a:tbl>
              <a:tblPr/>
              <a:tblGrid>
                <a:gridCol w="1785960"/>
                <a:gridCol w="1714320"/>
                <a:gridCol w="2098800"/>
                <a:gridCol w="19018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ssociações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Fundações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ooperativas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ociedades Limitadas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ada pessoa tem um voto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ão possui membros (só há figura do instituidor e dos destinatários)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ada pessoa tem um voto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oder de voto proporcional ao capital empregado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2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ssembléias: quorum baseado no número de sócios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XXX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ssembléias: quorum baseado no número de sócios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ssembléias: quorum baseado no capital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4" name="Text Box 10"/>
          <p:cNvSpPr/>
          <p:nvPr/>
        </p:nvSpPr>
        <p:spPr>
          <a:xfrm>
            <a:off x="785880" y="285840"/>
            <a:ext cx="6377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fffff"/>
                </a:solidFill>
                <a:latin typeface="Garamond"/>
              </a:rPr>
              <a:t>Esfera Jurídica</a:t>
            </a:r>
            <a:endParaRPr b="1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6"/>
          <p:cNvSpPr/>
          <p:nvPr/>
        </p:nvSpPr>
        <p:spPr>
          <a:xfrm>
            <a:off x="714240" y="214200"/>
            <a:ext cx="4176720" cy="576360"/>
          </a:xfrm>
          <a:prstGeom prst="rect">
            <a:avLst/>
          </a:prstGeom>
          <a:solidFill>
            <a:srgbClr val="003399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157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e5e5ff"/>
                </a:solidFill>
                <a:latin typeface="Garamond"/>
              </a:rPr>
              <a:t>    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" name="Retângulo 5"/>
          <p:cNvSpPr/>
          <p:nvPr/>
        </p:nvSpPr>
        <p:spPr>
          <a:xfrm>
            <a:off x="1285920" y="1071720"/>
            <a:ext cx="6238800" cy="28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buClr>
                <a:srgbClr val="ffffff"/>
              </a:buClr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Garamond"/>
              </a:rPr>
              <a:t>Dificuldade na distinção entre os modelos jurídico-organizacionais (Associação, Cooperativa, Sociedade, etc.)</a:t>
            </a: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buClr>
                <a:srgbClr val="ffffff"/>
              </a:buClr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785880" y="2031840"/>
          <a:ext cx="7500960" cy="2926080"/>
        </p:xfrm>
        <a:graphic>
          <a:graphicData uri="http://schemas.openxmlformats.org/drawingml/2006/table">
            <a:tbl>
              <a:tblPr/>
              <a:tblGrid>
                <a:gridCol w="1785960"/>
                <a:gridCol w="1573200"/>
                <a:gridCol w="2239920"/>
                <a:gridCol w="19018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ssociações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Fundações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ooperativas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ociedades Limitadas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1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Resultado financeiro investido em sua finalidade (não distribuído entre os associados)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Resultado financeiro investido em sua finalidade (submete-se a fiscalização do Ministério Público)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Resultado financeiro distribuído entre os sócios.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Resultado financeiro distribuído entre os sócios, em razão da parcela de capital empregado.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" name="Text Box 10"/>
          <p:cNvSpPr/>
          <p:nvPr/>
        </p:nvSpPr>
        <p:spPr>
          <a:xfrm>
            <a:off x="785880" y="285840"/>
            <a:ext cx="6377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fffff"/>
                </a:solidFill>
                <a:latin typeface="Garamond"/>
              </a:rPr>
              <a:t>Esfera Jurídica</a:t>
            </a:r>
            <a:endParaRPr b="1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6"/>
          <p:cNvSpPr/>
          <p:nvPr/>
        </p:nvSpPr>
        <p:spPr>
          <a:xfrm>
            <a:off x="714240" y="214200"/>
            <a:ext cx="4176720" cy="576360"/>
          </a:xfrm>
          <a:prstGeom prst="rect">
            <a:avLst/>
          </a:prstGeom>
          <a:solidFill>
            <a:srgbClr val="003399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57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e5e5ff"/>
                </a:solidFill>
                <a:latin typeface="Garamond"/>
              </a:rPr>
              <a:t>    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2" name="Retângulo 5"/>
          <p:cNvSpPr/>
          <p:nvPr/>
        </p:nvSpPr>
        <p:spPr>
          <a:xfrm>
            <a:off x="1285920" y="1214280"/>
            <a:ext cx="6238800" cy="83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Garamond"/>
              </a:rPr>
              <a:t>2)  Dificuldade na distinção entre os títulos qualificadores / certificações;</a:t>
            </a: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buClr>
                <a:srgbClr val="ffffff"/>
              </a:buClr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Garamond"/>
              </a:rPr>
              <a:t>Organização Não Governamental – ONG</a:t>
            </a: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Garamond"/>
              </a:rPr>
              <a:t>Instituto</a:t>
            </a: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Garamond"/>
              </a:rPr>
              <a:t>Organização da Sociedade Civil de Interesse Público – OSCIP</a:t>
            </a: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Garamond"/>
              </a:rPr>
              <a:t>Organização Social - OS</a:t>
            </a: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Garamond"/>
              </a:rPr>
              <a:t>Utilidade Pública</a:t>
            </a: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Garamond"/>
              </a:rPr>
              <a:t>Conselho Nacional de Assistência Social – CNAS</a:t>
            </a: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Text Box 10"/>
          <p:cNvSpPr/>
          <p:nvPr/>
        </p:nvSpPr>
        <p:spPr>
          <a:xfrm>
            <a:off x="785880" y="285840"/>
            <a:ext cx="6377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fffff"/>
                </a:solidFill>
                <a:latin typeface="Garamond"/>
              </a:rPr>
              <a:t>Esfera Jurídica</a:t>
            </a:r>
            <a:endParaRPr b="1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6"/>
          <p:cNvSpPr/>
          <p:nvPr/>
        </p:nvSpPr>
        <p:spPr>
          <a:xfrm>
            <a:off x="714240" y="214200"/>
            <a:ext cx="4176720" cy="576360"/>
          </a:xfrm>
          <a:prstGeom prst="rect">
            <a:avLst/>
          </a:prstGeom>
          <a:solidFill>
            <a:srgbClr val="003399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57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e5e5ff"/>
                </a:solidFill>
                <a:latin typeface="Garamond"/>
              </a:rPr>
              <a:t>    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6" name="Retângulo 5"/>
          <p:cNvSpPr/>
          <p:nvPr/>
        </p:nvSpPr>
        <p:spPr>
          <a:xfrm>
            <a:off x="1285920" y="1214280"/>
            <a:ext cx="6238800" cy="78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Garamond"/>
              </a:rPr>
              <a:t>2)  Dificuldade na distinção entre os títulos qualificadores / certificações;</a:t>
            </a: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buClr>
                <a:srgbClr val="ffffff"/>
              </a:buClr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ffffff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 u="sng">
                <a:solidFill>
                  <a:srgbClr val="ffffff"/>
                </a:solidFill>
                <a:uFillTx/>
                <a:latin typeface="Garamond"/>
              </a:rPr>
              <a:t>Organização Não Governamental – ONG: </a:t>
            </a: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pt-BR" sz="1800" spc="-1" strike="noStrike">
                <a:solidFill>
                  <a:srgbClr val="ffffff"/>
                </a:solidFill>
                <a:latin typeface="Garamond"/>
              </a:rPr>
              <a:t>Não se trata de terminologia jurídica.</a:t>
            </a: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pt-BR" sz="1800" spc="-1" strike="noStrike">
                <a:solidFill>
                  <a:srgbClr val="ffffff"/>
                </a:solidFill>
                <a:latin typeface="Garamond"/>
              </a:rPr>
              <a:t>Pode assumir a figura jurídica de uma associação ou uma fundação.</a:t>
            </a: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ffffff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 u="sng">
                <a:solidFill>
                  <a:srgbClr val="ffffff"/>
                </a:solidFill>
                <a:uFillTx/>
                <a:latin typeface="Garamond"/>
              </a:rPr>
              <a:t>Instituto:</a:t>
            </a: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pt-BR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pt-BR" sz="1800" spc="-1" strike="noStrike">
                <a:solidFill>
                  <a:srgbClr val="ffffff"/>
                </a:solidFill>
                <a:latin typeface="Garamond"/>
              </a:rPr>
              <a:t>Não se trata de terminologia jurídica.</a:t>
            </a: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pt-BR" sz="1800" spc="-1" strike="noStrike">
                <a:solidFill>
                  <a:srgbClr val="ffffff"/>
                </a:solidFill>
                <a:latin typeface="Garamond"/>
              </a:rPr>
              <a:t>Qualquer das espécies de pessoa jurídica pode adotar expressão.</a:t>
            </a: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Text Box 10"/>
          <p:cNvSpPr/>
          <p:nvPr/>
        </p:nvSpPr>
        <p:spPr>
          <a:xfrm>
            <a:off x="785880" y="285840"/>
            <a:ext cx="6377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fffff"/>
                </a:solidFill>
                <a:latin typeface="Garamond"/>
              </a:rPr>
              <a:t>Esfera Jurídica</a:t>
            </a:r>
            <a:endParaRPr b="1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5"/>
          <p:cNvSpPr/>
          <p:nvPr/>
        </p:nvSpPr>
        <p:spPr>
          <a:xfrm>
            <a:off x="571680" y="357120"/>
            <a:ext cx="821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Conceito Jurídico de Empreendimento </a:t>
            </a: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Econômico Solidário</a:t>
            </a: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Retângulo 3"/>
          <p:cNvSpPr/>
          <p:nvPr/>
        </p:nvSpPr>
        <p:spPr>
          <a:xfrm>
            <a:off x="571680" y="1500120"/>
            <a:ext cx="7643520" cy="41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pt-BR" sz="3400" spc="-1" strike="noStrike" u="sng">
                <a:solidFill>
                  <a:srgbClr val="ffffff"/>
                </a:solidFill>
                <a:uFillTx/>
                <a:latin typeface="Garamond"/>
              </a:rPr>
              <a:t>Ente privado </a:t>
            </a:r>
            <a:r>
              <a:rPr b="1" lang="pt-BR" sz="3400" spc="-1" strike="noStrike">
                <a:solidFill>
                  <a:srgbClr val="ffffff"/>
                </a:solidFill>
                <a:latin typeface="Garamond"/>
              </a:rPr>
              <a:t>que atenda a princípios e práticas da Economia Solidária e tenha por objeto o desenvolvimento de atividade de trabalho, produção, consumo, poupança e/ou crédito.”</a:t>
            </a:r>
            <a:endParaRPr b="1" lang="en-US" sz="3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500040" y="5929200"/>
            <a:ext cx="8215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Garamond"/>
              </a:rPr>
              <a:t>Conceito adotado pelo Módulo Jurídico de Formação Técnica das Incubadoras</a:t>
            </a:r>
            <a:endParaRPr b="1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6"/>
          <p:cNvSpPr/>
          <p:nvPr/>
        </p:nvSpPr>
        <p:spPr>
          <a:xfrm>
            <a:off x="714240" y="214200"/>
            <a:ext cx="4176720" cy="576360"/>
          </a:xfrm>
          <a:prstGeom prst="rect">
            <a:avLst/>
          </a:prstGeom>
          <a:solidFill>
            <a:srgbClr val="003399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157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e5e5ff"/>
                </a:solidFill>
                <a:latin typeface="Garamond"/>
              </a:rPr>
              <a:t>    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0" name="Retângulo 5"/>
          <p:cNvSpPr/>
          <p:nvPr/>
        </p:nvSpPr>
        <p:spPr>
          <a:xfrm>
            <a:off x="1285920" y="1071720"/>
            <a:ext cx="6238800" cy="53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Garamond"/>
              </a:rPr>
              <a:t>2)  Dificuldade na distinção entre os títulos qualificadores / certificações;</a:t>
            </a: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buClr>
                <a:srgbClr val="ffffff"/>
              </a:buClr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 u="sng">
                <a:solidFill>
                  <a:srgbClr val="ffffff"/>
                </a:solidFill>
                <a:uFillTx/>
                <a:latin typeface="Garamond"/>
              </a:rPr>
              <a:t>Organização da Sociedade Civil de Interesse Público – OSCIP</a:t>
            </a: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Garamond"/>
              </a:rPr>
              <a:t>Disciplinada pela lei federal 9.790/99.  </a:t>
            </a:r>
            <a:endParaRPr b="1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Garamond"/>
              </a:rPr>
              <a:t>Podem se qualificar como OSCIP as pessoas jurídicas de direito privado sem finalidade lucrativa que atendam aos requisitos instituídos por esta Lei.</a:t>
            </a:r>
            <a:endParaRPr b="1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Garamond"/>
              </a:rPr>
              <a:t>Formalizado através da celebração de Termo de Parceria, instrumento destinado à formação de vínculo de cooperação entre as partes, para o fomento e a execução das atividades de interesse público. </a:t>
            </a:r>
            <a:endParaRPr b="1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Garamond"/>
              </a:rPr>
              <a:t>Outorga desta qualificação é ato vinculado, não podendo o Poder Público atuar com análises de conveniência ou oportunidade no momento da sua concessão. </a:t>
            </a:r>
            <a:endParaRPr b="1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Text Box 10"/>
          <p:cNvSpPr/>
          <p:nvPr/>
        </p:nvSpPr>
        <p:spPr>
          <a:xfrm>
            <a:off x="785880" y="285840"/>
            <a:ext cx="6377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fffff"/>
                </a:solidFill>
                <a:latin typeface="Garamond"/>
              </a:rPr>
              <a:t>Esfera Jurídica</a:t>
            </a:r>
            <a:endParaRPr b="1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6"/>
          <p:cNvSpPr/>
          <p:nvPr/>
        </p:nvSpPr>
        <p:spPr>
          <a:xfrm>
            <a:off x="714240" y="214200"/>
            <a:ext cx="4176720" cy="576360"/>
          </a:xfrm>
          <a:prstGeom prst="rect">
            <a:avLst/>
          </a:prstGeom>
          <a:solidFill>
            <a:srgbClr val="003399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57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e5e5ff"/>
                </a:solidFill>
                <a:latin typeface="Garamond"/>
              </a:rPr>
              <a:t>    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4" name="Retângulo 5"/>
          <p:cNvSpPr/>
          <p:nvPr/>
        </p:nvSpPr>
        <p:spPr>
          <a:xfrm>
            <a:off x="1285920" y="1214280"/>
            <a:ext cx="6238800" cy="96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Garamond"/>
              </a:rPr>
              <a:t>2)  Dificuldade na distinção entre os títulos qualificadores / certificações;</a:t>
            </a: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buClr>
                <a:srgbClr val="ffffff"/>
              </a:buClr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 u="sng">
                <a:solidFill>
                  <a:srgbClr val="ffffff"/>
                </a:solidFill>
                <a:uFillTx/>
                <a:latin typeface="Garamond"/>
              </a:rPr>
              <a:t>Organização da Sociedade Civil de Interesse Público – OSCIP</a:t>
            </a: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Garamond"/>
              </a:rPr>
              <a:t>Não são passíveis de qualificação como OSCIP ainda que se dediquem de qualquer forma às atividades descritas em lei (rol exemplificativo):</a:t>
            </a:r>
            <a:endParaRPr b="1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-343080" algn="just">
              <a:lnSpc>
                <a:spcPct val="15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Garamond"/>
              </a:rPr>
              <a:t>as sociedades comerciais; </a:t>
            </a:r>
            <a:endParaRPr b="1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-343080" algn="just">
              <a:lnSpc>
                <a:spcPct val="15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Garamond"/>
              </a:rPr>
              <a:t>os sindicatos, as associações de classe ou de representação de categoria profissional;</a:t>
            </a:r>
            <a:endParaRPr b="1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-343080" algn="just">
              <a:lnSpc>
                <a:spcPct val="15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Garamond"/>
              </a:rPr>
              <a:t>as entidades de benefício mútuo</a:t>
            </a:r>
            <a:endParaRPr b="1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-343080" algn="just">
              <a:lnSpc>
                <a:spcPct val="15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Garamond"/>
              </a:rPr>
              <a:t>as organizações sociais;</a:t>
            </a:r>
            <a:endParaRPr b="1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-343080" algn="just">
              <a:lnSpc>
                <a:spcPct val="15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Garamond"/>
              </a:rPr>
              <a:t>as cooperativas;</a:t>
            </a:r>
            <a:endParaRPr b="1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-343080" algn="just">
              <a:lnSpc>
                <a:spcPct val="15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Garamond"/>
              </a:rPr>
              <a:t>as fundações, sociedades civis ou associações de direito privado criadas por órgão público ou por fundações públicas;</a:t>
            </a:r>
            <a:endParaRPr b="1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Text Box 10"/>
          <p:cNvSpPr/>
          <p:nvPr/>
        </p:nvSpPr>
        <p:spPr>
          <a:xfrm>
            <a:off x="785880" y="285840"/>
            <a:ext cx="6377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fffff"/>
                </a:solidFill>
                <a:latin typeface="Garamond"/>
              </a:rPr>
              <a:t>Esfera Jurídica</a:t>
            </a:r>
            <a:endParaRPr b="1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6"/>
          <p:cNvSpPr/>
          <p:nvPr/>
        </p:nvSpPr>
        <p:spPr>
          <a:xfrm>
            <a:off x="714240" y="214200"/>
            <a:ext cx="4176720" cy="576360"/>
          </a:xfrm>
          <a:prstGeom prst="rect">
            <a:avLst/>
          </a:prstGeom>
          <a:solidFill>
            <a:srgbClr val="003399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157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e5e5ff"/>
                </a:solidFill>
                <a:latin typeface="Garamond"/>
              </a:rPr>
              <a:t>    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8" name="Retângulo 5"/>
          <p:cNvSpPr/>
          <p:nvPr/>
        </p:nvSpPr>
        <p:spPr>
          <a:xfrm>
            <a:off x="1285920" y="1214280"/>
            <a:ext cx="6238800" cy="53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buClr>
                <a:srgbClr val="ffffff"/>
              </a:buClr>
              <a:buFont typeface="Garamond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Garamond"/>
              </a:rPr>
              <a:t>Dificuldade na distinção entre os títulos qualificadores / certificações;</a:t>
            </a: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 u="sng">
                <a:solidFill>
                  <a:srgbClr val="ffffff"/>
                </a:solidFill>
                <a:uFillTx/>
                <a:latin typeface="Garamond"/>
              </a:rPr>
              <a:t>Organização Social – OS</a:t>
            </a: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Garamond"/>
              </a:rPr>
              <a:t>Lei disciplinadora: nº 9.637/1998.</a:t>
            </a: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Garamond"/>
              </a:rPr>
              <a:t>Forma de descentralizar atividades executadas pela Administração Pública, mediante celebração de Contrato de Gestão.</a:t>
            </a: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Garamond"/>
              </a:rPr>
              <a:t>O Poder Público poderá qualificar como Organizações Sociais as pessoas jurídicas de direito privado sem finalidade lucrativa cujas atividades sejam dirigidas ao </a:t>
            </a:r>
            <a:r>
              <a:rPr b="1" lang="pt-BR" sz="1800" spc="-1" strike="noStrike" u="sng">
                <a:solidFill>
                  <a:srgbClr val="ffffff"/>
                </a:solidFill>
                <a:uFillTx/>
                <a:latin typeface="Garamond"/>
              </a:rPr>
              <a:t>ensino, à pesquisa científica, ao desenvolvimento tecnológico, à proteção e preservação do meio ambiente, à cultura e à saúde</a:t>
            </a:r>
            <a:r>
              <a:rPr b="1" lang="pt-BR" sz="1800" spc="-1" strike="noStrike">
                <a:solidFill>
                  <a:srgbClr val="ffffff"/>
                </a:solidFill>
                <a:latin typeface="Garamond"/>
              </a:rPr>
              <a:t>, atendidos aos requisitos previstos em Lei.</a:t>
            </a: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Text Box 10"/>
          <p:cNvSpPr/>
          <p:nvPr/>
        </p:nvSpPr>
        <p:spPr>
          <a:xfrm>
            <a:off x="785880" y="285840"/>
            <a:ext cx="6377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fffff"/>
                </a:solidFill>
                <a:latin typeface="Garamond"/>
              </a:rPr>
              <a:t>Esfera Jurídica</a:t>
            </a:r>
            <a:endParaRPr b="1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6"/>
          <p:cNvSpPr/>
          <p:nvPr/>
        </p:nvSpPr>
        <p:spPr>
          <a:xfrm>
            <a:off x="714240" y="214200"/>
            <a:ext cx="4176720" cy="576360"/>
          </a:xfrm>
          <a:prstGeom prst="rect">
            <a:avLst/>
          </a:prstGeom>
          <a:solidFill>
            <a:srgbClr val="003399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157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e5e5ff"/>
                </a:solidFill>
                <a:latin typeface="Garamond"/>
              </a:rPr>
              <a:t>    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2" name="Retângulo 5"/>
          <p:cNvSpPr/>
          <p:nvPr/>
        </p:nvSpPr>
        <p:spPr>
          <a:xfrm>
            <a:off x="1285920" y="1214280"/>
            <a:ext cx="6238800" cy="47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buClr>
                <a:srgbClr val="ffffff"/>
              </a:buClr>
              <a:buFont typeface="Garamond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Garamond"/>
              </a:rPr>
              <a:t>Dificuldade na distinção entre os títulos qualificadores / certificações;</a:t>
            </a: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 u="sng">
                <a:solidFill>
                  <a:srgbClr val="ffffff"/>
                </a:solidFill>
                <a:uFillTx/>
                <a:latin typeface="Garamond"/>
              </a:rPr>
              <a:t>Organização Social – OS</a:t>
            </a: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Garamond"/>
              </a:rPr>
              <a:t>A certificação em comento exige aprovação e análise de conveniência e oportunidade, tratando-se, portanto, de ato discricionário do Ministro do Estado. </a:t>
            </a: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Garamond"/>
              </a:rPr>
              <a:t>As Organizações Sociais deverão manter em sua gestão representantes do poder público. </a:t>
            </a: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Garamond"/>
              </a:rPr>
              <a:t>A execução do contrato de gestão será fiscalizada pelo órgão ou entidade supervisora da área de atuação correspondente à atividade fomentada.</a:t>
            </a: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785880" y="285840"/>
            <a:ext cx="6377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fffff"/>
                </a:solidFill>
                <a:latin typeface="Garamond"/>
              </a:rPr>
              <a:t>Esfera Jurídica</a:t>
            </a:r>
            <a:endParaRPr b="1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6"/>
          <p:cNvSpPr/>
          <p:nvPr/>
        </p:nvSpPr>
        <p:spPr>
          <a:xfrm>
            <a:off x="714240" y="214200"/>
            <a:ext cx="4176720" cy="576360"/>
          </a:xfrm>
          <a:prstGeom prst="rect">
            <a:avLst/>
          </a:prstGeom>
          <a:solidFill>
            <a:srgbClr val="003399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157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e5e5ff"/>
                </a:solidFill>
                <a:latin typeface="Garamond"/>
              </a:rPr>
              <a:t>    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6" name="Retângulo 5"/>
          <p:cNvSpPr/>
          <p:nvPr/>
        </p:nvSpPr>
        <p:spPr>
          <a:xfrm>
            <a:off x="1285920" y="1214280"/>
            <a:ext cx="6238800" cy="58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Garamond"/>
              </a:rPr>
              <a:t>2)  Dificuldade na distinção entre os títulos qualificadores / certificações;</a:t>
            </a: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buClr>
                <a:srgbClr val="ffffff"/>
              </a:buClr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 u="sng">
                <a:solidFill>
                  <a:srgbClr val="ffffff"/>
                </a:solidFill>
                <a:uFillTx/>
                <a:latin typeface="Garamond"/>
              </a:rPr>
              <a:t>Utilidade Pública</a:t>
            </a: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ffc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Garamond"/>
              </a:rPr>
              <a:t>É a titulação oferecida pela legislação brasileira capaz de trazer vantagens àquelas instituições que possuírem finalidade exclusiva de servir à coletividade. </a:t>
            </a:r>
            <a:endParaRPr b="1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Garamond"/>
              </a:rPr>
              <a:t>As associações e fundações poderão obter esta qualificação nas três esferas governamentais, sendo, portanto, cumulativas as certificações concedidas pela lei de utilidade pública federal, estadual e municipal. </a:t>
            </a:r>
            <a:endParaRPr b="1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Garamond"/>
              </a:rPr>
              <a:t>Regida pela lei nº 91/35 e regulamentada pelo decreto nº 50.517/61.</a:t>
            </a:r>
            <a:endParaRPr b="1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Garamond"/>
              </a:rPr>
              <a:t> </a:t>
            </a:r>
            <a:endParaRPr b="1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Garamond"/>
              </a:rPr>
              <a:t>Dirigentes não podem ser remunerados.</a:t>
            </a:r>
            <a:endParaRPr b="1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Garamond"/>
              </a:rPr>
              <a:t>As entidades interessadas em obter certificação junto a CNAS (Conselho Nacional de Assistência Social) deverá necessariamente obter primeiramente o título de Utilidade Pública Federal. </a:t>
            </a:r>
            <a:endParaRPr b="1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7" name="Text Box 10"/>
          <p:cNvSpPr/>
          <p:nvPr/>
        </p:nvSpPr>
        <p:spPr>
          <a:xfrm>
            <a:off x="785880" y="285840"/>
            <a:ext cx="6377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fffff"/>
                </a:solidFill>
                <a:latin typeface="Garamond"/>
              </a:rPr>
              <a:t>Esfera Jurídica</a:t>
            </a:r>
            <a:endParaRPr b="1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6"/>
          <p:cNvSpPr/>
          <p:nvPr/>
        </p:nvSpPr>
        <p:spPr>
          <a:xfrm>
            <a:off x="714240" y="214200"/>
            <a:ext cx="4176720" cy="576360"/>
          </a:xfrm>
          <a:prstGeom prst="rect">
            <a:avLst/>
          </a:prstGeom>
          <a:solidFill>
            <a:srgbClr val="003399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157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e5e5ff"/>
                </a:solidFill>
                <a:latin typeface="Garamond"/>
              </a:rPr>
              <a:t>    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0" name="Retângulo 5"/>
          <p:cNvSpPr/>
          <p:nvPr/>
        </p:nvSpPr>
        <p:spPr>
          <a:xfrm>
            <a:off x="1285920" y="1214280"/>
            <a:ext cx="6238800" cy="59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Garamond"/>
              </a:rPr>
              <a:t>2)  Dificuldade na distinção entre os títulos qualificadores / certificações;</a:t>
            </a: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buClr>
                <a:srgbClr val="ffffff"/>
              </a:buClr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 u="sng">
                <a:solidFill>
                  <a:srgbClr val="ffffff"/>
                </a:solidFill>
                <a:uFillTx/>
                <a:latin typeface="Garamond"/>
              </a:rPr>
              <a:t>Conselho Nacional de Assistência Social – CNAS</a:t>
            </a: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Garamond"/>
              </a:rPr>
              <a:t>Normalmente utilizado para acesso a determinados fundos públicos, celebração de convênios, etc. </a:t>
            </a: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Garamond"/>
              </a:rPr>
              <a:t>Regida pela lei nº 8.742/93 e regulamentada pela Resolução nº 31/99. </a:t>
            </a: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Garamond"/>
              </a:rPr>
              <a:t>A resolução elenca como entidades aptas à obtenção de registro aquelas que prestam algum tipo de assistência social tais como:</a:t>
            </a: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Garamond"/>
              </a:rPr>
              <a:t>- proteção à família, à maternidade, </a:t>
            </a: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Garamond"/>
              </a:rPr>
              <a:t>- a integração ao mercado de trabalho; </a:t>
            </a: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Garamond"/>
              </a:rPr>
              <a:t>- o desenvolvimento da cultura...</a:t>
            </a: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Garamond"/>
              </a:rPr>
              <a:t>Não admite a possibilidade de remunerar dirigentes.</a:t>
            </a: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1" name="Text Box 10"/>
          <p:cNvSpPr/>
          <p:nvPr/>
        </p:nvSpPr>
        <p:spPr>
          <a:xfrm>
            <a:off x="785880" y="285840"/>
            <a:ext cx="6377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fffff"/>
                </a:solidFill>
                <a:latin typeface="Garamond"/>
              </a:rPr>
              <a:t>Esfera Jurídica</a:t>
            </a:r>
            <a:endParaRPr b="1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6"/>
          <p:cNvSpPr/>
          <p:nvPr/>
        </p:nvSpPr>
        <p:spPr>
          <a:xfrm>
            <a:off x="714240" y="214200"/>
            <a:ext cx="4176720" cy="576360"/>
          </a:xfrm>
          <a:prstGeom prst="rect">
            <a:avLst/>
          </a:prstGeom>
          <a:solidFill>
            <a:srgbClr val="003399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157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e5e5ff"/>
                </a:solidFill>
                <a:latin typeface="Garamond"/>
              </a:rPr>
              <a:t>    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4" name="Retângulo 5"/>
          <p:cNvSpPr/>
          <p:nvPr/>
        </p:nvSpPr>
        <p:spPr>
          <a:xfrm>
            <a:off x="1143000" y="1428840"/>
            <a:ext cx="614376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3) Dificuldade na elaboração de atas e estatutos.</a:t>
            </a: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1) Fase Pré-constitutiva: Elaboração de ata de fundação e estatuto. </a:t>
            </a: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Momento mais importante para a vida da instituição.</a:t>
            </a: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Garamond"/>
              </a:rPr>
              <a:t>Disciplinará a respeito das relações travadas entre os associados e perante terceiros. </a:t>
            </a: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Garamond"/>
              </a:rPr>
              <a:t>2) Ata como ferramenta imprescindível para assegurar bom funcionamento da instituição.</a:t>
            </a: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Text Box 10"/>
          <p:cNvSpPr/>
          <p:nvPr/>
        </p:nvSpPr>
        <p:spPr>
          <a:xfrm>
            <a:off x="785880" y="285840"/>
            <a:ext cx="6377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fffff"/>
                </a:solidFill>
                <a:latin typeface="Garamond"/>
              </a:rPr>
              <a:t>Esfera Jurídica</a:t>
            </a:r>
            <a:endParaRPr b="1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lang="pt-BR" sz="4000" spc="-1" strike="noStrike">
                <a:solidFill>
                  <a:srgbClr val="e5e5ff"/>
                </a:solidFill>
                <a:latin typeface="Garamond"/>
              </a:rPr>
              <a:t>CONTATOS: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pt-BR" sz="2000" spc="-1" strike="noStrike">
                <a:solidFill>
                  <a:srgbClr val="ffffff"/>
                </a:solidFill>
                <a:latin typeface="Garamond"/>
              </a:rPr>
              <a:t>Carine Santo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Garamond"/>
              </a:rPr>
              <a:t>Instrutora Contábil da Superintendência de Economia Solidária do Estado da Bahia. - SESO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Garamond"/>
              </a:rPr>
              <a:t>Contato: </a:t>
            </a:r>
            <a:r>
              <a:rPr b="1" lang="pt-BR" sz="2000" spc="-1" strike="noStrike" u="sng">
                <a:solidFill>
                  <a:srgbClr val="ffffff"/>
                </a:solidFill>
                <a:uFillTx/>
                <a:latin typeface="Garamond"/>
              </a:rPr>
              <a:t>carine.jesus@setre.ba.gov.br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Garamond"/>
              </a:rPr>
              <a:t>TEL.  (71) 3115-3110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pt-BR" sz="2000" spc="-1" strike="noStrike">
                <a:solidFill>
                  <a:srgbClr val="ffffff"/>
                </a:solidFill>
                <a:latin typeface="Garamond"/>
              </a:rPr>
              <a:t>Gabriela da Luz Dia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Garamond"/>
              </a:rPr>
              <a:t>Instrutora Jurídica da Superintendência de Economia Solidária do Estado da Bahia. - SESO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Garamond"/>
              </a:rPr>
              <a:t>Contato: </a:t>
            </a:r>
            <a:r>
              <a:rPr b="1" lang="pt-BR" sz="2000" spc="-1" strike="noStrike" u="sng">
                <a:solidFill>
                  <a:srgbClr val="ffffff"/>
                </a:solidFill>
                <a:uFillTx/>
                <a:latin typeface="Garamond"/>
              </a:rPr>
              <a:t>gabriela.dias@setre.ba.gov.br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Garamond"/>
              </a:rPr>
              <a:t>TEL.  (71) 3117-159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8" name="Picture 4" descr="marca_setras"/>
          <p:cNvPicPr/>
          <p:nvPr/>
        </p:nvPicPr>
        <p:blipFill>
          <a:blip r:embed="rId1"/>
          <a:stretch/>
        </p:blipFill>
        <p:spPr>
          <a:xfrm>
            <a:off x="106200" y="162000"/>
            <a:ext cx="2305080" cy="117936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5"/>
          <p:cNvSpPr/>
          <p:nvPr/>
        </p:nvSpPr>
        <p:spPr>
          <a:xfrm>
            <a:off x="1995120" y="252360"/>
            <a:ext cx="74332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ffffff"/>
                </a:solidFill>
                <a:latin typeface="Garamond"/>
              </a:rPr>
              <a:t>Superintendência de Economia Solidária - SESOL</a:t>
            </a:r>
            <a:endParaRPr b="1" lang="en-US" sz="23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4" descr="marca_setras"/>
          <p:cNvPicPr/>
          <p:nvPr/>
        </p:nvPicPr>
        <p:blipFill>
          <a:blip r:embed="rId1"/>
          <a:stretch/>
        </p:blipFill>
        <p:spPr>
          <a:xfrm>
            <a:off x="106200" y="162000"/>
            <a:ext cx="2305080" cy="117936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5"/>
          <p:cNvSpPr/>
          <p:nvPr/>
        </p:nvSpPr>
        <p:spPr>
          <a:xfrm>
            <a:off x="1964160" y="252360"/>
            <a:ext cx="74332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ffffff"/>
                </a:solidFill>
                <a:latin typeface="Garamond"/>
              </a:rPr>
              <a:t>Superintendência de Economia Solidária - SESOL</a:t>
            </a:r>
            <a:endParaRPr b="1" lang="en-US" sz="23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2" name="Text Box 6"/>
          <p:cNvSpPr/>
          <p:nvPr/>
        </p:nvSpPr>
        <p:spPr>
          <a:xfrm>
            <a:off x="3780000" y="2060640"/>
            <a:ext cx="46083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pt-BR" sz="2800" spc="-1" strike="noStrike">
                <a:solidFill>
                  <a:srgbClr val="ffffff"/>
                </a:solidFill>
                <a:latin typeface="Garamond"/>
              </a:rPr>
              <a:t>Em resposta a uma ética da exclusão, estamos todos desafiados a praticar uma ética da solidariedade.”</a:t>
            </a: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Garamond"/>
              </a:rPr>
              <a:t>Herbert de Souza (Betinho)</a:t>
            </a: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3" name="Picture 8" descr="betinho"/>
          <p:cNvPicPr/>
          <p:nvPr/>
        </p:nvPicPr>
        <p:blipFill>
          <a:blip r:embed="rId2"/>
          <a:stretch/>
        </p:blipFill>
        <p:spPr>
          <a:xfrm>
            <a:off x="468360" y="1916280"/>
            <a:ext cx="2685960" cy="40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tângulo 3"/>
          <p:cNvSpPr/>
          <p:nvPr/>
        </p:nvSpPr>
        <p:spPr>
          <a:xfrm>
            <a:off x="714240" y="1143000"/>
            <a:ext cx="7715520" cy="548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fffff"/>
                </a:solidFill>
                <a:latin typeface="Garamond"/>
              </a:rPr>
              <a:t>Segundo o Sistema Nacional de Informações em Economia Solidária – SIES, os Empreendimentos de Economia Solidária têm natureza heterogênea, de modo a se apresentarem como </a:t>
            </a:r>
            <a:r>
              <a:rPr b="1" lang="pt-BR" sz="2600" spc="-1" strike="noStrike" u="sng">
                <a:solidFill>
                  <a:srgbClr val="ffffff"/>
                </a:solidFill>
                <a:uFillTx/>
                <a:latin typeface="Garamond"/>
              </a:rPr>
              <a:t>associações</a:t>
            </a:r>
            <a:r>
              <a:rPr b="1" lang="pt-BR" sz="26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1" lang="pt-BR" sz="2600" spc="-1" strike="noStrike" u="sng">
                <a:solidFill>
                  <a:srgbClr val="ffffff"/>
                </a:solidFill>
                <a:uFillTx/>
                <a:latin typeface="Garamond"/>
              </a:rPr>
              <a:t>cooperativas</a:t>
            </a:r>
            <a:r>
              <a:rPr b="1" lang="pt-BR" sz="26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1" lang="pt-BR" sz="2600" spc="-1" strike="noStrike" u="sng">
                <a:solidFill>
                  <a:srgbClr val="ffffff"/>
                </a:solidFill>
                <a:uFillTx/>
                <a:latin typeface="Garamond"/>
              </a:rPr>
              <a:t>sociedades em comum</a:t>
            </a:r>
            <a:r>
              <a:rPr b="1" lang="pt-BR" sz="2600" spc="-1" strike="noStrike">
                <a:solidFill>
                  <a:srgbClr val="ffffff"/>
                </a:solidFill>
                <a:latin typeface="Garamond"/>
              </a:rPr>
              <a:t> (antigas sociedades informais e de fato) ou outras formas societárias.</a:t>
            </a:r>
            <a:endParaRPr b="1" lang="en-US" sz="2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Garamond"/>
              </a:rPr>
              <a:t>Dados capturados no site http://www.mte.gov.br/ecosolidaria/sies.asp </a:t>
            </a: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Retângulo 4"/>
          <p:cNvSpPr/>
          <p:nvPr/>
        </p:nvSpPr>
        <p:spPr>
          <a:xfrm>
            <a:off x="785880" y="285840"/>
            <a:ext cx="7500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Conceito Jurídico de Empreendimento </a:t>
            </a: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Econômico Solidário</a:t>
            </a: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5"/>
          <p:cNvSpPr/>
          <p:nvPr/>
        </p:nvSpPr>
        <p:spPr>
          <a:xfrm>
            <a:off x="981000" y="357120"/>
            <a:ext cx="5054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Conceito Jurídico de Empreendimento </a:t>
            </a: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Econômico Solidário</a:t>
            </a: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Retângulo 3"/>
          <p:cNvSpPr/>
          <p:nvPr/>
        </p:nvSpPr>
        <p:spPr>
          <a:xfrm>
            <a:off x="714240" y="1341360"/>
            <a:ext cx="7143840" cy="60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ffffff"/>
                </a:solidFill>
                <a:uFillTx/>
                <a:latin typeface="Garamond"/>
              </a:rPr>
              <a:t>Pessoa jurídica</a:t>
            </a:r>
            <a:r>
              <a:rPr b="1" lang="pt-BR" sz="2400" spc="-1" strike="noStrike">
                <a:solidFill>
                  <a:srgbClr val="ffffff"/>
                </a:solidFill>
                <a:latin typeface="Garamond"/>
              </a:rPr>
              <a:t> é organização a que a lei confere personalidade, permitindo ser sujeito de direitos e obrigações. 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Garamond"/>
              </a:rPr>
              <a:t>Para constituição de uma pessoa jurídica, em geral, é necessário o preenchimento de três requisitos básicos: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ffffff"/>
              </a:buClr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pt-BR" sz="2400" spc="-1" strike="noStrike">
                <a:solidFill>
                  <a:srgbClr val="ffffff"/>
                </a:solidFill>
                <a:latin typeface="Garamond"/>
              </a:rPr>
              <a:t>Vontade humana criadora, 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ffffff"/>
              </a:buClr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ffffff"/>
              </a:buClr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pt-BR" sz="2400" spc="-1" strike="noStrike">
                <a:solidFill>
                  <a:srgbClr val="ffffff"/>
                </a:solidFill>
                <a:latin typeface="Garamond"/>
              </a:rPr>
              <a:t>Propósitos lícitos.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ffffff"/>
              </a:buClr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ffffff"/>
              </a:buClr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pt-BR" sz="2400" spc="-1" strike="noStrike">
                <a:solidFill>
                  <a:srgbClr val="ffffff"/>
                </a:solidFill>
                <a:latin typeface="Garamond"/>
              </a:rPr>
              <a:t>Observância das condições legais de sua formação. 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buClr>
                <a:srgbClr val="ffffff"/>
              </a:buClr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Rectangle 5" descr=""/>
          <p:cNvPicPr/>
          <p:nvPr/>
        </p:nvPicPr>
        <p:blipFill>
          <a:blip r:embed="rId1"/>
          <a:stretch/>
        </p:blipFill>
        <p:spPr>
          <a:xfrm>
            <a:off x="542880" y="1262160"/>
            <a:ext cx="7680240" cy="569268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5"/>
          <p:cNvSpPr/>
          <p:nvPr/>
        </p:nvSpPr>
        <p:spPr>
          <a:xfrm>
            <a:off x="981000" y="357120"/>
            <a:ext cx="5054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Conceito Jurídico de Empreendimento </a:t>
            </a: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Econômico Solidário</a:t>
            </a: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5"/>
          <p:cNvSpPr/>
          <p:nvPr/>
        </p:nvSpPr>
        <p:spPr>
          <a:xfrm>
            <a:off x="1476360" y="2781360"/>
            <a:ext cx="5040360" cy="93492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981000" y="357120"/>
            <a:ext cx="5054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Conceito Jurídico de Empreendimento </a:t>
            </a: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Econômico Solidário</a:t>
            </a: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Retângulo 7"/>
          <p:cNvSpPr/>
          <p:nvPr/>
        </p:nvSpPr>
        <p:spPr>
          <a:xfrm>
            <a:off x="714240" y="1500120"/>
            <a:ext cx="671544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 u="sng">
                <a:solidFill>
                  <a:srgbClr val="ffffff"/>
                </a:solidFill>
                <a:uFillTx/>
                <a:latin typeface="Garamond"/>
              </a:rPr>
              <a:t>Organizações Informais</a:t>
            </a:r>
            <a:r>
              <a:rPr b="1" lang="pt-BR" sz="2200" spc="-1" strike="noStrike">
                <a:solidFill>
                  <a:srgbClr val="ffffff"/>
                </a:solidFill>
                <a:latin typeface="Garamond"/>
              </a:rPr>
              <a:t>: São agrupamentos de sujeitos que não constituem pessoa jurídica para o exercício de atividade comum. </a:t>
            </a:r>
            <a:endParaRPr b="1" lang="en-US" sz="2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pt-BR" sz="2200" spc="-1" strike="noStrike">
                <a:solidFill>
                  <a:srgbClr val="ffffff"/>
                </a:solidFill>
                <a:latin typeface="Garamond"/>
              </a:rPr>
              <a:t>Elas são organizações irregulares: </a:t>
            </a:r>
            <a:endParaRPr b="1" lang="en-US" sz="2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pt-BR" sz="2200" spc="-1" strike="noStrike" u="sng">
                <a:solidFill>
                  <a:srgbClr val="ffffff"/>
                </a:solidFill>
                <a:uFillTx/>
                <a:latin typeface="Garamond"/>
              </a:rPr>
              <a:t>existem de fato, mas não de direito.</a:t>
            </a:r>
            <a:endParaRPr b="1" lang="en-US" sz="2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ff"/>
                </a:solidFill>
                <a:latin typeface="Garamond"/>
              </a:rPr>
              <a:t>Nos termos do Novo Código Civil, a pessoa jurídica regular surge com o registro de seu ato constitutivo:</a:t>
            </a:r>
            <a:endParaRPr b="1" lang="en-US" sz="2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ff"/>
                </a:solidFill>
                <a:latin typeface="Garamond"/>
              </a:rPr>
              <a:t> </a:t>
            </a:r>
            <a:endParaRPr b="1" lang="en-US" sz="2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pt-BR" sz="2200" spc="-1" strike="noStrike">
                <a:solidFill>
                  <a:srgbClr val="ffffff"/>
                </a:solidFill>
                <a:latin typeface="Garamond"/>
              </a:rPr>
              <a:t>Art. 985. </a:t>
            </a:r>
            <a:r>
              <a:rPr b="1" i="1" lang="pt-BR" sz="2200" spc="-1" strike="noStrike">
                <a:solidFill>
                  <a:srgbClr val="ffffff"/>
                </a:solidFill>
                <a:latin typeface="Garamond"/>
              </a:rPr>
              <a:t>A sociedade adquire personalidade jurídica com a inscrição, no registro próprio e na forma da lei, dos seus atos constitutivos .</a:t>
            </a:r>
            <a:endParaRPr b="1" lang="en-US" sz="2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6"/>
          <p:cNvSpPr/>
          <p:nvPr/>
        </p:nvSpPr>
        <p:spPr>
          <a:xfrm>
            <a:off x="857160" y="549360"/>
            <a:ext cx="721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Disciplina jurídica das Organizações Informais</a:t>
            </a: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857160" y="1451880"/>
            <a:ext cx="7786800" cy="42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Pontos foram disciplinados pelo capítulo do Novo Código Civil dedicado às Sociedades em Comum: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ffff"/>
              </a:buClr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 </a:t>
            </a:r>
            <a:r>
              <a:rPr b="1" lang="pt-BR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Prova da existência da organização, 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ffff"/>
              </a:buClr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ffff"/>
              </a:buClr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 </a:t>
            </a:r>
            <a:r>
              <a:rPr b="1" lang="pt-BR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Natureza jurídica dos bens e das dívidas sociais, e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ffff"/>
              </a:buClr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ffff"/>
              </a:buClr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 </a:t>
            </a:r>
            <a:r>
              <a:rPr b="1" lang="pt-BR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Responsabilidade dos sócios.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7"/>
          <p:cNvSpPr/>
          <p:nvPr/>
        </p:nvSpPr>
        <p:spPr>
          <a:xfrm>
            <a:off x="928800" y="1428840"/>
            <a:ext cx="7215120" cy="49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 u="sng">
                <a:solidFill>
                  <a:srgbClr val="ffffff"/>
                </a:solidFill>
                <a:uFillTx/>
                <a:latin typeface="Garamond"/>
              </a:rPr>
              <a:t>(1) Prova da existência da organização:</a:t>
            </a:r>
            <a:endParaRPr b="1" lang="en-US" sz="2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ff"/>
                </a:solidFill>
                <a:latin typeface="Garamond"/>
                <a:ea typeface="Times New Roman"/>
              </a:rPr>
              <a:t>Art. 987, Código Civil: </a:t>
            </a:r>
            <a:r>
              <a:rPr b="1" i="1" lang="pt-BR" sz="2200" spc="-1" strike="noStrike">
                <a:solidFill>
                  <a:srgbClr val="ffffff"/>
                </a:solidFill>
                <a:latin typeface="Garamond"/>
                <a:ea typeface="Times New Roman"/>
              </a:rPr>
              <a:t>“Os sócios, nas relações entre si ou com terceiros, somente por escrito podem provar a existência da sociedade, mas os terceiros podem prová-la de qualquer modo.”</a:t>
            </a:r>
            <a:endParaRPr b="1" lang="en-US" sz="2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Garamond"/>
              </a:rPr>
              <a:t>Resumindo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Sócios: Apenas admitem provas por escrito.</a:t>
            </a: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Terceiros: Podem provar de qualquer modo.</a:t>
            </a: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857160" y="549360"/>
            <a:ext cx="721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Disciplina jurídica das Organizações Informais</a:t>
            </a: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4"/>
          <p:cNvSpPr/>
          <p:nvPr/>
        </p:nvSpPr>
        <p:spPr>
          <a:xfrm>
            <a:off x="1071720" y="879120"/>
            <a:ext cx="6858000" cy="64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 u="sng">
                <a:solidFill>
                  <a:srgbClr val="ffffff"/>
                </a:solidFill>
                <a:uFillTx/>
                <a:latin typeface="Garamond"/>
              </a:rPr>
              <a:t>(2) Natureza jurídica dos bens e das dívidas sociais:</a:t>
            </a: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1" lang="pt-BR" sz="2000" spc="-1" strike="noStrike">
                <a:solidFill>
                  <a:srgbClr val="ffffff"/>
                </a:solidFill>
                <a:latin typeface="Garamond"/>
                <a:ea typeface="Times New Roman"/>
              </a:rPr>
              <a:t>Art. 988, Código Civil: </a:t>
            </a:r>
            <a:r>
              <a:rPr b="1" i="1" lang="pt-BR" sz="2000" spc="-1" strike="noStrike">
                <a:solidFill>
                  <a:srgbClr val="ffffff"/>
                </a:solidFill>
                <a:latin typeface="Garamond"/>
                <a:ea typeface="Times New Roman"/>
              </a:rPr>
              <a:t>“Os bens e dívidas sociais constituem patrimônio especial, do qual os sócios são titulares em comum.”</a:t>
            </a: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pt-BR" sz="2000" spc="-1" strike="noStrike">
                <a:solidFill>
                  <a:srgbClr val="ffffff"/>
                </a:solidFill>
                <a:latin typeface="Garamond"/>
              </a:rPr>
              <a:t>Art. 989, Código Civil: </a:t>
            </a:r>
            <a:r>
              <a:rPr b="1" i="1" lang="pt-BR" sz="2000" spc="-1" strike="noStrike">
                <a:solidFill>
                  <a:srgbClr val="ffffff"/>
                </a:solidFill>
                <a:latin typeface="Garamond"/>
              </a:rPr>
              <a:t>“Os bens sociais respondem pelos atos de gestão praticados por qualquer dos sócios, salvo pacto expresso limitativo de poderes, que somente terá eficácia contra o terceiro que o conheça ou deva conhecer.”</a:t>
            </a: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 u="sng">
                <a:solidFill>
                  <a:srgbClr val="ffffff"/>
                </a:solidFill>
                <a:uFillTx/>
                <a:latin typeface="Garamond"/>
              </a:rPr>
              <a:t>Resumindo:</a:t>
            </a:r>
            <a:r>
              <a:rPr b="1" lang="pt-BR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Garamond"/>
              </a:rPr>
              <a:t>Numa sociedade em comum, o ato de um sócio pode prejudicar todos os demais. </a:t>
            </a: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Garamond"/>
              </a:rPr>
              <a:t>Responsabilidade dos membros é total: ilimitada e solidária.</a:t>
            </a: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100" spc="-1" strike="noStrike">
                <a:solidFill>
                  <a:srgbClr val="ffffff"/>
                </a:solidFill>
                <a:latin typeface="Garamond"/>
              </a:rPr>
              <a:t> </a:t>
            </a:r>
            <a:endParaRPr b="1" lang="en-US" sz="11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857160" y="549360"/>
            <a:ext cx="721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Disciplina jurídica das Organizações Informais</a:t>
            </a: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8T12:08:13Z</dcterms:created>
  <dc:creator>Tatiana Reis</dc:creator>
  <dc:description/>
  <dc:language>en-US</dc:language>
  <cp:lastModifiedBy>Gabriela Dias</cp:lastModifiedBy>
  <dcterms:modified xsi:type="dcterms:W3CDTF">2009-11-27T09:03:29Z</dcterms:modified>
  <cp:revision>163</cp:revision>
  <dc:subject/>
  <dc:title>Slide 1</dc:title>
</cp:coreProperties>
</file>