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4E4-9EAC-4DAF-AA4A-08AE1BDD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1A8-5811-4265-8AF7-0ECACE9B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4DE-6939-4510-9E74-77ADA505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32E-2CBD-4CB0-9490-855A9E8E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825E-36DE-4F1B-B4A2-BD0D1049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9D89-517B-4100-B119-4753988A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2F43-1169-4AD9-82F3-082E4BA9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2A3E-C380-4165-B8D0-D27AA9F3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C50E-94CE-4093-934F-EFAD97E0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42FA-77D5-4E2B-8027-06C833B7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981C-545E-4888-B7FC-EB9B884B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E7A-AB1E-429A-916A-8273871E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C418-F6D8-4B3C-963F-62327ED1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F4CE-7D10-4D6D-893C-89546120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963C-13D0-4E6D-87C0-D76040DA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EA9F-4250-4B98-BC0A-5CAEDA41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95B5-99D6-49DA-ABCE-F53F5EFA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A32-14BC-432A-80C5-46881C51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A3A-62C3-488F-B511-9CCE77AA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168-995A-4795-BA28-FC6E43B6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E85-57C8-413C-A899-AFD52550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FAA-882B-4E91-A0C2-D9AB312E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214-22AF-4D64-8FA7-2E56E473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34A-591A-42E1-AF3C-895F913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3A0E-1DB2-4115-B653-302BEA0E6D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DD6F-83D4-4FA7-91EC-BE3BBE7595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4360" y="476280"/>
            <a:ext cx="74102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80000"/>
                    </a:gs>
                    <a:gs pos="100000">
                      <a:srgbClr val="ff5757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V Estágio Interdisciplinar de Vivência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80000"/>
                  </a:gs>
                  <a:gs pos="100000">
                    <a:srgbClr val="ff5757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413000"/>
            <a:ext cx="842004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40000"/>
                </a:solidFill>
                <a:latin typeface="Arial Black"/>
              </a:rPr>
              <a:t>Em áreas de Reforma Agrária, Agricultura Camponesa e Territórios Indígenas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14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989000"/>
            <a:ext cx="47052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8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Arial Black"/>
              </a:rPr>
              <a:t>Inscrições:16/11 a 14/12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80000"/>
                  </a:gs>
                  <a:gs pos="100000">
                    <a:srgbClr val="ff575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916360" y="6093000"/>
            <a:ext cx="59720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80000"/>
                    </a:gs>
                    <a:gs pos="100000">
                      <a:srgbClr val="ff5757"/>
                    </a:gs>
                  </a:gsLst>
                  <a:lin ang="5400000"/>
                </a:gradFill>
                <a:latin typeface="Arial Black"/>
              </a:rPr>
              <a:t>de 18 de janeiro a 04 de fevereiro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80000"/>
                  </a:gs>
                  <a:gs pos="100000">
                    <a:srgbClr val="ff575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4000" y="4581360"/>
            <a:ext cx="37144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a08a8"/>
                </a:solidFill>
                <a:latin typeface="Arial"/>
              </a:rPr>
              <a:t>informações: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2a08a8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a08a8"/>
                </a:solidFill>
                <a:latin typeface="Arial"/>
              </a:rPr>
              <a:t>(27)92285459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2a08a8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a08a8"/>
                </a:solidFill>
                <a:latin typeface="Arial"/>
              </a:rPr>
              <a:t>(28)92511108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2a08a8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a08a8"/>
                </a:solidFill>
                <a:latin typeface="Arial"/>
              </a:rPr>
              <a:t>estagio.vivencia@yahoo.com.br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2a08a8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a08a8"/>
                </a:solidFill>
                <a:latin typeface="Arial"/>
              </a:rPr>
              <a:t>www.estagiodevivenciaes.wordpress.com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2a08a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3:09:19Z</dcterms:created>
  <dc:creator>User</dc:creator>
  <dc:description/>
  <dc:language>en-US</dc:language>
  <cp:lastModifiedBy>User</cp:lastModifiedBy>
  <dcterms:modified xsi:type="dcterms:W3CDTF">2009-11-14T13:35:27Z</dcterms:modified>
  <cp:revision>2</cp:revision>
  <dc:subject/>
  <dc:title>Slide 1</dc:title>
</cp:coreProperties>
</file>