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2BD2-8859-46C7-8888-CDC9838E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E227-F7DC-4BEE-B1EC-66D102AD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A27C-DB58-42BA-9850-15B6EC31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4691-990C-4DE2-9910-E6C52EB3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939B-4399-4990-A989-DB03ED81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A212-6B84-4A0A-9E72-56E05E06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1B7F-D83E-4EC2-A939-47C6D6C9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9142-36A9-475F-9E49-0F54A166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6152-A981-4440-B3C5-B3D8C5CB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8462-D56A-4206-BC18-4F6C3993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60F6-9C72-42FD-9C8D-6E9E8D37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8AC0-E32E-496D-B19A-CB019636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AB6D-318D-4050-AE69-1C0F64221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ormaslegais.com.br/legislacao/lc123_2006.htm" TargetMode="External"/><Relationship Id="rId3" Type="http://schemas.openxmlformats.org/officeDocument/2006/relationships/hyperlink" Target="http://www.portaltributario.com.br/legislacao/lei5764.htm" TargetMode="Externa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ortaltributario.com.br/legislacao/lei5764.htm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ITUIÇÃO DE COOPER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I 5.764/19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s Associado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dmis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ingresso é livre, desde que os interessados preencham as condições previstas na lei e no estatu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missão, Eliminação e Exclu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missão unicamente a pedido do cooper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liminação é pena em consequência de infração legal ou estatutária (cabe recurso à Assembléia Gera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póteses de exclusã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solução da pessoa jurídic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te da pessoa físic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apacidade civil não suprid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ão atendimento aos requisitos estatutários de ingresso e permanência na cooper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to na demissão, na eliminação ou na exclusão o associado tem direito à restituição do capital integralizado, que só acontecerá após a realização e aprovação do balanço do exercício  pela Assembléia Geral do ano respec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itos dos Associad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ar e ser vo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r de todas as operações da coope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ber retorno proporcional no fim do 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r livros e docu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ocar a assembléia caso seja necess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dir esclarecimentos ao Conselho de Administ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inar e defender suas idé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r ao Conselho de Administração e ao Conselho Fiscal medidas de interesse da cooper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VER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r com a coope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r das assembléias da coope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gar toda a sua produção à coope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atar a decisão da mai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ar nas ele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mprir seus compromissos com a coope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ter-se informado a respeito da coope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unciar fal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ompanhar os eventos de educação cooperativ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ociedade de Pesso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apital é um instrumento para viabilizar o empreendimento e a prática solidá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isa o resultado econômico dos seus sócios e não da sociedade (pessoa jurídic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unho Econô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cooperativas não são sociedades beneficentes ou cultura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sócios visam incrementos econômicos para si e para a comunidade em que estão inseridos, através da prática solidá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vantagem econômico/financeira advém da eliminação de um ou mais intermediários do processo produtivo, por meio da ajuda-mútu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Capital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 o valor, em moeda corrente, que cada pessoa investe ao associar-se e que serve para o desenvolvimento da cooper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capital social será subdividido em quotas-partes, cujo valor unitário não poderá ser superior ao maior salário mínimo vigente no paí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nhum associado poderá subscrever mais de 1/3 (um terço) do total das quotas-par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ilidade ou dispensa do capital social. Inciso I do art. 1094 do CC/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capital subscrito é estabelecido pelo estatuto social em quotas-partes e poderá ser integralizado de uma só vez ou em parce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 integralizado é o capital já pago e o capital a integralizar é o que resta a pagar do capital subscr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capital social integralizado pertence ao associado e não pode ser transferido a tercei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mbléias Ger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ocadas pelo Presidente, ou por qualquer dos órgãos de administração, pelo Conselho Fiscal, ou após solicitação não atendida, por 20% dos cooperados (art. 38, § 3.º, da Lei 5.764/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beração tomada por maioria de votos dos cooperados presentes com direito a vo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dada a representação por meio de mandatá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mbléia Geral Ordiná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izada anualmente dentro dos 3 primeiros meses após o término do exercício social. Delibera so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tação de cont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nstrativo das sobras ou perd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inação das sobras ou rateio das perd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ição dos membros dos órgãos de administração e fiscal e de outr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ros assu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mbléia Geral Extraordiná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izada sempre que necessário e delibera sobre qualquer assunto, desde que mencionado no edital de convoc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ência exclusiva pa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orma do estatuto soci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são, incorporação e desmembramen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dança do objeto da socied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solução voluntária e nomeação de liquidan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s do liquid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sidade do voto de 2/3 dos associados presentes para deliberação dos assuntos relacion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Órgão de Administ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toria ou Conselho de Administração composto por cooperados eleitos pela Assembléia G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dato nunca inferior a 2 (dois) anos nem superior a 4 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rigatória a renovação mínima de 1/3 dos memb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elho Fis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 o órgão fiscalizador e colaborador que deve fiscalizar, assídua e minuciosamente as operações, ações e serviços da cooperativa e comunicar à Diretoria possíveis irregular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conselheiros examinam mensalmente os balancetes e, no final do ano, apresentam aos demais associados o parecer quanto à veracidade do balanço  o submetem à aprovação da assembléia g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 que é cooperativ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 a sociedade de pessoas que reciprocamente se obrigam a contribuir com bens ou serviços para o exercício de uma atividade econômica, de proveito comum e sem objetivo de lucro, com forma e natureza jurídica própria, de natureza civil, não sujeita a falência e constituída para prestar serviços aos associ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lho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to de 3 membros efetivos e 3 suplentes, todos cooperados (6 membros no tota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dato de 1 (um) 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rigatória a renovação mínima anual de 2/3 dos memb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ão é permitido o parentesco até o segundo grau em linha reta ou colat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ão parentesco entre si, até o segundo grau em linha reta ou colat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dos Soci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Fundos podem s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rigatórios ou Faculta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o de Reserv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inado a reparar perdas e atender ao desenvolvimento das atividades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ínimo : 10% das sobras líquidas do exercí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o de Assistência Técnica, Educacional e Social – F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ínimo : 5% das sobras líquidas do exercí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ros Fundos - com recursos destinados a fins específ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pectos Tributári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VEDAÇÃO DE OPÇÃO PELO SIMPLES NACIO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Cooperativas (exceto as de consumo) não poderão aderir ao Simples Nacional, conforme o disposto no artigo 3º da Lei, no parágrafo 4º, inciso VI, d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C 123/2006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IMPOSTO DE RENDA – PESSOA JURÍD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resultados (sobras) decorrentes dos atos cooperativos não são tributáveis pelo IRPJ, conform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ei 5.764/1971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art. 3. Todos os demais resultados, decorrentes de atos não-cooperativos são tributáveis, integralmente, conforme regras explanadas a segu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3. CONTRIBUIÇÃO SOCIAL SOBRE O LUC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 partir de 01.01.2005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as sociedades cooperativas, relativamente aos atos cooperativos, ficam isentas da Contribuição Social sobre o Lucro Líquido - CSLL. Esta isenção não alcança as sociedades cooperativas de consum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4. I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avendo circulação de mercadorias ou prestação de serviços tributáveis, a cooperativa estará sujeita ao ICMS, de acordo com a legislação estadual em que efetuar as operações. No Estado da Bahia há isenção tributária para o imposto que incide sobre circulação de mercadorias (ICMS) nas operações com obras de arte e produtos de artesanato, conforme exposto no artigo 15, e seus incisos, do Decreto Nº 6.284 de 14 de março de 1997, que regulamenta o IC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5. IPI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ooperativa é considerada estabelecimento industrial quando executa qualquer das operações consideradas como industrialização. Neste caso, deverá recolher o IPI correspondente a alíquota aplicável a seus produtos, dentro dos moldes exigidos pelo Regulamento respec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6. I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rá contribuinte do ISS somente se prestar a terceiros serviços tributados pelo referido impos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restação de serviços a cooperados não caracteriza operação tributável pelo ISS, já que, expressamente, a 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ei 5.764/197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em seu artigo 79, especifica que os atos cooperativos não implicam operação de mercado, nem contrato de compra e v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AIS DIFERENÇAS ENTRE ASSOCIAÇÃO, COOPERATIVA E EMPRESA MERCAN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ssocia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ociedade Coopera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mpresa Mercantil 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ociedade Limit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É uma organização de pessoa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É uma sociedade de pessoa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É uma sociedade de capita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bjetivo principal é realizar atividades assistenciais, culturais, desportivas etc (fim não econômico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bjetivo principal é a  prestação de serviços econômicos ou financeiros aos sócios (fim econômico não lucrativo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bjetivo principal é o lucro (fim econômico e lucrativ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úmero ilimitado de associado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úmero ilimitado de sócio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em princípi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úmero determinado no contrato socia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ada pessoa tem um vot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ada pessoa tem um vot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er de voto proporcional ao capital empregad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ssembléias: quorum é baseado no número de associa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ssembléias: quorum é baseado no número de sóc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ssembléias: quorum é baseado no capi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ssociado pode ser titular de quota do patrimôni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e não ter capital social. Em possuído, não é permitida a transferência de quotas-parte a terceiros estranhos à socied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em capital social. Permitida a transferência das ações a terceir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600200"/>
          <a:ext cx="8229600" cy="4726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sultado financeiro deve ser investido em sua finalidade, jamais distribuído entre associad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sultado financeiro distribuído entre os sócios, em razão do valor das operações de cada u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sultado financeiro distribuído entre os sócios, em razão da parcela de capital empregad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 que tange a tributação, deve fazer anualmente uma declaração de isenção de imposto de rend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ão paga Imposto de Renda sobre suas operações com seus associados. Deve recolher o Imposto de Renda Pessoa Jurídica sobre operações com terceiros. Paga as taxas e os impostos decorrentes das ações comerciai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scrituração contábil simplific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 escrituração contábil é mais complexa em função do volume de negócios e em função da necessidade de ter contabilidades separadas para as operações com os sócios e com não-sóci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s dirigentes não têm remuneração pelo exercício de suas funções; recebem apenas o reembolso das despesas realizadas para o desempenho dos seus carg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s dirigentes podem ser remunerados por retiradas mensais pró-labore, definidas pela assembléia, além do reembolso de suas despesa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u patrimônio é formado por taxa paga pelos associados, doações, fundos e reservas. Não possui capital social. A inexistência do mesmo dificulta a obtenção de financiamento junto às instituições financeira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sui capital social, facilitando, portanto, financiamentos junto às instituições financeiras. O capital social é formado por quotas-partes podendo receber doações, empréstimos e processos de capitalizaçã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ão características da sociedade cooperativa, conforme a lei 5.794/7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 - adesão voluntária, com número ilimitado de associados, salvo impossibilidade técnica de prestação de serviço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I – variabilidade­ do capital social representado por quotas-part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II - limitação do número de quotas-partes do capital para cada associado, facultado, porém, o estabelecimento de critérios de proporcionalidade, se assim for mais adequado para o cumprimento dos objetivos socia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V - incessibilidade das quotas-partes do capital a terceiros, estranhos à socieda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 - singularidade de voto, podendo as cooperativas centrais, federações e confederações de cooperativas, com exceção das que exerçam atividade de crédito, optar pelo critério da proporcionalida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I - quorum para o funcionamento e deliberação da Assembléia Geral baseado no número de associados e não no capit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II - retorno das sobras líquidas do exercício, proporcionalmente às operações realizadas pelo associado, salvo deliberação em contrário da Assembléia Ger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III - indivisibilidade dos fundos de Reserva e de Assistência Técnica Educacional e Soci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X - neutralidade política e indiscriminação religiosa, racial e soci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X - prestação de assistência aos associados, e, quando previsto nos estatutos, aos empregados da cooperativ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XI - área de admissão de associados limitada às possibilidades de reunião, controle, operações e prestação de serviç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ão características da sociedade cooperativa, conforme o Código Civ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 - variabilidade, ou dispensa do capital soci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I - concurso de sócios em número mínimo necessário a compor a administração da sociedade, sem limitação de número máxim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II - limitação do valor da soma de quotas do capital social que cada sócio poderá toma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V - intransferibilidade das quotas do capital a terceiros estranhos à sociedade, ainda que por heranç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 -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quoru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para a assembléia geral funcionar e deliberar, fundado no número de sócios presentes à reunião, e não no capital social representad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I - direito de cada sócio a um só voto nas deliberações, tenha ou não capital a sociedade, e qualquer que seja o valor de sua participa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II - distribuição dos resultados, proporcionalmente ao valor das operações efetuadas pelo sócio com a sociedade, podendo ser atribuído juro fixo ao capital realizad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III - indivisibilidade do fundo de reserva entre os sócios, ainda que em caso de dissolução da socied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. 14. A sociedade cooperativa constitui-se por deliberação da Assembléia Geral dos fundadores, constantes da respectiva ata ou por instrumento públi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03280" y="666216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ato constitutivo deverá conter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- a denominação da entidade, sede e objeto de funciona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 - o nome, nacionalidade, idade, estado civil, profissão e residência dos associados, fundadores que o assinaram, bem como o valor e número da quota-parte de cada u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 - aprovação do estatuto da socieda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 - o nome, nacionalidade, estado civil, profissão e residência dos associados eleitos para os órgãos de administração, fiscalização e ou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- a denominação, sede, prazo de duração, área de ação, objeto da sociedade, fixação do exercício social e da data do levantamento do balanço ger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12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 - os direitos e deveres dos associados, natureza de suas responsabilidades e as condições de admissão, demissão, eliminação e exclusão e as normas para sua representação nas assembléias gerai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I - o capital mínimo, o valor da quota-parte, o mínimo de quotas-partes a ser subscrito pelo associado, o modo de integralização das quotas-partes, bem como as condições de sua retirada nos casos de demissão, eliminação ou de exclusão do associad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II - a forma de devolução das sobras registradas aos associados, ou do rateio das perdas apuradas por insuficiência de contribuição para cobertura das despesas da socieda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549360"/>
            <a:ext cx="8064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X - o modo de administração e fiscalização, estabelecendo os respectivos órgãos, com definição de suas atribuições, poderes e funcionamento, a representação ativa e passiva da sociedade em juízo ou fora dele, o prazo do mandato, bem como o processo de substituição dos administradores e conselheiros fiscai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- as formalidades de convocação das assembléias gerais e a maioria requerida para a sua instalação e validade de suas deliberações, vedado o direito de voto aos que nelas tiverem interesse particular sem privá-los da participação nos debat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XI - os casos de dissolução voluntária da socieda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XII - o modo e o processo de alienação ou oneração de bens imóveis da socieda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XIII - o modo de reformar o estatut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XIV - o número mínimo de associ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8:44:00Z</dcterms:created>
  <dc:creator>arocha</dc:creator>
  <dc:description/>
  <dc:language>en-US</dc:language>
  <cp:lastModifiedBy>arocha</cp:lastModifiedBy>
  <dcterms:modified xsi:type="dcterms:W3CDTF">2010-05-24T20:34:02Z</dcterms:modified>
  <cp:revision>52</cp:revision>
  <dc:subject/>
  <dc:title>CONSTITUIÇÃO DE COOPERATIVAS</dc:title>
</cp:coreProperties>
</file>