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FCD-6732-4EC1-9156-46BA7377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BAF-E1AA-4779-A7D0-EF8D203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557-2E8D-4439-9E72-3E613981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43C-9AB9-43FA-A714-B1EF6835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C24B-AABB-4D81-B394-21AF4FF9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705-F018-4D32-AF5F-0ED58CDB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86C7-1DAC-485A-80C0-3DAAE73E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A92E-3C5C-422E-BC46-80AF8196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59F-6BA8-40C5-9B40-355D5C61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5FC8-1D44-4D2E-B1D2-928BE7E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7146-0184-4565-B51C-E228658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3C5-DBDD-41DC-9307-1873025B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54A6-BE63-4709-B0B6-5FD4F9E6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C688-4139-4193-82E0-54F39E6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E9AC-0499-4716-8632-8B6004AB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FB8-F46D-4939-9D4C-BAA63132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843D-436E-4CCD-980F-5149E51A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36D-FE65-47DA-8226-944759D3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473-3FEA-4F57-8C86-D1F8DAE7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62C-7DEE-4C9D-8D5D-EB9495FB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C58-964F-4E8E-A9EC-0F3350DD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F04-56B2-47C7-968D-084C4E8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2C9-0F9F-426D-A988-1EF79ED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B79-7395-4AE3-A00B-FCD71C6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C1DD-CDD1-4195-9082-8A82A3E585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lide_pa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tipo_CESOL"/>
          <p:cNvPicPr/>
          <p:nvPr/>
        </p:nvPicPr>
        <p:blipFill>
          <a:blip r:embed="rId3"/>
          <a:stretch/>
        </p:blipFill>
        <p:spPr>
          <a:xfrm>
            <a:off x="4067280" y="6021360"/>
            <a:ext cx="1295280" cy="579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logo_SETRE_horizontal"/>
          <p:cNvPicPr/>
          <p:nvPr/>
        </p:nvPicPr>
        <p:blipFill>
          <a:blip r:embed="rId4"/>
          <a:stretch/>
        </p:blipFill>
        <p:spPr>
          <a:xfrm>
            <a:off x="5364000" y="6093000"/>
            <a:ext cx="237672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slide_cap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3F1-A211-4DC8-B36D-651B863BB9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cesol@setre.ba.gov.br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84360" y="836640"/>
            <a:ext cx="7848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 Associ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ogo CeSol_vertical"/>
          <p:cNvPicPr/>
          <p:nvPr/>
        </p:nvPicPr>
        <p:blipFill>
          <a:blip r:embed="rId1"/>
          <a:stretch/>
        </p:blipFill>
        <p:spPr>
          <a:xfrm>
            <a:off x="1476360" y="2924280"/>
            <a:ext cx="2919600" cy="30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logo_SETRE_vertical"/>
          <p:cNvPicPr/>
          <p:nvPr/>
        </p:nvPicPr>
        <p:blipFill>
          <a:blip r:embed="rId2"/>
          <a:stretch/>
        </p:blipFill>
        <p:spPr>
          <a:xfrm>
            <a:off x="4643280" y="3284640"/>
            <a:ext cx="36738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R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tar e ser vo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r de todas as operações d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eber retorno proporcional no fim do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aminar livros 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ocar a assembléia caso seja necess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dir esclarecimentos ao Conselho de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inar e defender suas idé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 ao Conselho de Administração e ao Conselho Fiscal medidas de interesse da coope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250920" y="13413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V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r com 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r das assembléias d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gar toda a sua produção à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atar a decisão da mai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tar nas ele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mprir seus compromissos com 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er-se informado a respeito d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unciar fa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r os eventos de educação cooperati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68360" y="260280"/>
            <a:ext cx="7931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1676520"/>
            <a:ext cx="4038480" cy="4655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otar e ser vo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rticipar de todas as operações da co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ceber retorno proporcional no fim d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aminar livros e 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vocar a assembléia caso seja necess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dir esclarecimentos ao Cons. de Administ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pinar e defender suas idé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por ao C.A. e C.F. medidas de interesse da  co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800600" y="1676520"/>
            <a:ext cx="4114800" cy="4381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perar com a co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rticipar das assembléias da co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tregar toda a sua produção à co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atar a decisão da mai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otar nas ele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umprir seus compromissos com a co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ter-se informado a respeito da co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nunciar fal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10666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re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562720" y="10666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ireitos e Deve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ciedade de 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apital é um instrumento para viabilizar o empreendimento e a prática solid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sa o resultado econômico dos seus sócios e não da sociedade (pessoa juríd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nho Econô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cooperativas não são sociedades beneficentes ou cultura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ócios visam incrementos econômicos para si e para a comunidade em que estão inseridos, através da prática solid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antagem econômico/financeira advém da eliminação de um ou mais intermediários do processo produtivo, por meio da ajuda-mút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Capital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valor, em moeda corrente, que cada pessoa investe ao associar-se e que serve para o desenvolvimento da co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pital social será subdividido em quotas-partes, cujo valor unitário não poderá ser superior ao maior salário mínimo vigente no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 associado poderá subscrever mais de 1/3 (um terço) do total das quotas-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Capital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abilidade ou dispensa do capital social. Inciso I do art. 1094 do CC/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pital subscrito é estabelecido pelo estatuto social em quotas-partes e poderá ser integralizado de uma só vez ou em parce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integralizado é o capital já pago e o capital a integralizar é o que resta a pagar do capital subscr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pital social integralizado pertence ao associado e não pode ser transferido a terc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28760" y="1285920"/>
            <a:ext cx="82184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éias Ge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ocadas pelo Presidente, ou por qualquer dos órgãos de administração, pelo Conselho Fiscal, ou após solicitação não atendida, por 20% dos cooperados (art. 38, § 3.º, da Lei 5.764/7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liberação tomada por maioria de votos dos cooperados presentes com direito a v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dada a representação por meio de mandat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éia Geral Ordin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izada anualmente dentro dos 3 primeiros meses após o término do exercício social. Delibera so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stação de cont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onstrativo das sobras ou p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tinação das sobras ou rateio das p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ição dos membros dos órgãos de administração e fiscal e de out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s assu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ângulo 4"/>
          <p:cNvSpPr/>
          <p:nvPr/>
        </p:nvSpPr>
        <p:spPr>
          <a:xfrm>
            <a:off x="642960" y="1571760"/>
            <a:ext cx="7000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éia Geral Extraordin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izada sempre que necessário e delibera sobre qualquer assunto, desde que mencionado no edital de convo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etência exclusiva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orma do estatuto so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são, incorporação e desmembr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dança do objeto da socie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solução voluntária e nomeação de liquida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as do liqui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o voto de 2/3 dos associados presentes para deliberação dos assunt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26920" y="1353240"/>
            <a:ext cx="720108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Órgão de Administ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Diretoria ou Conselho de Administração composto por cooperados eleitos pela Assembléia G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dato nunca inferior a 2 (dois) anos nem superior a 4 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rigatória a renovação mínima de 1/3 dos m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elho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o órgão fiscalizador e colaborador que deve fiscalizar, assídua e minuciosamente as operações, ações e serviços da cooperativa e comunicar à Diretoria possíveis irregular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conselheiros examinam mensalmente os balancetes e, no final do ano, apresentam aos demais associados o parecer quanto à veracidade do balanço  o submetem à aprovação da assembléia g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elh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to de 3 membros efetivos e 3 suplentes, todos cooperados (6 membros no to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dato de 1 (um)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rigatória a renovação mínima anual de 2/3 dos memb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é permitido o parentesco até o segundo grau em linha reta ou colat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parentesco entre si, até o segundo grau em linha reta ou colat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95280" y="184464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 de cooperativa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direito brasileiro, após Lei 10.406/200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ociedade coopera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sociedade simples, de pessoas, constituída, em princípio, por pessoas físicas, que reciprocamente se obrigam a contribuir com bens (produtos e valores) e serviços (atividades, trabalho) para o exercício de uma atividade econômica de proveito comum, sem fins lucrativos, não sujeita a falência, constituída para prestar serviço aos sócios, distinguindo-se das demais sociedades pelas segui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14240" y="1105560"/>
            <a:ext cx="774720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dos So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Calibri"/>
              </a:rPr>
              <a:t>Os Fundos podem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rigatórios ou Facult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do de Reser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inado a reparar perdas e atender ao desenvolvimento das atividades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ínimo : 10% das sobras líquidas do exerc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do de Assistência Técnica, Educacional e Social – F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ínimo : 5% das sobras líquidas do exerc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tros Fundos - com recursos destinados a fin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ções de Direito Associ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57200" y="16002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eito jurídico de associação civ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i 10.406/2002, art. 53: “Constituem-se as associações pela uni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sso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se organizam par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ns não-econôm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ssociações segundo a legislação vigente, Lei 10406 de 10 de janeiro de 2002, Novo Código Civil,  podem ter por f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ltur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entífic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ssistênci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ciais de qualquer espéci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tros, desde que não econôm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Associ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M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gresso é livre, desde que os interessados preencham as condições previstas na lei e no estat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MISSÃO, ELIMINAÇÃO e EX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issão unicamente a pedido do coope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iminação é pena em consequência de infração legal ou estatutária (cabe recurso à Assembléia Ge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ipóteses de ex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solução da pessoa juríd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rte da pessoa fís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apacidade civil não supr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atendimento aos requisitos estatutários de ingresso e permanência na associ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Noções de Direito Associa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R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inar e defender suas idé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tar e ser vo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r das atividades da assoc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aminar livros 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ocar a assembléia caso seja necess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dir esclarecimentos ao Conselho de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500040" y="1341360"/>
            <a:ext cx="839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V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r das atividades da associação, inclusive assemblé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atar a decisão da mai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mprir determinações do esta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unciar irregular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68360" y="260280"/>
            <a:ext cx="7931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Noções de Direito Associa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stituição e Administ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Órgãos so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ssociação civil é composta por órgãos com atribuições disti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embléia Ger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missão da assembléia à Constituição, às leis e ao estat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elho Fiscal (facult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Órgão Gestor: Diretoria x Conselho de Administ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s órgã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ibuição de competê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ções de Direito Associativ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 DIFERENÇAS ENTRE ASSOCIAÇÃO, COOPERATIVA E EMPRESA MERC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11280" y="1484280"/>
          <a:ext cx="7032600" cy="4444920"/>
        </p:xfrm>
        <a:graphic>
          <a:graphicData uri="http://schemas.openxmlformats.org/drawingml/2006/table">
            <a:tbl>
              <a:tblPr/>
              <a:tblGrid>
                <a:gridCol w="2344680"/>
                <a:gridCol w="2343240"/>
                <a:gridCol w="2344680"/>
              </a:tblGrid>
              <a:tr h="42372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oci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ciedade Cooper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presa Mercantil 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ciedade Limit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É uma organização de pesso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É uma sociedade de pesso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É uma sociedade de capit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jetivo principal é realizar atividades assistenciais, culturais, desportivas etc (fim não econômic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jetivo principal é a  prestação de serviços econômicos ou financeiros aos sócios (fim econômico não lucrativ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jetivo principal é o lucro (fim econômico e lucrat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úmero ilimitado de associad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úmero ilimitado de sóci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em princíp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úmero determinado no contrato soci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da pessoa tem um vo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da pessoa tem um vo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er de voto proporcional ao capital emprega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mbléias: quorum é baseado no número de associ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mbléias: quorum é baseado no número de só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mbléias: quorum é baseado no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ociado pode ser titular de quota do patrimôn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e não ter capital social. Em possuído, não é permitida a transferência de quotas-parte a terceiros estranhos à socied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 capital social. Permitida a transferência das ações a terceir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28760" y="1285920"/>
            <a:ext cx="82184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5880" y="1357200"/>
          <a:ext cx="7572240" cy="4648320"/>
        </p:xfrm>
        <a:graphic>
          <a:graphicData uri="http://schemas.openxmlformats.org/drawingml/2006/table">
            <a:tbl>
              <a:tblPr/>
              <a:tblGrid>
                <a:gridCol w="2768400"/>
                <a:gridCol w="2401920"/>
                <a:gridCol w="2401920"/>
              </a:tblGrid>
              <a:tr h="527040"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ultado financeiro deve ser investido em sua finalidade, jamais distribuído entre associad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ultado financeiro distribuído entre os sócios, em razão do valor das operações de cada 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ultado financeiro distribuído entre os sócios, em razão da parcela de capital emprega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 que tange a tributação, d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ve fazer anualmente uma declaração de isenção de imposto de ren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ão paga Imposto de Renda sobre suas operações com seus associados. Deve recolher o Imposto de Renda Pessoa Jurídica sobre operações com terceiros. Paga as taxas e os impostos decorrentes das ações comercia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scrituração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contábil simplif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 escrituração contábil é mais complexa em função do volume de negócios e em função da necessidade de ter contabilidades separadas para as operações com os sócios e com não-sóci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s dirigentes não têm remuneração pelo exercício de suas funções; recebem apenas o reembolso das despesas realizadas para o desempenho dos seus carg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s dirigentes podem ser remunerados por retiradas mensais pró-labore, definidas pela assembléia, além do reembolso de suas despes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u patrimônio é formado por taxa paga pelos associados, doações, fundos e reservas. Não possui capital social. A inexistência do mesmo dificulta a obtenção de financiamento junto às instituições financeir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ui capital social, facilitando, portanto, financiamentos junto às instituições financeiras. O capital social é formado por quotas-partes podendo receber doações, empréstimos e processos de capitalizaçã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 DIFERENÇAS ENTRE ASSOCIAÇÃO, COOPERATIVA E EMPRESA MERC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sol@setre.ba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l: 3117-15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 CeSol_horizontal"/>
          <p:cNvPicPr/>
          <p:nvPr/>
        </p:nvPicPr>
        <p:blipFill>
          <a:blip r:embed="rId2"/>
          <a:stretch/>
        </p:blipFill>
        <p:spPr>
          <a:xfrm>
            <a:off x="395280" y="1268280"/>
            <a:ext cx="57783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95280" y="162864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são voluntá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ilimitado de sócios, salvo impossibilidade técnica de prestação de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alienabilidade de cotas de capital a não-sóc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gularidade de voto, facultada a proporcionalidade para centrais, federações e confederações cooperativ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óruns sociais baseados no número de sóc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o das sobras líquidas do exercício social, ressalvada deliberação assembl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utralidade política e indiscriminação religiosa, racial e social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tação de assistência a sócios, empregados e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ogo_bahiaSolidaria"/>
          <p:cNvPicPr/>
          <p:nvPr/>
        </p:nvPicPr>
        <p:blipFill>
          <a:blip r:embed="rId1"/>
          <a:stretch/>
        </p:blipFill>
        <p:spPr>
          <a:xfrm>
            <a:off x="6516720" y="6308640"/>
            <a:ext cx="922320" cy="36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 Adesão voluntária e l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cooperativas são organizações voluntárias, abertas a todas as pessoas aptas a utilizar os seus serviços e assumir as responsabilidades como membros, sem discriminação de sexo, ou de ordem social, política e religi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Número ilimitado de sócios, salvo impossibilidade técnica de prestação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-se, a este respeito, discussão a respeito da quantidade mínima de sócios  - 20 associados - Art. 6º, inciso I, lei 5.764/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. Inalienabilidade de cotas de capital a não-só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gundo esta característica, não é possível alienar cotas de capital àqueles que não fazem parte da cooper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logo_bahiaSolidaria"/>
          <p:cNvPicPr/>
          <p:nvPr/>
        </p:nvPicPr>
        <p:blipFill>
          <a:blip r:embed="rId1"/>
          <a:stretch/>
        </p:blipFill>
        <p:spPr>
          <a:xfrm>
            <a:off x="6516720" y="6308640"/>
            <a:ext cx="922320" cy="3650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4. Singularidade de voto, facultada a proporcionalidade para centrais, federações e confederações cooper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s cooperativas de primeiro grau, os membros têm igual direito de voto (uma pessoa – um voto). As cooperativas de grau superior são também organizadas de maneira democr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5. Quóruns sociais baseados no número de só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ferente das sociedades empresárias, os quóruns sociais são baseados na quantidade de sócios, qualquer que seja o número das suas quotas-par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6. Retorno das sobras líquidas do exercício social, ressalvada deliberação assemb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finaliza o ano social e se pratica o balanço, surgirá uma diferença para mais ou para menos sobre aquele preço provisório, deduzidos os custos de investimento e de assistência, caracterizados classicamente pelos Fundos de Reserva e F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logo_bahiaSolidaria"/>
          <p:cNvPicPr/>
          <p:nvPr/>
        </p:nvPicPr>
        <p:blipFill>
          <a:blip r:embed="rId1"/>
          <a:stretch/>
        </p:blipFill>
        <p:spPr>
          <a:xfrm>
            <a:off x="6516720" y="6308640"/>
            <a:ext cx="922320" cy="365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6. (Continuação) Retorno das sobras líquidas do exercício social, ressalvada deliberação assemb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a diferença (geralmente positiva, quando a administração tiver sido eficiente) é o que se chama "sobras retornáveis" ou "sobras líquidas do exercício”, ou seja a diferença exata entre o custo projetado e o custo real dos serviços prestados aos associados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a sobra se distribui entre os associados como retorno em proporção dos serviços utilizados por cada ano durante o exercício.  O excedente, em suma, é o que a cooperativa recebeu a mais, no momento em que este fez uso de seus serviç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í que este excedente deva ser devolvido, “retornado”, ao associado como reajuste sobre custo projetado, configurando-se desta maneira o custo real.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logo_bahiaSolidaria"/>
          <p:cNvPicPr/>
          <p:nvPr/>
        </p:nvPicPr>
        <p:blipFill>
          <a:blip r:embed="rId1"/>
          <a:stretch/>
        </p:blipFill>
        <p:spPr>
          <a:xfrm>
            <a:off x="6516720" y="6308640"/>
            <a:ext cx="922320" cy="3650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7. Neutralidade política e indiscriminação religiosa, racial e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entado no item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8. Prestação de assistência a sócios, empregados e famili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cooperativas promovem a educação e a formação dos seus membros, de forma que esses possam contribuir, eficazmente, para o desenvolvimento do gru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ormam o público em geral, sobre a natureza e as vantagens da cooperação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m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gresso é livre, desde que os interessados preencham as condições previstas na lei e no estat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missão, Eliminação e Ex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issão unicamente a pedido do coope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iminação é pena em consequência de infração legal ou estatutária (cabe recurso à Assembléia Ge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ipóteses de exclu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solução da pessoa juríd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rte da pessoa fís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apacidade civil não supri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atendimento aos requisitos estatutários de ingresso e permanência na co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nto na demissão, na eliminação ou na exclusão o associado tem direito à restituição do capital integralizado, que só acontecerá após a realização e aprovação do balanço do exercício  pela Assembléia Geral do ano respe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ções de Direito Co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0:11:07Z</dcterms:created>
  <dc:creator>APAIVA</dc:creator>
  <dc:description/>
  <dc:language>en-US</dc:language>
  <cp:lastModifiedBy>arocha</cp:lastModifiedBy>
  <dcterms:modified xsi:type="dcterms:W3CDTF">2010-05-24T20:10:43Z</dcterms:modified>
  <cp:revision>44</cp:revision>
  <dc:subject/>
  <dc:title>Slide 1</dc:title>
</cp:coreProperties>
</file>