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0F4-D391-4F5E-AAAB-19270105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4C2-A981-425B-B44F-0D03E86A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6DD4-D806-4A51-9613-C4DF81FF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CA2-6404-4DFE-8F7C-09FAAA0F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00C-9FCA-4DAD-AF1A-6AAC2CEB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587-E60C-4154-9280-B97EAB9B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EEA-3911-45A9-BCC7-37D83973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3A86-21A8-47A1-BE70-0443C368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7F8-1ED9-44ED-A313-693E5070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8C8-1C0E-4AA4-BED1-D4F52E0D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85F-80FA-40DD-A87A-BD0334F9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892-FEB3-4E9A-9BF2-C932D911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84A1-9C62-42EE-B311-3CA507C3D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8" descr="doc1.jpg"/>
          <p:cNvPicPr/>
          <p:nvPr/>
        </p:nvPicPr>
        <p:blipFill>
          <a:blip r:embed="rId1"/>
          <a:stretch/>
        </p:blipFill>
        <p:spPr>
          <a:xfrm>
            <a:off x="5440320" y="0"/>
            <a:ext cx="1417680" cy="162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920" y="0"/>
            <a:ext cx="58294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alibri"/>
              </a:rPr>
              <a:t>IV SEMANA DE AGROECOLOGIA</a:t>
            </a:r>
            <a:br>
              <a:rPr sz="1600"/>
            </a:br>
            <a:r>
              <a:rPr b="1" lang="en-US" sz="1600" spc="-1" strike="noStrike">
                <a:solidFill>
                  <a:srgbClr val="800000"/>
                </a:solidFill>
                <a:latin typeface="Calibri"/>
              </a:rPr>
              <a:t>Por uma outra formação: Agroecologia e Extens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52640" y="899640"/>
            <a:ext cx="46800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e460f"/>
                </a:solidFill>
                <a:uFillTx/>
                <a:latin typeface="Calibri"/>
              </a:rPr>
              <a:t>Programaçã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aixaDeTexto 7"/>
          <p:cNvSpPr/>
          <p:nvPr/>
        </p:nvSpPr>
        <p:spPr>
          <a:xfrm>
            <a:off x="0" y="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460f"/>
                </a:solidFill>
                <a:latin typeface="Bradley Hand ITC"/>
                <a:ea typeface="Arial Unicode MS"/>
              </a:rPr>
              <a:t>MUTIRÃO E AGRICULTURA ECOLÓGICA- MAE/UFF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  <a:ea typeface="Arial Unicode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9"/>
          <p:cNvSpPr/>
          <p:nvPr/>
        </p:nvSpPr>
        <p:spPr>
          <a:xfrm>
            <a:off x="3141720" y="7740720"/>
            <a:ext cx="3716280" cy="1159560"/>
          </a:xfrm>
          <a:prstGeom prst="rect">
            <a:avLst/>
          </a:prstGeom>
          <a:noFill/>
          <a:ln w="9360">
            <a:solidFill>
              <a:srgbClr val="0e4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800000"/>
                </a:solidFill>
                <a:latin typeface="Calibri"/>
              </a:rPr>
              <a:t>Local: </a:t>
            </a:r>
            <a:r>
              <a:rPr b="1" lang="pt-BR" sz="1400" spc="-1" strike="noStrike">
                <a:solidFill>
                  <a:srgbClr val="800000"/>
                </a:solidFill>
                <a:latin typeface="Arial"/>
              </a:rPr>
              <a:t>Instituto de Geociê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800000"/>
                </a:solidFill>
                <a:latin typeface="Arial"/>
              </a:rPr>
              <a:t>Campus da Praia Vermelha- U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800000"/>
                </a:solidFill>
                <a:latin typeface="Arial"/>
              </a:rPr>
              <a:t>Contato: maeuff@yahoogrupos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800000"/>
                </a:solidFill>
                <a:latin typeface="Arial"/>
              </a:rPr>
              <a:t>              </a:t>
            </a:r>
            <a:r>
              <a:rPr b="1" lang="pt-BR" sz="1400" spc="-1" strike="noStrike">
                <a:solidFill>
                  <a:srgbClr val="800000"/>
                </a:solidFill>
                <a:latin typeface="Arial"/>
              </a:rPr>
              <a:t>maeuff.blogspo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imagem mae.bmp"/>
          <p:cNvPicPr/>
          <p:nvPr/>
        </p:nvPicPr>
        <p:blipFill>
          <a:blip r:embed="rId2"/>
          <a:stretch/>
        </p:blipFill>
        <p:spPr>
          <a:xfrm>
            <a:off x="189000" y="8532720"/>
            <a:ext cx="1224000" cy="420840"/>
          </a:xfrm>
          <a:prstGeom prst="rect">
            <a:avLst/>
          </a:prstGeom>
          <a:ln w="0">
            <a:noFill/>
          </a:ln>
        </p:spPr>
      </p:pic>
      <p:sp>
        <p:nvSpPr>
          <p:cNvPr id="47" name="CaixaDeTexto 23"/>
          <p:cNvSpPr/>
          <p:nvPr/>
        </p:nvSpPr>
        <p:spPr>
          <a:xfrm rot="16200000">
            <a:off x="5454000" y="528192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erlin Sans FB"/>
              </a:rPr>
              <a:t>traga sua canec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6360"/>
            <a:ext cx="324000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e460f"/>
                </a:solidFill>
                <a:latin typeface="Calibri"/>
              </a:rPr>
              <a:t>2° feira (25/10) – Valorizando os Saberes para uma Nova Form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13h – Chegada e inscriçõ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14h – Apresentação do MA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15h – Dinâmica entre Grupos de Agroecolo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17h – Lanche agroecológic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18h às 22h – Confraternização: roda de capoeira e samb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e460f"/>
                </a:solidFill>
                <a:latin typeface="Calibri"/>
              </a:rPr>
              <a:t>3° feira (26/10) – Caminhos da Agroecologia no R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11h às 16h – Feira de produtos agroecológ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13h30 –Mesa “Panorama da Agroecologia no Estado” e lançamento do filme </a:t>
            </a:r>
            <a:r>
              <a:rPr b="0" lang="pt-BR" sz="1400" spc="-1" strike="noStrike">
                <a:solidFill>
                  <a:srgbClr val="800000"/>
                </a:solidFill>
                <a:latin typeface="Calibri"/>
              </a:rPr>
              <a:t>Caminhos do Rio: Experiências em Agroecologia no RJ.</a:t>
            </a:r>
            <a:r>
              <a:rPr b="0" lang="pt-BR" sz="1400" spc="-1" strike="noStrike">
                <a:solidFill>
                  <a:srgbClr val="663300"/>
                </a:solidFill>
                <a:latin typeface="Calibri"/>
              </a:rPr>
              <a:t> Participantes: </a:t>
            </a: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Alexandre Gollo  (Cedro), </a:t>
            </a:r>
            <a:r>
              <a:rPr b="0" lang="pt-BR" sz="1200" spc="-1" strike="noStrike">
                <a:solidFill>
                  <a:srgbClr val="663300"/>
                </a:solidFill>
                <a:latin typeface="Arial"/>
              </a:rPr>
              <a:t>Thiago Michelini Barbosa (Projeto Cnpq UFF/AARJ); </a:t>
            </a: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Pró-Reitor de Extensão Prof. Dr. Fábio Barboza Passo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57720" y="1403280"/>
            <a:ext cx="3240000" cy="49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Chefe do Departamento de Geografia Profa. Dra. Lucelinda S. Corrêa, UFF; </a:t>
            </a:r>
            <a:r>
              <a:rPr b="0" lang="pt-BR" sz="1200" spc="-1" strike="noStrike">
                <a:solidFill>
                  <a:srgbClr val="663300"/>
                </a:solidFill>
                <a:latin typeface="Arial"/>
              </a:rPr>
              <a:t>Prof. Dr José Carlos Milleo -Geografia 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17h – Lanche agroecológico e  troca de sem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e460f"/>
                </a:solidFill>
                <a:latin typeface="Calibri"/>
              </a:rPr>
              <a:t>4° feira (27/10) – Aprender Faze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14h - Oficina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Composteira em caix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Agricultura Urbana: hortas verticais e em móbi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Aproveitamento integral de aliment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. Geodés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e460f"/>
                </a:solidFill>
                <a:latin typeface="Calibri"/>
              </a:rPr>
              <a:t>5° feira (28/10) – Socializando as Idéias e experiê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14h – Roda de socialização e encerrament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e460f"/>
                </a:solidFill>
                <a:latin typeface="Calibri"/>
              </a:rPr>
              <a:t>6º feira (29/10)</a:t>
            </a:r>
            <a:r>
              <a:rPr b="0" lang="pt-BR" sz="1300" spc="-1" strike="noStrike">
                <a:solidFill>
                  <a:srgbClr val="663300"/>
                </a:solidFill>
                <a:latin typeface="Calibri"/>
              </a:rPr>
              <a:t> – Saída de camp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172360"/>
            <a:ext cx="102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00000"/>
                </a:solidFill>
                <a:latin typeface="Calibri"/>
              </a:rPr>
              <a:t>Realiizaçã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5:52:16Z</dcterms:created>
  <dc:creator>***</dc:creator>
  <dc:description/>
  <dc:language>en-US</dc:language>
  <cp:lastModifiedBy>50997019</cp:lastModifiedBy>
  <dcterms:modified xsi:type="dcterms:W3CDTF">2010-10-18T15:28:07Z</dcterms:modified>
  <cp:revision>30</cp:revision>
  <dc:subject/>
  <dc:title>IV SEMANA DE AGROECOLOGIA Por uma outra formação: Extensão e Agroecologia</dc:title>
</cp:coreProperties>
</file>