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6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44.png" ContentType="image/pn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1.jpeg" ContentType="image/jpeg"/>
  <Override PartName="/ppt/media/image3.png" ContentType="image/png"/>
  <Override PartName="/ppt/media/image17.jpeg" ContentType="image/jpeg"/>
  <Override PartName="/ppt/media/image63.png" ContentType="image/png"/>
  <Override PartName="/ppt/media/image61.jpeg" ContentType="image/jpeg"/>
  <Override PartName="/ppt/media/image40.png" ContentType="image/png"/>
  <Override PartName="/ppt/media/image50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49.png" ContentType="image/png"/>
  <Override PartName="/ppt/media/image23.jpeg" ContentType="image/jpeg"/>
  <Override PartName="/ppt/media/image12.png" ContentType="image/png"/>
  <Override PartName="/ppt/media/image51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1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57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43.png" ContentType="image/png"/>
  <Override PartName="/ppt/media/image5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E432-116D-4BCA-81AD-A1956265E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318B-68C5-4A54-8CD7-8A6C2A819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FFBF-7688-45E6-ACB5-895C7FFD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98C3-F742-48A2-AF31-4D4EC28C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2681-3EE5-4577-A5A4-B130F51C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7B94-F6C5-45E5-AB17-3F6BE69F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D7DD-329C-4E3D-AC71-AE02A536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1CD0-DD0E-4008-9CAA-2E3CC092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1679-AEF9-4E64-8647-64306F05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6817-DE59-48BF-8EE3-5758BC82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4C82-D524-4909-931C-C940DB2D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E655-E213-41D6-B6F5-FDB5D3DAD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50A7-C050-41FF-AEB7-0DBD49664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ECDC-8F5C-45EC-93A3-1B78F24C0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50EF-96C2-44A7-AF8B-34A7C2B2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7289-B57C-4C55-B410-B71E63428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9C51-ABA7-45F7-AC2D-5D9E6E94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BBA1-EE5D-48B0-9DE0-5D0D654E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4013-14EC-44F3-BF62-500E0D40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8672-34FC-4C38-943A-371E85353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4677-8552-4ECA-9C69-50B0998FE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26AB-5C91-4801-BE0A-4687D75BE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9A43-9B3B-4545-8081-A16EF5CB8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5C13-1B61-46B8-9E62-2502E2ABF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8B76-982B-46AE-9914-176C5A24C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2027-73C0-4682-9882-9C9153B591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4686-3486-42CA-AA5A-488502769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D494-D167-49C1-AD32-0AF13BF76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C048-FC9F-4095-BF9B-B259A8FD3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1221-9991-49C4-9BAC-FB2478A46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A60B-9CAB-45E8-9274-961DA4CB6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5EA5-F041-44DB-AD6E-0E7286F40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新年2"/>
          <p:cNvPicPr/>
          <p:nvPr/>
        </p:nvPicPr>
        <p:blipFill>
          <a:blip r:embed="rId2"/>
          <a:stretch/>
        </p:blipFill>
        <p:spPr>
          <a:xfrm>
            <a:off x="-11160" y="-6480"/>
            <a:ext cx="9174240" cy="687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89A379F-CC9C-47AB-BC4E-CD822B74A882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236844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png-0056"/>
          <p:cNvPicPr/>
          <p:nvPr/>
        </p:nvPicPr>
        <p:blipFill>
          <a:blip r:embed="rId5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png-0002"/>
          <p:cNvPicPr/>
          <p:nvPr/>
        </p:nvPicPr>
        <p:blipFill>
          <a:blip r:embed="rId6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7" name="Picture 9" descr="soft7"/>
            <p:cNvPicPr/>
            <p:nvPr/>
          </p:nvPicPr>
          <p:blipFill>
            <a:blip r:embed="rId7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0" descr="soft7"/>
            <p:cNvPicPr/>
            <p:nvPr/>
          </p:nvPicPr>
          <p:blipFill>
            <a:blip r:embed="rId8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11"/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59" name="Picture 12" descr="cc"/>
            <p:cNvPicPr/>
            <p:nvPr/>
          </p:nvPicPr>
          <p:blipFill>
            <a:blip r:embed="rId9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9" descr="logo"/>
            <p:cNvPicPr/>
            <p:nvPr/>
          </p:nvPicPr>
          <p:blipFill>
            <a:blip r:embed="rId10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23"/>
            <p:cNvSpPr/>
            <p:nvPr/>
          </p:nvSpPr>
          <p:spPr>
            <a:xfrm>
              <a:off x="335016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新年1"/>
          <p:cNvPicPr/>
          <p:nvPr/>
        </p:nvPicPr>
        <p:blipFill>
          <a:blip r:embed="rId2"/>
          <a:stretch/>
        </p:blipFill>
        <p:spPr>
          <a:xfrm>
            <a:off x="-11160" y="-6480"/>
            <a:ext cx="9174240" cy="687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g"/>
          <p:cNvPicPr/>
          <p:nvPr/>
        </p:nvPicPr>
        <p:blipFill>
          <a:blip r:embed="rId3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0"/>
          <p:cNvSpPr txBox="1"/>
          <p:nvPr/>
        </p:nvSpPr>
        <p:spPr>
          <a:xfrm>
            <a:off x="808200" y="1227240"/>
            <a:ext cx="4952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hildren Ministry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47" name="Picture 6" descr="logo baru racil"/>
          <p:cNvPicPr/>
          <p:nvPr/>
        </p:nvPicPr>
        <p:blipFill>
          <a:blip r:embed="rId1"/>
          <a:srcRect l="12241" t="10831" r="16332" b="11196"/>
          <a:stretch/>
        </p:blipFill>
        <p:spPr>
          <a:xfrm>
            <a:off x="624852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ead racil"/>
          <p:cNvPicPr/>
          <p:nvPr/>
        </p:nvPicPr>
        <p:blipFill>
          <a:blip r:embed="rId2"/>
          <a:stretch/>
        </p:blipFill>
        <p:spPr>
          <a:xfrm>
            <a:off x="0" y="2895480"/>
            <a:ext cx="9144000" cy="9939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0" y="3809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www.rajawalikecil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0" y="5595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www.thehappyholykids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header copy copy.png"/>
          <p:cNvPicPr/>
          <p:nvPr/>
        </p:nvPicPr>
        <p:blipFill>
          <a:blip r:embed="rId3"/>
          <a:stretch/>
        </p:blipFill>
        <p:spPr>
          <a:xfrm>
            <a:off x="0" y="4267080"/>
            <a:ext cx="91440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317520"/>
            <a:ext cx="1957320" cy="12826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2" descr=""/>
          <p:cNvPicPr/>
          <p:nvPr/>
        </p:nvPicPr>
        <p:blipFill>
          <a:blip r:embed="rId2"/>
          <a:stretch/>
        </p:blipFill>
        <p:spPr>
          <a:xfrm>
            <a:off x="1316160" y="743040"/>
            <a:ext cx="64688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A63A13C5-2F17-485A-97C3-D37160A423AA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yudi\Documents\images.jpg"/>
          <p:cNvPicPr/>
          <p:nvPr/>
        </p:nvPicPr>
        <p:blipFill>
          <a:blip r:embed="rId1"/>
          <a:stretch/>
        </p:blipFill>
        <p:spPr>
          <a:xfrm>
            <a:off x="488880" y="1015920"/>
            <a:ext cx="4365720" cy="4345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C:\Users\yudi\Documents\kado.gif"/>
          <p:cNvPicPr/>
          <p:nvPr/>
        </p:nvPicPr>
        <p:blipFill>
          <a:blip r:embed="rId2"/>
          <a:stretch/>
        </p:blipFill>
        <p:spPr>
          <a:xfrm>
            <a:off x="4567320" y="2208240"/>
            <a:ext cx="35910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8DC0B0F1-9801-4EAB-95FA-1F7335D9858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4761000" cy="11638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554040" y="1644480"/>
            <a:ext cx="750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al sudah tersamar dengan unsur sekul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gas guru meluruskan makna Natal yang sesungguhny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Perayaan Natal Anak Bersam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gas guru menciptakan acara Natal yang kreatif  dan menarik serta berdampak bagi ana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011FFAA-2C00-43BD-8BB4-E25760EAE6C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759636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554040" y="1644480"/>
            <a:ext cx="750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teladana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lunga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korasi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sta Ulang Tahu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ku Cerita Bergamba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lm Tv dan Vide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gu-Lagu Nat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diah Nat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yudi\Documents\meeting-image2.jpg"/>
          <p:cNvPicPr/>
          <p:nvPr/>
        </p:nvPicPr>
        <p:blipFill>
          <a:blip r:embed="rId1"/>
          <a:stretch/>
        </p:blipFill>
        <p:spPr>
          <a:xfrm>
            <a:off x="933480" y="1955880"/>
            <a:ext cx="5375160" cy="435744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1682E7C-22AD-4529-AEF0-5F11A023AD7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2" descr=""/>
          <p:cNvPicPr/>
          <p:nvPr/>
        </p:nvPicPr>
        <p:blipFill>
          <a:blip r:embed="rId2"/>
          <a:stretch/>
        </p:blipFill>
        <p:spPr>
          <a:xfrm>
            <a:off x="457200" y="536400"/>
            <a:ext cx="5340240" cy="7988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554040" y="164448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siapan awal – pembentukan paniti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3A1B56F7-0125-49D2-AC4A-0F5D336216AE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340240" cy="7988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523800" y="1301760"/>
            <a:ext cx="750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Inti / Tema Nat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Hadiah yang kek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Kado untuk Yesu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Yesus Sahabatku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Jesus is my Superher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Happy Birthday Jesu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l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yudi\Documents\jesus_is_my_superhero_by_nyandrewb-d50u13s.jpg"/>
          <p:cNvPicPr/>
          <p:nvPr/>
        </p:nvPicPr>
        <p:blipFill>
          <a:blip r:embed="rId2"/>
          <a:stretch/>
        </p:blipFill>
        <p:spPr>
          <a:xfrm>
            <a:off x="5122800" y="1279440"/>
            <a:ext cx="3532320" cy="28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3E61177A-9558-471E-A50F-DE75CC3237B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340240" cy="7988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554040" y="1187280"/>
            <a:ext cx="809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Bentuk Acara Nat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onsep Celebration – Pest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angan puas dengan model selama ini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mukan kreasi baru yang membuat anak antusias dan berkesan merayakan Natal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C:\Users\yudi\Documents\anak2 lilin natal.JPG"/>
          <p:cNvPicPr/>
          <p:nvPr/>
        </p:nvPicPr>
        <p:blipFill>
          <a:blip r:embed="rId2"/>
          <a:stretch/>
        </p:blipFill>
        <p:spPr>
          <a:xfrm>
            <a:off x="1050840" y="3608280"/>
            <a:ext cx="4000680" cy="26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2E6C0A5C-299A-4CA1-9001-97884907A2BC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Tidak Mudah Mengubah Kebiasaan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066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E95F8961-C048-4543-8A73-A13874EAB7E8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340240" cy="798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506520" y="1274760"/>
            <a:ext cx="750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Perlengkapan pendukung Acar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syste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CD Proj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korasi Nat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ostu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yudi\Documents\sounds.jpg"/>
          <p:cNvPicPr/>
          <p:nvPr/>
        </p:nvPicPr>
        <p:blipFill>
          <a:blip r:embed="rId2"/>
          <a:stretch/>
        </p:blipFill>
        <p:spPr>
          <a:xfrm>
            <a:off x="6167520" y="4219560"/>
            <a:ext cx="2212920" cy="1884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yudi\Documents\jasablog-Daftar Harga LCD Projector Terbaru Oktober - November 2011-1.jpg"/>
          <p:cNvPicPr/>
          <p:nvPr/>
        </p:nvPicPr>
        <p:blipFill>
          <a:blip r:embed="rId3"/>
          <a:stretch/>
        </p:blipFill>
        <p:spPr>
          <a:xfrm>
            <a:off x="4170240" y="4892760"/>
            <a:ext cx="1862280" cy="123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Users\yudi\Documents\images (1).jpg"/>
          <p:cNvPicPr/>
          <p:nvPr/>
        </p:nvPicPr>
        <p:blipFill>
          <a:blip r:embed="rId4"/>
          <a:stretch/>
        </p:blipFill>
        <p:spPr>
          <a:xfrm>
            <a:off x="1001880" y="4254480"/>
            <a:ext cx="2552400" cy="179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yudi\Documents\Picture Palungan.jpg"/>
          <p:cNvPicPr/>
          <p:nvPr/>
        </p:nvPicPr>
        <p:blipFill>
          <a:blip r:embed="rId5"/>
          <a:stretch/>
        </p:blipFill>
        <p:spPr>
          <a:xfrm>
            <a:off x="5967360" y="2165400"/>
            <a:ext cx="2165400" cy="1625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yudi\Documents\balon_20terbanyak.jpg"/>
          <p:cNvPicPr/>
          <p:nvPr/>
        </p:nvPicPr>
        <p:blipFill>
          <a:blip r:embed="rId6"/>
          <a:stretch/>
        </p:blipFill>
        <p:spPr>
          <a:xfrm>
            <a:off x="3705120" y="3178080"/>
            <a:ext cx="2149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CAAAF2FD-CD90-4797-89BE-D3037DB52E1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340240" cy="7988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738360" y="1484280"/>
            <a:ext cx="72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Team wor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Users\yudi\Documents\team_work.jpg"/>
          <p:cNvPicPr/>
          <p:nvPr/>
        </p:nvPicPr>
        <p:blipFill>
          <a:blip r:embed="rId2"/>
          <a:srcRect l="2059" t="3203" r="2635" b="4748"/>
          <a:stretch/>
        </p:blipFill>
        <p:spPr>
          <a:xfrm>
            <a:off x="706320" y="2243160"/>
            <a:ext cx="5518440" cy="38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374100_3361859216648_1574106882_32744446_1832131269_n.jpg"/>
          <p:cNvPicPr/>
          <p:nvPr/>
        </p:nvPicPr>
        <p:blipFill>
          <a:blip r:embed="rId1"/>
          <a:stretch/>
        </p:blipFill>
        <p:spPr>
          <a:xfrm>
            <a:off x="3124080" y="4229280"/>
            <a:ext cx="3276720" cy="262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389757_3355684182276_1574106882_32740247_586814325_n.jpg"/>
          <p:cNvPicPr/>
          <p:nvPr/>
        </p:nvPicPr>
        <p:blipFill>
          <a:blip r:embed="rId2"/>
          <a:stretch/>
        </p:blipFill>
        <p:spPr>
          <a:xfrm>
            <a:off x="5689440" y="0"/>
            <a:ext cx="3454560" cy="2590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423182_3148612165605_1574106882_32648147_1932794541_n.jpg"/>
          <p:cNvPicPr/>
          <p:nvPr/>
        </p:nvPicPr>
        <p:blipFill>
          <a:blip r:embed="rId3"/>
          <a:stretch/>
        </p:blipFill>
        <p:spPr>
          <a:xfrm>
            <a:off x="0" y="4229280"/>
            <a:ext cx="3124080" cy="26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523451_3355687782366_1574106882_32740251_312294792_n.jpg"/>
          <p:cNvPicPr/>
          <p:nvPr/>
        </p:nvPicPr>
        <p:blipFill>
          <a:blip r:embed="rId4"/>
          <a:stretch/>
        </p:blipFill>
        <p:spPr>
          <a:xfrm>
            <a:off x="236232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525342_3355679222152_1574106882_32740243_985768734_n.jpg"/>
          <p:cNvPicPr/>
          <p:nvPr/>
        </p:nvPicPr>
        <p:blipFill>
          <a:blip r:embed="rId5"/>
          <a:stretch/>
        </p:blipFill>
        <p:spPr>
          <a:xfrm>
            <a:off x="0" y="0"/>
            <a:ext cx="2362320" cy="2540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399138_3361861136696_1574106882_32744448_2081534130_n.jpg"/>
          <p:cNvPicPr/>
          <p:nvPr/>
        </p:nvPicPr>
        <p:blipFill>
          <a:blip r:embed="rId6"/>
          <a:stretch/>
        </p:blipFill>
        <p:spPr>
          <a:xfrm>
            <a:off x="6400800" y="420048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7"/>
          <p:cNvSpPr/>
          <p:nvPr/>
        </p:nvSpPr>
        <p:spPr>
          <a:xfrm>
            <a:off x="320760" y="2781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LAYANAN KEPADA ANAK-ANAK JALANAN &amp; PEMULU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MPAT PEMBUANGAN SAMPAH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logo baru racil"/>
          <p:cNvPicPr/>
          <p:nvPr/>
        </p:nvPicPr>
        <p:blipFill>
          <a:blip r:embed="rId7"/>
          <a:srcRect l="12247" t="10831" r="16329" b="11199"/>
          <a:stretch/>
        </p:blipFill>
        <p:spPr>
          <a:xfrm>
            <a:off x="7696080" y="25909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B4C9F84C-70D9-4C77-A6F2-F03EB04BF220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Team Work kepiting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0067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50C2B604-7EB7-4721-852D-C4510D82A822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340240" cy="798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554040" y="164448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 Publikasi &amp; Promosi Acara Nat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Users\yudi\Documents\pesta donat.tif"/>
          <p:cNvPicPr/>
          <p:nvPr/>
        </p:nvPicPr>
        <p:blipFill>
          <a:blip r:embed="rId2"/>
          <a:stretch/>
        </p:blipFill>
        <p:spPr>
          <a:xfrm rot="660600">
            <a:off x="5033880" y="2376000"/>
            <a:ext cx="2495520" cy="3529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Users\yudi\Documents\brosur setengah.jpg"/>
          <p:cNvPicPr/>
          <p:nvPr/>
        </p:nvPicPr>
        <p:blipFill>
          <a:blip r:embed="rId3"/>
          <a:stretch/>
        </p:blipFill>
        <p:spPr>
          <a:xfrm rot="252600">
            <a:off x="2895120" y="3371760"/>
            <a:ext cx="2030400" cy="2841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Users\yudi\Documents\1 copy.jpg"/>
          <p:cNvPicPr/>
          <p:nvPr/>
        </p:nvPicPr>
        <p:blipFill>
          <a:blip r:embed="rId4"/>
          <a:stretch/>
        </p:blipFill>
        <p:spPr>
          <a:xfrm rot="21021600">
            <a:off x="1087560" y="2903400"/>
            <a:ext cx="19047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F22D862C-E3A2-4AD3-AE7A-B4F27010FCA2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340240" cy="7988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554040" y="164448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 Pelaksanaan Acar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tal Gabunga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tal Perkela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F:\RACIL ALBUM\des 11\Image2165.jpg"/>
          <p:cNvPicPr/>
          <p:nvPr/>
        </p:nvPicPr>
        <p:blipFill>
          <a:blip r:embed="rId2"/>
          <a:stretch/>
        </p:blipFill>
        <p:spPr>
          <a:xfrm>
            <a:off x="896760" y="3882960"/>
            <a:ext cx="2794320" cy="2095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F:\RACIL ALBUM\des 11\Image2140.jpg"/>
          <p:cNvPicPr/>
          <p:nvPr/>
        </p:nvPicPr>
        <p:blipFill>
          <a:blip r:embed="rId3"/>
          <a:stretch/>
        </p:blipFill>
        <p:spPr>
          <a:xfrm>
            <a:off x="3894120" y="3052800"/>
            <a:ext cx="3108240" cy="23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F8244F1C-145B-4509-93BF-D67318814FB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340240" cy="798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554040" y="164448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. Follow Up Perayaan Nat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6D3F3E6-B99D-4F46-8BFF-1B7E595813AA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新年3"/>
          <p:cNvPicPr/>
          <p:nvPr/>
        </p:nvPicPr>
        <p:blipFill>
          <a:blip r:embed="rId1"/>
          <a:stretch/>
        </p:blipFill>
        <p:spPr>
          <a:xfrm>
            <a:off x="-11160" y="-6480"/>
            <a:ext cx="9174240" cy="687888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3" descr=""/>
          <p:cNvPicPr/>
          <p:nvPr/>
        </p:nvPicPr>
        <p:blipFill>
          <a:blip r:embed="rId2"/>
          <a:stretch/>
        </p:blipFill>
        <p:spPr>
          <a:xfrm>
            <a:off x="573120" y="1311120"/>
            <a:ext cx="643716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374100_3361859216648_1574106882_32744446_1832131269_n.jpg"/>
          <p:cNvPicPr/>
          <p:nvPr/>
        </p:nvPicPr>
        <p:blipFill>
          <a:blip r:embed="rId1"/>
          <a:stretch/>
        </p:blipFill>
        <p:spPr>
          <a:xfrm>
            <a:off x="3505320" y="422928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389757_3355684182276_1574106882_32740247_586814325_n.jpg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423182_3148612165605_1574106882_32648147_1932794541_n.jpg"/>
          <p:cNvPicPr/>
          <p:nvPr/>
        </p:nvPicPr>
        <p:blipFill>
          <a:blip r:embed="rId3"/>
          <a:stretch/>
        </p:blipFill>
        <p:spPr>
          <a:xfrm>
            <a:off x="0" y="42292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523451_3355687782366_1574106882_32740251_312294792_n.jpg"/>
          <p:cNvPicPr/>
          <p:nvPr/>
        </p:nvPicPr>
        <p:blipFill>
          <a:blip r:embed="rId4"/>
          <a:stretch/>
        </p:blipFill>
        <p:spPr>
          <a:xfrm>
            <a:off x="2286000" y="0"/>
            <a:ext cx="3048120" cy="2514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525342_3355679222152_1574106882_32740243_985768734_n.jpg"/>
          <p:cNvPicPr/>
          <p:nvPr/>
        </p:nvPicPr>
        <p:blipFill>
          <a:blip r:embed="rId5"/>
          <a:stretch/>
        </p:blipFill>
        <p:spPr>
          <a:xfrm>
            <a:off x="0" y="0"/>
            <a:ext cx="227664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99138_3361861136696_1574106882_32744448_2081534130_n.jpg"/>
          <p:cNvPicPr/>
          <p:nvPr/>
        </p:nvPicPr>
        <p:blipFill>
          <a:blip r:embed="rId6"/>
          <a:stretch/>
        </p:blipFill>
        <p:spPr>
          <a:xfrm>
            <a:off x="7010280" y="419112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228600" y="28195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G-TK, BIMBEL &amp; TAMAN BAC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LANGI KECIL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MPUNG TIMU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logo baru racil"/>
          <p:cNvPicPr/>
          <p:nvPr/>
        </p:nvPicPr>
        <p:blipFill>
          <a:blip r:embed="rId7"/>
          <a:srcRect l="12247" t="10831" r="16329" b="11199"/>
          <a:stretch/>
        </p:blipFill>
        <p:spPr>
          <a:xfrm>
            <a:off x="7696080" y="25909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elayanan guru dan anak di berbagai kota &amp; d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29169_1374508934133_1574106882_30882749_1439043_n"/>
          <p:cNvPicPr/>
          <p:nvPr/>
        </p:nvPicPr>
        <p:blipFill>
          <a:blip r:embed="rId1"/>
          <a:stretch/>
        </p:blipFill>
        <p:spPr>
          <a:xfrm>
            <a:off x="4648320" y="1504800"/>
            <a:ext cx="2209680" cy="1695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4153_1098836762501_1574106882_30220568_3135611_n"/>
          <p:cNvPicPr/>
          <p:nvPr/>
        </p:nvPicPr>
        <p:blipFill>
          <a:blip r:embed="rId2"/>
          <a:stretch/>
        </p:blipFill>
        <p:spPr>
          <a:xfrm>
            <a:off x="4267080" y="3189240"/>
            <a:ext cx="2286000" cy="176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4183_1098070223338_1574106882_30218821_4220032_n"/>
          <p:cNvPicPr/>
          <p:nvPr/>
        </p:nvPicPr>
        <p:blipFill>
          <a:blip r:embed="rId3"/>
          <a:stretch/>
        </p:blipFill>
        <p:spPr>
          <a:xfrm>
            <a:off x="2389320" y="1452600"/>
            <a:ext cx="2327040" cy="1552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9535_1163497818987_1574106882_30408549_780487_n"/>
          <p:cNvPicPr/>
          <p:nvPr/>
        </p:nvPicPr>
        <p:blipFill>
          <a:blip r:embed="rId4"/>
          <a:stretch/>
        </p:blipFill>
        <p:spPr>
          <a:xfrm>
            <a:off x="6553080" y="3189240"/>
            <a:ext cx="2286000" cy="176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9535_1163497858988_1574106882_30408550_8144332_n"/>
          <p:cNvPicPr/>
          <p:nvPr/>
        </p:nvPicPr>
        <p:blipFill>
          <a:blip r:embed="rId5"/>
          <a:stretch/>
        </p:blipFill>
        <p:spPr>
          <a:xfrm>
            <a:off x="6880320" y="1490760"/>
            <a:ext cx="2209680" cy="170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9535_1164326239697_1574106882_30410370_8310812_n"/>
          <p:cNvPicPr/>
          <p:nvPr/>
        </p:nvPicPr>
        <p:blipFill>
          <a:blip r:embed="rId6"/>
          <a:srcRect l="0" t="0" r="0" b="25812"/>
          <a:stretch/>
        </p:blipFill>
        <p:spPr>
          <a:xfrm>
            <a:off x="2514600" y="3200400"/>
            <a:ext cx="1770120" cy="1752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9535_1169241482575_1574106882_30423295_621373_n"/>
          <p:cNvPicPr/>
          <p:nvPr/>
        </p:nvPicPr>
        <p:blipFill>
          <a:blip r:embed="rId7"/>
          <a:stretch/>
        </p:blipFill>
        <p:spPr>
          <a:xfrm>
            <a:off x="0" y="15048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29169_1374508894132_1574106882_30882748_3977291_n"/>
          <p:cNvPicPr/>
          <p:nvPr/>
        </p:nvPicPr>
        <p:blipFill>
          <a:blip r:embed="rId8"/>
          <a:stretch/>
        </p:blipFill>
        <p:spPr>
          <a:xfrm>
            <a:off x="0" y="3219480"/>
            <a:ext cx="2514600" cy="1714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racil gmi 4"/>
          <p:cNvPicPr/>
          <p:nvPr/>
        </p:nvPicPr>
        <p:blipFill>
          <a:blip r:embed="rId9"/>
          <a:stretch/>
        </p:blipFill>
        <p:spPr>
          <a:xfrm>
            <a:off x="4114800" y="5005440"/>
            <a:ext cx="265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S2020091"/>
          <p:cNvPicPr/>
          <p:nvPr/>
        </p:nvPicPr>
        <p:blipFill>
          <a:blip r:embed="rId10"/>
          <a:stretch/>
        </p:blipFill>
        <p:spPr>
          <a:xfrm>
            <a:off x="2124000" y="5005440"/>
            <a:ext cx="2255760" cy="169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S2020120"/>
          <p:cNvPicPr/>
          <p:nvPr/>
        </p:nvPicPr>
        <p:blipFill>
          <a:blip r:embed="rId11"/>
          <a:stretch/>
        </p:blipFill>
        <p:spPr>
          <a:xfrm>
            <a:off x="66600" y="5005440"/>
            <a:ext cx="2255760" cy="169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T4T1_FB"/>
          <p:cNvPicPr/>
          <p:nvPr/>
        </p:nvPicPr>
        <p:blipFill>
          <a:blip r:embed="rId12"/>
          <a:stretch/>
        </p:blipFill>
        <p:spPr>
          <a:xfrm>
            <a:off x="6400800" y="5005440"/>
            <a:ext cx="2743200" cy="173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logo baru racil"/>
          <p:cNvPicPr/>
          <p:nvPr/>
        </p:nvPicPr>
        <p:blipFill>
          <a:blip r:embed="rId13"/>
          <a:srcRect l="12247" t="10831" r="16329" b="11199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22160" y="617040"/>
            <a:ext cx="7772400" cy="484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WE ARE IN THE TRAIN OF 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WE ARE IN THE TRAIN OF LOV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WE ARE IN THE TRAIN OF LOV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WITH JE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WE ARE IN THE TRAIN OF 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22160" y="84564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AND I SAY CHAKA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AND I SAY CHI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WHEN I SAY CHAKA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CHAKA, CHA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CHAKA, CHIKI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…</a:t>
            </a:r>
            <a:r>
              <a:rPr b="0" lang="en-US" sz="4800" spc="-1" strike="noStrike">
                <a:solidFill>
                  <a:srgbClr val="ff0066"/>
                </a:solidFill>
                <a:latin typeface="Impact"/>
              </a:rPr>
              <a:t>JALAN SERTA YESUS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>
            <a:hlinkClick r:id="" action="ppaction://hlinkshowjump?jump=firstslide"/>
          </p:cNvPr>
          <p:cNvSpPr/>
          <p:nvPr/>
        </p:nvSpPr>
        <p:spPr>
          <a:xfrm>
            <a:off x="3808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20908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274920" y="3169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anak bersinar bangsa gemilang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096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4880" y="479520"/>
            <a:ext cx="823608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ahoma"/>
              </a:rPr>
              <a:t>PESAN TUHAN UNTUK PELAYANAN AN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0760" y="1943280"/>
            <a:ext cx="820728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 19:14  Tetapi Yesus berkata: "Biarkanlah anak-anak itu, janganlah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enghalang-halangi mereka datang kepadaK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sebab orang-orang yang seperti itulah yang empunya Kerajaan Sorga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 18:10 Ingatlah,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jangan menganggap renda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eorang dari anak-anak kecil ini. Karena Aku berkata kepadamu: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da malaikat merek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 sorga yang selalu memandang wajah BapaKu yang di sorg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7960" y="150804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PERSIAPKAN ACARA NA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NG MENARI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 MENYENTUH HATI AN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4DBF1D2E-B0DC-4410-8A70-9B710D543FC9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800280" y="5508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: Pdt. Daniel Iswahyudi, S.Th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yudi</dc:creator>
  <dc:description/>
  <dc:language>en-US</dc:language>
  <cp:lastModifiedBy>ASPIRE</cp:lastModifiedBy>
  <cp:lastPrinted>1899-12-30T00:00:00Z</cp:lastPrinted>
  <dcterms:modified xsi:type="dcterms:W3CDTF">2013-10-12T02:22:46Z</dcterms:modified>
  <cp:revision>16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77</vt:lpwstr>
  </property>
</Properties>
</file>