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%20HAVE%20A%20DREAM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C60-9984-4CD9-B7AB-0DB3A3CC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3C3-2DD0-4A03-8D56-46569379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334-407A-4B60-BAF3-6B635E29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9D9-9BE4-4331-8E36-BB0EB6AD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B92-2FF3-411A-8E3E-FF859A19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AB4-53F3-40BE-8151-59F5950C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050-C158-4C83-A287-5C0AEFFA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0F8-A7D3-4946-ADDE-CE37C03E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2B5-9980-42CF-BC6B-EF23D3A8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52C-E3E1-45DC-973C-E46A37C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470-6CDC-41C1-97BB-7D91569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2D8-D85F-4E1D-BD2F-09472281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3A77-C9F1-4E4F-8C55-FCD7C45FA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I%20HAVE%20A%20DREAM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2349360"/>
            <a:ext cx="503892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Já viu um rio passa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or cima de outro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random/>
    <p:sndAc>
      <p:stSnd>
        <p:snd r:embed="rId1" name="I%20HAVE%20A%20DREA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55640" y="333360"/>
            <a:ext cx="7343640" cy="64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Pois isto existe, em Magdeburg, Alemanh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 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O Wasserstrassenkreuz (cruzamento de hidrovias) é 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canal-ponte sobre o Rio Elba, que liga as redes de vias navegáveis das antigas Alemanhas Ocidental e Or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 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A iniciativa fez parte do projeto de reunificação Nacional, implementado após a queda do Muro de Berl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Sua principal função é facilitar o comércio entr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duas ex-naçõ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 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O Wasserstrassenkreuz é o Mais longo 'viaduto' da Europ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com 918 m de extens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Liga a porção Leste do Mittellandkanal, com o trecho oeste do Elba-Havel-Ka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A obra, aberta ao tráfego de mercadorias durante todo o ano, consiste numa ponte principal, com 228 m de extensão, subdividida em 3 trechos e um canal Com 690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 </a:t>
            </a:r>
            <a:br>
              <a:rPr sz="1800"/>
            </a:br>
            <a:r>
              <a:rPr b="1" i="1" lang="pt-BR" sz="1800" spc="-1" strike="noStrike">
                <a:solidFill>
                  <a:srgbClr val="ffffff"/>
                </a:solidFill>
                <a:latin typeface="Lucida Fax"/>
              </a:rPr>
              <a:t>A construção demorou 5 anos.</a:t>
            </a:r>
            <a:r>
              <a:rPr b="0" i="1" lang="pt-BR" sz="18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04000" cy="5586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200720" cy="5400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91480" cy="5586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13520" cy="4783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868"/>
            </a:gs>
            <a:gs pos="50000">
              <a:srgbClr val="9d9d9d"/>
            </a:gs>
            <a:gs pos="100000">
              <a:srgbClr val="6868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228000" y="4364640"/>
            <a:ext cx="23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08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09600" y="3110040"/>
            <a:ext cx="6724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Essa é a Alemanha de hoj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508720" y="5300640"/>
            <a:ext cx="2581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credite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3:04:06Z</dcterms:created>
  <dc:creator/>
  <dc:description/>
  <dc:language>en-US</dc:language>
  <cp:lastModifiedBy>Anna</cp:lastModifiedBy>
  <dcterms:modified xsi:type="dcterms:W3CDTF">2009-10-20T23:54:42Z</dcterms:modified>
  <cp:revision>2</cp:revision>
  <dc:subject/>
  <dc:title>Ponte sobre o Rio Elba - Alemanha</dc:title>
</cp:coreProperties>
</file>