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%20HAVE%20A%20DREAM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9C5-3D76-41E0-B79F-084C0A03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BF9-6255-4637-A6B2-30C9211B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890-3903-4D4E-A796-0C29F0C7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9B1-21C2-40A5-9F9A-114A150C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109-DE37-4DE1-A354-94EE049C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F15-ACA4-48EE-93B9-197E63A8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2F1-3E91-4620-9E7E-013F08A2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C4D-7532-4EF6-ADE1-3FAA3592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2C8-5031-4E35-9102-9593B313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943-DD17-4050-BF04-D9A4717E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AB8-8940-4CC2-8474-1CE7CC71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656-C326-436D-9D29-5CF4A0FA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9635-B295-4B17-8EC8-0887A8E29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I%20HAVE%20A%20DREAM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2349360"/>
            <a:ext cx="503892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Já viu um rio passa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or cima de outro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random/>
    <p:sndAc>
      <p:stSnd>
        <p:snd r:embed="rId1" name="I%20HAVE%20A%20DREA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55640" y="333360"/>
            <a:ext cx="7343640" cy="64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Pois isto existe, em Magdeburg, Alemanh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 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O Wasserstrassenkreuz (cruzamento de hidrovias) é 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canal-ponte sobre o Rio Elba, que liga as redes de vias navegáveis das antigas Alemanhas Ocidental e Or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 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A iniciativa fez parte do projeto de reunificação Nacional, implementado após a queda do Muro de Berl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Sua principal função é facilitar o comércio entr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duas ex-naçõ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 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O Wasserstrassenkreuz é o Mais longo 'viaduto' da Europ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com 918 m de extens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Liga a porção Leste do Mittellandkanal, com o trecho oeste do Elba-Havel-Ka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A obra, aberta ao tráfego de mercadorias durante todo o ano, consiste numa ponte principal, com 228 m de extensão, subdividida em 3 trechos e um canal Com 69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 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A construção demorou 5 anos.</a:t>
            </a:r>
            <a:r>
              <a:rPr b="0" i="1" lang="pt-BR" sz="18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04000" cy="5586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200720" cy="5400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91480" cy="5586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13520" cy="4783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228000" y="4364640"/>
            <a:ext cx="23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8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09600" y="3110040"/>
            <a:ext cx="6724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Essa é a Alemanha de hoj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508720" y="5300640"/>
            <a:ext cx="2581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credite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3:04:06Z</dcterms:created>
  <dc:creator/>
  <dc:description/>
  <dc:language>en-US</dc:language>
  <cp:lastModifiedBy>Anna</cp:lastModifiedBy>
  <dcterms:modified xsi:type="dcterms:W3CDTF">2009-10-20T23:54:42Z</dcterms:modified>
  <cp:revision>2</cp:revision>
  <dc:subject/>
  <dc:title>Ponte sobre o Rio Elba - Alemanha</dc:title>
</cp:coreProperties>
</file>