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526-37A5-47B0-A338-9074DFD4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9BF-E5FA-4C14-8F50-5F00C9C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CAD-850F-4A24-AB4E-7DB309BB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B7F-3A8C-47AA-9011-A26FEAEF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DF8-F97D-4EF6-A216-166143AA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7FB-F3C9-4D86-829A-44505747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25B-1135-4C41-A703-9C7FA040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C34-E357-4565-AC28-275401BA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F60-BE72-4A38-9DB4-BC775170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C44-A270-4C43-84D3-BDDD5A81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5A4-7CD6-4D5A-8246-6D12734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EC3-083C-4676-AE99-9B258AB9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D426-6FBA-4C8E-9662-ADBB054694E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3ebf1"/>
                </a:solidFill>
                <a:latin typeface="Times New Roman"/>
              </a:rPr>
              <a:t>As 11 Bolsas mais caras do</a:t>
            </a:r>
            <a:endParaRPr b="0" lang="en-US" sz="48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Mundo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457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3ª -- The Urban Satchel Louis Vuitton Bag - R$316.780,00  foram feitas somente duas dúzias. (é assim mesmo!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76092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2ª -- The Chanel Diamond Forever Classic Bag R$551.232,00 - são 334 diamantes e ouro branco. Somente 13 foram feitas no mundo intei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738680" cy="327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4572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E agora, em primeiro lug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666880"/>
            <a:ext cx="647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Hors Concours!!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57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1ª -- Bolsa Família do Governo Lula - Mais de R$4.000.000.000,00 - feita com o mais puro couro da classe média brasilei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41936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3808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11ª -- Marc Jacobs Carolyn Crocodile R$63.360,00 - é feita de couro roxo de crocodi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562040"/>
            <a:ext cx="533376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10ª -- Nancy Gonzalez Porousus - R$63.360,00 - feita de peles e couros exótic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1668600"/>
            <a:ext cx="510552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533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9ª -- Fendi Selleria - R$80.256,00 - feita de couros chinchila e zibeli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739880"/>
            <a:ext cx="5562360" cy="352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609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8ª -- Gadino Handbag de Hilde Palladino - R$81.249,00 - bolsa que traz 39 diamantes e detalhes em o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2228760"/>
            <a:ext cx="5248440" cy="3284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380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7ª -- Louis Vuitton Tribute Patchwork Bag - R$88.704,00 bolsa de edição limitada, feita de 15 partes das melhores bolsas de Louis Vuitt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46520" y="2057400"/>
            <a:ext cx="3417840" cy="413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533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6ª -- Leiber Precious Rose Handbag - R$194.304,00 - A única bolsa do mundo feita a mão com 1.016 diamantes, 1.169 safiras Rosa e 800 turmal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962520" cy="376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5335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5ª -- Lana J. Marks Cleopatra Bag - R$211.200,00 - usada por Angelina Jolie na entrega do Oscar 200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84992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4ª -- Hermès Matte Crocodile Birkin Bag - R$253.440,00 bolsa de 30 centímetros feita de couro de crocodilo e com 10 quilates de diam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810240" cy="325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0:06Z</dcterms:created>
  <dc:creator>Leo Vilela</dc:creator>
  <dc:description/>
  <dc:language>en-US</dc:language>
  <cp:lastModifiedBy>Leo Vilela</cp:lastModifiedBy>
  <dcterms:modified xsi:type="dcterms:W3CDTF">2009-11-27T17:32:06Z</dcterms:modified>
  <cp:revision>4</cp:revision>
  <dc:subject/>
  <dc:title>As 11 Bolsas mais caras do</dc:title>
</cp:coreProperties>
</file>