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Marcha%20Radetzky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23C-F1A6-407F-875B-201B1462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329-27E7-41D0-8886-D60D2F9D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F01-4269-47EC-9032-99130658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900-9361-49EF-80A0-499222F0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F35-92B8-4B88-A394-A82F3720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C25-ADC4-41BF-922E-B359718E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0BE-D4B9-4977-9F9A-B4D60FE1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F4A-9E11-4621-AE27-450C4282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FE4-2619-4193-9D1B-5EB5C2AD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16A-440D-4667-8CFA-B1771D60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6E4-E4F0-4464-9E86-0F801EC8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C77-D8C7-45EC-BBBC-377C680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E709-CD97-4EE7-845F-EF0B9A9E3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sitographics.com/enciclog/banderas/europa/image/portugal.gif&amp;imgrefurl=http://www.sitographics.com/enciclog/banderas/europa/source/37.html&amp;h=200&amp;w=300&amp;sz=4&amp;tbnid=j34G2pP2soSr1M:&amp;tbnh=77&amp;tbnw=116&amp;prev=/images%3Fq%3Dbandera%2Bportugal&amp;start=3&amp;sa=X&amp;oi=images&amp;ct=image&amp;cd=3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Marcha%20Radetzky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VANZA AUTOMÁTIC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o esp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8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5256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6021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con las teclas homologad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839880"/>
            <a:ext cx="7704000" cy="513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42920" y="6093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¿Qué quieres: campo o pelo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2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20108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08040" y="59101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sta es cojonud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942840"/>
            <a:ext cx="6553080" cy="491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92360" y="6021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¿Peligro por cru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6680" y="0"/>
            <a:ext cx="4079880" cy="5950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92360" y="6021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Pues menos ma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6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87280" y="801720"/>
            <a:ext cx="6985080" cy="509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6021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¿¿¿Para dónde vo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36800" y="765000"/>
            <a:ext cx="5197320" cy="5185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09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cato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tográfico de lo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bajadores d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rtu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4360" y="1052640"/>
            <a:ext cx="72738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u non tengo máis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labra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2240" y="3749760"/>
            <a:ext cx="8829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Y decían que "Spain Is Different" .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21000">
    <p:split dir="out" orient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mph" presetID="30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8" nodeType="afterEffect" fill="hold" presetClass="emph" presetID="14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“</a:t>
            </a:r>
            <a:r>
              <a:rPr b="1" lang="es-ES_tradnl" sz="5400" spc="-1" strike="noStrike">
                <a:solidFill>
                  <a:srgbClr val="009900"/>
                </a:solidFill>
                <a:latin typeface="Tahoma"/>
              </a:rPr>
              <a:t>Olé</a:t>
            </a: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lang="es-ES_tradnl" sz="5400" spc="-1" strike="noStrike">
                <a:solidFill>
                  <a:srgbClr val="ff0000"/>
                </a:solidFill>
                <a:latin typeface="Tahoma"/>
              </a:rPr>
              <a:t>Portugal</a:t>
            </a: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1120" y="685800"/>
            <a:ext cx="6950160" cy="15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HAGAMOS UN VIA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cc00"/>
                </a:solidFill>
                <a:latin typeface="Tahoma"/>
              </a:rPr>
              <a:t>EN EL TIEMPO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http://www.sitographics.com/enciclog/banderas/europa/source/37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013360"/>
            <a:ext cx="2376360" cy="123660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  <p:sndAc>
      <p:stSnd>
        <p:snd r:embed="rId3" name="Marcha%20Radetzky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484200">
            <a:off x="-181080" y="688680"/>
            <a:ext cx="8421840" cy="57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a demostrativa visió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erca de la idiosincrasia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l país vecino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7000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625320"/>
            <a:ext cx="7561440" cy="5659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47640" y="2781360"/>
            <a:ext cx="2592720" cy="2305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6453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00"/>
                </a:solidFill>
                <a:latin typeface="Arial"/>
              </a:rPr>
              <a:t>Ja ja ja ja ja ja ja ja ja ja ja ja ja ja ja ja ja ja ja ja ja ja ja j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10000"/>
                                  </p:stCondLst>
                                  <p:iterate type="lt">
                                    <p:tmAbs val="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893880"/>
            <a:ext cx="7705800" cy="493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7700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 rot="10800000">
            <a:off x="4570560" y="59655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¿democrát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568440"/>
            <a:ext cx="8064360" cy="530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92360" y="6237360"/>
            <a:ext cx="57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6021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¡¡¡Manda huev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585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03280" y="6021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rrio Sésamo: ¡Esto es del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569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58920" y="6021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¡Y esto es detrá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0600" y="189000"/>
            <a:ext cx="4762800" cy="576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0920" y="6021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Un cajero automátic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9:04:18Z</dcterms:created>
  <dc:creator>Consejería de Economía y Empleo</dc:creator>
  <dc:description/>
  <dc:language>en-US</dc:language>
  <cp:lastModifiedBy>Gonzalo</cp:lastModifiedBy>
  <dcterms:modified xsi:type="dcterms:W3CDTF">2007-05-31T20:01:15Z</dcterms:modified>
  <cp:revision>11</cp:revision>
  <dc:subject/>
  <dc:title>Diapositiva 1</dc:title>
</cp:coreProperties>
</file>