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Marcha%20Radetzky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475-7BC7-4020-A714-30F4F0DE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51A-6803-4AF8-8DF4-951B1995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93D-81E6-4084-AF40-144F1A89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489-FAF4-4DAE-AB96-90DC8D13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9C1-8B23-4B6C-8002-EFF6BE2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0F6-12CE-4DDF-84F2-A86A57D8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2E4-6C98-47B8-BF39-AA18E192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DD2-423E-4806-947A-5A21497E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574-6B1D-4DA0-B4C3-55FD7228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40C-818C-4C2F-BD7A-276CB88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BDA-92D5-422F-9BA5-E5BA879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4B7-EBAF-42B6-B55D-314A213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EE7D-6E9C-40DD-A69B-A69A3A55E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sitographics.com/enciclog/banderas/europa/image/portugal.gif&amp;imgrefurl=http://www.sitographics.com/enciclog/banderas/europa/source/37.html&amp;h=200&amp;w=300&amp;sz=4&amp;tbnid=j34G2pP2soSr1M:&amp;tbnh=77&amp;tbnw=116&amp;prev=/images%3Fq%3Dbandera%2Bportugal&amp;start=3&amp;sa=X&amp;oi=images&amp;ct=image&amp;cd=3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Marcha%20Radetzky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VANZA AUTOMÁTIC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o esp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8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5256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6021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con las teclas homologad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839880"/>
            <a:ext cx="7704000" cy="513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42920" y="6093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¿Qué quieres: campo o pelo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2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20108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08040" y="59101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sta es cojonud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9428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92360" y="6021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¿Peligro por cru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6680" y="0"/>
            <a:ext cx="4079880" cy="5950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92360" y="6021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Pues menos ma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6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87280" y="801720"/>
            <a:ext cx="6985080" cy="509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6021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¿¿¿Para dónde vo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36800" y="765000"/>
            <a:ext cx="5197320" cy="5185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09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cato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tográfico de lo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bajadores d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rtu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4360" y="1052640"/>
            <a:ext cx="72738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u non tengo máis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labra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2240" y="3749760"/>
            <a:ext cx="8829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Y decían que "Spain Is Different" .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21000">
    <p:split dir="out" orient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mph" presetID="30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8" nodeType="afterEffect" fill="hold" presetClass="emph" presetID="14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“</a:t>
            </a:r>
            <a:r>
              <a:rPr b="1" lang="es-ES_tradnl" sz="5400" spc="-1" strike="noStrike">
                <a:solidFill>
                  <a:srgbClr val="009900"/>
                </a:solidFill>
                <a:latin typeface="Tahoma"/>
              </a:rPr>
              <a:t>Olé</a:t>
            </a: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lang="es-ES_tradnl" sz="5400" spc="-1" strike="noStrike">
                <a:solidFill>
                  <a:srgbClr val="ff0000"/>
                </a:solidFill>
                <a:latin typeface="Tahoma"/>
              </a:rPr>
              <a:t>Portugal</a:t>
            </a: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1120" y="685800"/>
            <a:ext cx="6950160" cy="15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HAGAMOS UN VIA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EN EL TIEMPO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http://www.sitographics.com/enciclog/banderas/europa/source/37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013360"/>
            <a:ext cx="2376360" cy="123660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  <p:sndAc>
      <p:stSnd>
        <p:snd r:embed="rId3" name="Marcha%20Radetzky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484200">
            <a:off x="-181080" y="688680"/>
            <a:ext cx="8421840" cy="57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a demostrativa visió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erca de la idiosincrasia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l país vecino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7000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625320"/>
            <a:ext cx="7561440" cy="5659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47640" y="2781360"/>
            <a:ext cx="2592720" cy="2305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6453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00"/>
                </a:solidFill>
                <a:latin typeface="Arial"/>
              </a:rPr>
              <a:t>Ja ja ja ja ja ja ja ja ja ja ja ja ja ja ja ja ja ja ja ja ja ja ja j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10000"/>
                                  </p:stCondLst>
                                  <p:iterate type="lt">
                                    <p:tmAbs val="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893880"/>
            <a:ext cx="7705800" cy="493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7700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 rot="10800000">
            <a:off x="4570560" y="59655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¿democrát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568440"/>
            <a:ext cx="8064360" cy="530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92360" y="6237360"/>
            <a:ext cx="57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6021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¡¡¡Manda huev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585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03280" y="6021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rrio Sésamo: ¡Esto es del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569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58920" y="6021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¡Y esto es detrá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0600" y="189000"/>
            <a:ext cx="4762800" cy="576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0920" y="6021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Un cajero automátic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9:04:18Z</dcterms:created>
  <dc:creator>Consejería de Economía y Empleo</dc:creator>
  <dc:description/>
  <dc:language>en-US</dc:language>
  <cp:lastModifiedBy>Gonzalo</cp:lastModifiedBy>
  <dcterms:modified xsi:type="dcterms:W3CDTF">2007-05-31T20:01:15Z</dcterms:modified>
  <cp:revision>11</cp:revision>
  <dc:subject/>
  <dc:title>Diapositiva 1</dc:title>
</cp:coreProperties>
</file>