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Ave%20Maria%20do%20Pe%C3%A3o%2016.wav" ContentType="audio/x-wav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06B-8431-4EDD-BE8B-DA704269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B3F-F5F3-42F7-A629-5C641683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0ED-F526-47C4-9697-C6C1FCAE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039-1239-45D2-A1EA-E9B0427F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A82A-B9AF-4229-88B5-1BCCC26F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D71-B00F-44FC-AB2F-EAAC4C3F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2D6-9748-4EE0-8A08-DB96E3AC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66C0-6DF0-4B73-8173-31CEBEBB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2E5-48B3-4F31-B485-B0E4AF9C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016-B917-42BD-B005-0C508AF2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3545-3BDB-4DE0-B596-16CF10A7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963-AF69-4FB1-95F3-C80323FC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7294-E703-4B3A-BDD4-59EED878D86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ve%20Maria%20do%20Pe&#227;o%2016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Ave%20Maria%20do%20Pe%C3%A3o%2016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51664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ntrego-lhe minha alma afoita de alcançar lonj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 abrir cancha em busca do dest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44500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nuncio à minha xucra rebeldia e me faç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ce de boca e macio de tranco, pra diz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589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Gracias, patrão, por tudo que me des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229360"/>
            <a:ext cx="91440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r esta querência, Senh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e meus ancestrais regaram com seu sang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 que aprendi a amar desde piá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157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Pelos meus parceiros desta ronda da vida, sempre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prontidão para me amadrinharem na campereada mais custosa ou para matearem comigo na hora do sosseg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44500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parte com eles, patrão, esta fé que me des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 este orgulho pela minha querênc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61000"/>
            <a:ext cx="9144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juda, patrão, a manter acesa esta ch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5608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cede sempre ao gaúcho a força no braç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 o tino pra saber o que é corr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373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á-nos consciência para preservar a nossa cu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vre da invasão dos modis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3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serva a essência e a beleza da nossa tradiçã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0" y="333000"/>
            <a:ext cx="9144000" cy="619128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3860640"/>
            <a:ext cx="784872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Ave Maria do Peão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229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E, agora, com licença, patrã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que vou aproveitar a olada para um dedo de pro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com Nossa Senhora.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445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e Maria, primeira prenda do céu, contigo está o Senhor, na estância ma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flipV="1">
            <a:off x="0" y="0"/>
            <a:ext cx="9144000" cy="5229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45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u és bendita entre todas as prendas, e bendito é o piá que trouxeste ao mundo: Jes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flipV="1">
            <a:off x="0" y="0"/>
            <a:ext cx="9144000" cy="5229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45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Maria, mãe de Deus e mãe de todos nós, ro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pela querência e pelos gaudérios que aqui m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V="1">
            <a:off x="0" y="0"/>
            <a:ext cx="9144000" cy="5229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66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sta hora e no instante da última cavalg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 flipV="1"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292720" y="5157720"/>
            <a:ext cx="3240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Amém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flipV="1">
            <a:off x="0" y="4149360"/>
            <a:ext cx="9144000" cy="244800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noFill/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5157720"/>
            <a:ext cx="75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Imagens: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Formatação: nair@dualnet.com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flipV="1">
            <a:off x="0" y="259920"/>
            <a:ext cx="9144000" cy="619128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 rot="21247200">
            <a:off x="1979640" y="2923920"/>
            <a:ext cx="40989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Odilon Ramo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flipV="1">
            <a:off x="0" y="-720"/>
            <a:ext cx="9144000" cy="537372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300640"/>
            <a:ext cx="91440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Ao reponte do sol que descamb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o dia se aprochega do arrema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37372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los campos e nos matos da querênc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 revoar da bicharada voltando aos ninh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66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É hora de recolhi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44500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No rancho que há no interior de mim mesm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eu, gaúcho de fé, me arrincono e medi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300640"/>
            <a:ext cx="914400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spindo o poncho da vaidade e do orgulh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ro o chapéu, apago o pito e me ach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a uma prosa com o patrão ma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flipV="1">
            <a:off x="0" y="-720"/>
            <a:ext cx="9144000" cy="5256360"/>
          </a:xfrm>
          <a:custGeom>
            <a:avLst/>
            <a:gdLst/>
            <a:ahLst/>
            <a:rect l="l" t="t" r="r" b="b"/>
            <a:pathLst>
              <a:path w="5824" h="2193">
                <a:moveTo>
                  <a:pt x="4" y="79"/>
                </a:moveTo>
                <a:cubicBezTo>
                  <a:pt x="8" y="771"/>
                  <a:pt x="0" y="1464"/>
                  <a:pt x="17" y="2156"/>
                </a:cubicBezTo>
                <a:cubicBezTo>
                  <a:pt x="17" y="2169"/>
                  <a:pt x="41" y="2146"/>
                  <a:pt x="54" y="2143"/>
                </a:cubicBezTo>
                <a:cubicBezTo>
                  <a:pt x="126" y="2126"/>
                  <a:pt x="180" y="2121"/>
                  <a:pt x="242" y="2080"/>
                </a:cubicBezTo>
                <a:cubicBezTo>
                  <a:pt x="271" y="2037"/>
                  <a:pt x="293" y="2022"/>
                  <a:pt x="342" y="2005"/>
                </a:cubicBezTo>
                <a:cubicBezTo>
                  <a:pt x="350" y="2006"/>
                  <a:pt x="503" y="2016"/>
                  <a:pt x="542" y="2030"/>
                </a:cubicBezTo>
                <a:cubicBezTo>
                  <a:pt x="556" y="2035"/>
                  <a:pt x="566" y="2049"/>
                  <a:pt x="580" y="2055"/>
                </a:cubicBezTo>
                <a:cubicBezTo>
                  <a:pt x="640" y="2081"/>
                  <a:pt x="705" y="2090"/>
                  <a:pt x="768" y="2105"/>
                </a:cubicBezTo>
                <a:cubicBezTo>
                  <a:pt x="881" y="2101"/>
                  <a:pt x="995" y="2110"/>
                  <a:pt x="1106" y="2093"/>
                </a:cubicBezTo>
                <a:cubicBezTo>
                  <a:pt x="1154" y="2086"/>
                  <a:pt x="1188" y="2040"/>
                  <a:pt x="1231" y="2018"/>
                </a:cubicBezTo>
                <a:cubicBezTo>
                  <a:pt x="1276" y="2085"/>
                  <a:pt x="1234" y="2042"/>
                  <a:pt x="1344" y="2068"/>
                </a:cubicBezTo>
                <a:cubicBezTo>
                  <a:pt x="1370" y="2074"/>
                  <a:pt x="1419" y="2093"/>
                  <a:pt x="1419" y="2093"/>
                </a:cubicBezTo>
                <a:cubicBezTo>
                  <a:pt x="1503" y="2177"/>
                  <a:pt x="1453" y="2160"/>
                  <a:pt x="1569" y="2143"/>
                </a:cubicBezTo>
                <a:cubicBezTo>
                  <a:pt x="1594" y="2135"/>
                  <a:pt x="1619" y="2126"/>
                  <a:pt x="1644" y="2118"/>
                </a:cubicBezTo>
                <a:cubicBezTo>
                  <a:pt x="1793" y="2068"/>
                  <a:pt x="1540" y="2064"/>
                  <a:pt x="1694" y="2055"/>
                </a:cubicBezTo>
                <a:cubicBezTo>
                  <a:pt x="1828" y="2047"/>
                  <a:pt x="1961" y="2047"/>
                  <a:pt x="2095" y="2043"/>
                </a:cubicBezTo>
                <a:cubicBezTo>
                  <a:pt x="2120" y="2035"/>
                  <a:pt x="2145" y="2026"/>
                  <a:pt x="2170" y="2018"/>
                </a:cubicBezTo>
                <a:cubicBezTo>
                  <a:pt x="2183" y="2014"/>
                  <a:pt x="2208" y="2005"/>
                  <a:pt x="2208" y="2005"/>
                </a:cubicBezTo>
                <a:cubicBezTo>
                  <a:pt x="2279" y="1900"/>
                  <a:pt x="2224" y="1958"/>
                  <a:pt x="2483" y="1980"/>
                </a:cubicBezTo>
                <a:cubicBezTo>
                  <a:pt x="2545" y="1985"/>
                  <a:pt x="2525" y="1999"/>
                  <a:pt x="2583" y="2018"/>
                </a:cubicBezTo>
                <a:cubicBezTo>
                  <a:pt x="2616" y="2029"/>
                  <a:pt x="2651" y="2034"/>
                  <a:pt x="2684" y="2043"/>
                </a:cubicBezTo>
                <a:cubicBezTo>
                  <a:pt x="2809" y="2079"/>
                  <a:pt x="2943" y="2083"/>
                  <a:pt x="3072" y="2093"/>
                </a:cubicBezTo>
                <a:cubicBezTo>
                  <a:pt x="3118" y="2089"/>
                  <a:pt x="3165" y="2090"/>
                  <a:pt x="3210" y="2080"/>
                </a:cubicBezTo>
                <a:cubicBezTo>
                  <a:pt x="3246" y="2072"/>
                  <a:pt x="3252" y="2042"/>
                  <a:pt x="3272" y="2018"/>
                </a:cubicBezTo>
                <a:cubicBezTo>
                  <a:pt x="3303" y="1982"/>
                  <a:pt x="3310" y="1980"/>
                  <a:pt x="3347" y="1955"/>
                </a:cubicBezTo>
                <a:cubicBezTo>
                  <a:pt x="3439" y="1959"/>
                  <a:pt x="3532" y="1953"/>
                  <a:pt x="3623" y="1968"/>
                </a:cubicBezTo>
                <a:cubicBezTo>
                  <a:pt x="3663" y="1975"/>
                  <a:pt x="3648" y="2063"/>
                  <a:pt x="3673" y="2080"/>
                </a:cubicBezTo>
                <a:cubicBezTo>
                  <a:pt x="3726" y="2115"/>
                  <a:pt x="3798" y="2099"/>
                  <a:pt x="3861" y="2105"/>
                </a:cubicBezTo>
                <a:cubicBezTo>
                  <a:pt x="3979" y="2146"/>
                  <a:pt x="4119" y="2149"/>
                  <a:pt x="4224" y="2080"/>
                </a:cubicBezTo>
                <a:cubicBezTo>
                  <a:pt x="4267" y="2017"/>
                  <a:pt x="4277" y="2037"/>
                  <a:pt x="4349" y="2018"/>
                </a:cubicBezTo>
                <a:cubicBezTo>
                  <a:pt x="4374" y="2011"/>
                  <a:pt x="4424" y="1993"/>
                  <a:pt x="4424" y="1993"/>
                </a:cubicBezTo>
                <a:cubicBezTo>
                  <a:pt x="4573" y="2003"/>
                  <a:pt x="4631" y="2011"/>
                  <a:pt x="4762" y="2055"/>
                </a:cubicBezTo>
                <a:cubicBezTo>
                  <a:pt x="4803" y="2069"/>
                  <a:pt x="4875" y="2118"/>
                  <a:pt x="4875" y="2118"/>
                </a:cubicBezTo>
                <a:cubicBezTo>
                  <a:pt x="5039" y="2107"/>
                  <a:pt x="5198" y="2081"/>
                  <a:pt x="5363" y="2068"/>
                </a:cubicBezTo>
                <a:cubicBezTo>
                  <a:pt x="5486" y="2026"/>
                  <a:pt x="5303" y="2095"/>
                  <a:pt x="5438" y="2018"/>
                </a:cubicBezTo>
                <a:cubicBezTo>
                  <a:pt x="5453" y="2009"/>
                  <a:pt x="5472" y="2009"/>
                  <a:pt x="5489" y="2005"/>
                </a:cubicBezTo>
                <a:cubicBezTo>
                  <a:pt x="5581" y="2009"/>
                  <a:pt x="5674" y="2002"/>
                  <a:pt x="5764" y="2018"/>
                </a:cubicBezTo>
                <a:cubicBezTo>
                  <a:pt x="5777" y="2020"/>
                  <a:pt x="5769" y="2045"/>
                  <a:pt x="5777" y="2055"/>
                </a:cubicBezTo>
                <a:cubicBezTo>
                  <a:pt x="5786" y="2067"/>
                  <a:pt x="5810" y="2066"/>
                  <a:pt x="5814" y="2080"/>
                </a:cubicBezTo>
                <a:cubicBezTo>
                  <a:pt x="5824" y="2116"/>
                  <a:pt x="5814" y="2155"/>
                  <a:pt x="5814" y="2193"/>
                </a:cubicBezTo>
                <a:lnTo>
                  <a:pt x="5812" y="127"/>
                </a:lnTo>
                <a:cubicBezTo>
                  <a:pt x="5804" y="102"/>
                  <a:pt x="5810" y="67"/>
                  <a:pt x="5789" y="52"/>
                </a:cubicBezTo>
                <a:cubicBezTo>
                  <a:pt x="5718" y="0"/>
                  <a:pt x="5713" y="135"/>
                  <a:pt x="5689" y="152"/>
                </a:cubicBezTo>
                <a:cubicBezTo>
                  <a:pt x="5672" y="164"/>
                  <a:pt x="5647" y="161"/>
                  <a:pt x="5626" y="165"/>
                </a:cubicBezTo>
                <a:cubicBezTo>
                  <a:pt x="5542" y="143"/>
                  <a:pt x="5533" y="135"/>
                  <a:pt x="5413" y="165"/>
                </a:cubicBezTo>
                <a:cubicBezTo>
                  <a:pt x="5396" y="169"/>
                  <a:pt x="5391" y="192"/>
                  <a:pt x="5376" y="202"/>
                </a:cubicBezTo>
                <a:cubicBezTo>
                  <a:pt x="5365" y="209"/>
                  <a:pt x="5351" y="211"/>
                  <a:pt x="5338" y="215"/>
                </a:cubicBezTo>
                <a:cubicBezTo>
                  <a:pt x="5219" y="194"/>
                  <a:pt x="5163" y="186"/>
                  <a:pt x="5025" y="177"/>
                </a:cubicBezTo>
                <a:cubicBezTo>
                  <a:pt x="4969" y="158"/>
                  <a:pt x="4929" y="132"/>
                  <a:pt x="4875" y="114"/>
                </a:cubicBezTo>
                <a:cubicBezTo>
                  <a:pt x="4787" y="118"/>
                  <a:pt x="4698" y="111"/>
                  <a:pt x="4612" y="127"/>
                </a:cubicBezTo>
                <a:cubicBezTo>
                  <a:pt x="4582" y="133"/>
                  <a:pt x="4567" y="175"/>
                  <a:pt x="4537" y="177"/>
                </a:cubicBezTo>
                <a:cubicBezTo>
                  <a:pt x="4466" y="181"/>
                  <a:pt x="4395" y="186"/>
                  <a:pt x="4324" y="190"/>
                </a:cubicBezTo>
                <a:cubicBezTo>
                  <a:pt x="4231" y="212"/>
                  <a:pt x="4188" y="213"/>
                  <a:pt x="4086" y="202"/>
                </a:cubicBezTo>
                <a:cubicBezTo>
                  <a:pt x="4074" y="198"/>
                  <a:pt x="4062" y="191"/>
                  <a:pt x="4049" y="190"/>
                </a:cubicBezTo>
                <a:cubicBezTo>
                  <a:pt x="3987" y="183"/>
                  <a:pt x="3923" y="187"/>
                  <a:pt x="3861" y="177"/>
                </a:cubicBezTo>
                <a:cubicBezTo>
                  <a:pt x="3846" y="174"/>
                  <a:pt x="3837" y="158"/>
                  <a:pt x="3823" y="152"/>
                </a:cubicBezTo>
                <a:cubicBezTo>
                  <a:pt x="3770" y="128"/>
                  <a:pt x="3684" y="122"/>
                  <a:pt x="3635" y="89"/>
                </a:cubicBezTo>
                <a:cubicBezTo>
                  <a:pt x="3584" y="54"/>
                  <a:pt x="3612" y="67"/>
                  <a:pt x="3548" y="52"/>
                </a:cubicBezTo>
                <a:cubicBezTo>
                  <a:pt x="3502" y="56"/>
                  <a:pt x="3454" y="50"/>
                  <a:pt x="3410" y="64"/>
                </a:cubicBezTo>
                <a:cubicBezTo>
                  <a:pt x="3264" y="109"/>
                  <a:pt x="3510" y="100"/>
                  <a:pt x="3347" y="127"/>
                </a:cubicBezTo>
                <a:cubicBezTo>
                  <a:pt x="3278" y="139"/>
                  <a:pt x="2851" y="152"/>
                  <a:pt x="2846" y="152"/>
                </a:cubicBezTo>
                <a:cubicBezTo>
                  <a:pt x="2771" y="203"/>
                  <a:pt x="2763" y="185"/>
                  <a:pt x="2659" y="177"/>
                </a:cubicBezTo>
                <a:cubicBezTo>
                  <a:pt x="2588" y="172"/>
                  <a:pt x="2517" y="169"/>
                  <a:pt x="2446" y="165"/>
                </a:cubicBezTo>
                <a:cubicBezTo>
                  <a:pt x="2371" y="116"/>
                  <a:pt x="2362" y="128"/>
                  <a:pt x="2258" y="140"/>
                </a:cubicBezTo>
                <a:cubicBezTo>
                  <a:pt x="2147" y="167"/>
                  <a:pt x="2041" y="193"/>
                  <a:pt x="1932" y="227"/>
                </a:cubicBezTo>
                <a:cubicBezTo>
                  <a:pt x="1886" y="223"/>
                  <a:pt x="1840" y="224"/>
                  <a:pt x="1795" y="215"/>
                </a:cubicBezTo>
                <a:cubicBezTo>
                  <a:pt x="1780" y="212"/>
                  <a:pt x="1772" y="192"/>
                  <a:pt x="1757" y="190"/>
                </a:cubicBezTo>
                <a:cubicBezTo>
                  <a:pt x="1645" y="179"/>
                  <a:pt x="1532" y="181"/>
                  <a:pt x="1419" y="177"/>
                </a:cubicBezTo>
                <a:cubicBezTo>
                  <a:pt x="1363" y="159"/>
                  <a:pt x="1312" y="133"/>
                  <a:pt x="1256" y="114"/>
                </a:cubicBezTo>
                <a:cubicBezTo>
                  <a:pt x="1185" y="89"/>
                  <a:pt x="1106" y="106"/>
                  <a:pt x="1031" y="102"/>
                </a:cubicBezTo>
                <a:cubicBezTo>
                  <a:pt x="987" y="73"/>
                  <a:pt x="943" y="68"/>
                  <a:pt x="893" y="52"/>
                </a:cubicBezTo>
                <a:cubicBezTo>
                  <a:pt x="777" y="63"/>
                  <a:pt x="665" y="89"/>
                  <a:pt x="555" y="127"/>
                </a:cubicBezTo>
                <a:cubicBezTo>
                  <a:pt x="374" y="80"/>
                  <a:pt x="194" y="69"/>
                  <a:pt x="4" y="79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37372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 sua presença,  meu sangue quente de farra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 faz manso caud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22:10:16Z</dcterms:created>
  <dc:creator>Texto/Interpretação: Odilon Ramos</dc:creator>
  <dc:description>Formatação: nair@dualnet.com.br. Imagens: Internet</dc:description>
  <dc:language>en-US</dc:language>
  <cp:lastModifiedBy>Nair</cp:lastModifiedBy>
  <dcterms:modified xsi:type="dcterms:W3CDTF">2006-09-20T19:17:34Z</dcterms:modified>
  <cp:revision>26</cp:revision>
  <dc:subject/>
  <dc:title>Ave Maria do Peão</dc:title>
</cp:coreProperties>
</file>