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Ave%20Maria%20do%20Pe%C3%A3o%2016.wav" ContentType="audio/x-wav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89B6-91DB-4C0B-ACF0-83CAD7C7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4EB8-580B-49C9-9431-6693F9AC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EACF-34E4-471F-B3F3-58763532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8D2D-C180-46E0-A356-BC203DE5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1FC-8A7B-4966-9372-4CE47571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5C09-7ABB-4A5D-B495-F8C610DE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B5B-B3B2-4682-87B7-F4AB45B1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A89E-1113-4E94-8EA6-A79DE0DD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3DED-B4F2-4B8E-8248-D183DDE3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B66-28E6-4EFA-93B2-796C4794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D80-32B7-45BC-95CC-987A7CBC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70B-838C-40A1-B1EE-6D0133BB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09BC-83F6-41D1-B654-63370D0E87F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ve%20Maria%20do%20Pe&#227;o%2016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Ave%20Maria%20do%20Pe%C3%A3o%2016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51664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ntrego-lhe minha alma afoita de alcançar lonj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 abrir cancha em busca do dest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44500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nuncio à minha xucra rebeldia e me faç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ce de boca e macio de tranco, pra diz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589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Gracias, patrão, por tudo que me des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229360"/>
            <a:ext cx="91440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r esta querência, Senh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e meus ancestrais regaram com seu sang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 que aprendi a amar desde piá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157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Pelos meus parceiros desta ronda da vida, sempre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prontidão para me amadrinharem na campereada mais custosa ou para matearem comigo na hora do sosseg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44500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parte com eles, patrão, esta fé que me des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 este orgulho pela minha querênc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61000"/>
            <a:ext cx="9144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juda, patrão, a manter acesa esta ch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5608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cede sempre ao gaúcho a força no braç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 o tino pra saber o que é corr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373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á-nos consciência para preservar a nossa cu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vre da invasão dos modis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3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serva a essência e a beleza da nossa tradiçã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0" y="333000"/>
            <a:ext cx="9144000" cy="619128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3860640"/>
            <a:ext cx="784872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Ave Maria do Peão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229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E, agora, com licença, patrã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que vou aproveitar a olada para um dedo de pro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com Nossa Senhora.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445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e Maria, primeira prenda do céu, contigo está o Senhor, na estância ma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flipV="1">
            <a:off x="0" y="0"/>
            <a:ext cx="9144000" cy="5229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45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u és bendita entre todas as prendas, e bendito é o piá que trouxeste ao mundo: Jes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flipV="1">
            <a:off x="0" y="0"/>
            <a:ext cx="9144000" cy="5229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45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Maria, mãe de Deus e mãe de todos nós, ro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pela querência e pelos gaudérios que aqui m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V="1">
            <a:off x="0" y="0"/>
            <a:ext cx="9144000" cy="5229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66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sta hora e no instante da última cavalg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 flipV="1"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292720" y="5157720"/>
            <a:ext cx="3240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Amém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flipV="1">
            <a:off x="0" y="4149360"/>
            <a:ext cx="9144000" cy="244800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noFill/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5157720"/>
            <a:ext cx="75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Imagens: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Formatação: nair@dualnet.com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flipV="1">
            <a:off x="0" y="259920"/>
            <a:ext cx="9144000" cy="619128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 rot="21247200">
            <a:off x="1979640" y="2923920"/>
            <a:ext cx="40989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Odilon Ramo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flipV="1">
            <a:off x="0" y="-720"/>
            <a:ext cx="9144000" cy="537372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300640"/>
            <a:ext cx="91440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Ao reponte do sol que descamb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o dia se aprochega do arrema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37372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los campos e nos matos da querênc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 revoar da bicharada voltando aos ninh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66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É hora de recolhi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44500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No rancho que há no interior de mim mesm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eu, gaúcho de fé, me arrincono e medi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300640"/>
            <a:ext cx="914400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spindo o poncho da vaidade e do orgulh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ro o chapéu, apago o pito e me ach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a uma prosa com o patrão ma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37372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 sua presença,  meu sangue quente de farra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 faz manso caud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22:10:16Z</dcterms:created>
  <dc:creator>Texto/Interpretação: Odilon Ramos</dc:creator>
  <dc:description>Formatação: nair@dualnet.com.br. Imagens: Internet</dc:description>
  <dc:language>en-US</dc:language>
  <cp:lastModifiedBy>Nair</cp:lastModifiedBy>
  <dcterms:modified xsi:type="dcterms:W3CDTF">2006-09-20T19:17:34Z</dcterms:modified>
  <cp:revision>26</cp:revision>
  <dc:subject/>
  <dc:title>Ave Maria do Peão</dc:title>
</cp:coreProperties>
</file>