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DB8-FEE4-4475-B09F-3F1DC2C0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36A-1C41-43E4-8B4F-251D7B57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8D6-02C8-4F1E-97B1-6F8C7170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DFA-4AD9-474F-B351-0E9AB37B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D3F-FB2F-4110-8B99-3EFF1587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3BD-7A20-4339-8B39-268E4D86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848-1C67-4D7C-BFB6-D461C784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446-7E4F-44C3-BEA7-400BBD48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3C8-3E9A-4A81-B3C5-23AC3D66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57D-5B7C-473A-B60C-D3D769EF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B17-B5FD-492E-B094-136AB3AA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A02-40BC-42D0-8A01-CAF9B8FE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D20E-711A-4E8F-9899-833C9E428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10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Diz a lenda que dois amigos caminhavam no deser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0020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Mas quando alguém faz algo de bom por nós, devemos gravar isso em pedra para que nenhum vento o faça desaparecer 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60020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52388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APRENDE A ESCREVER AS TUAS FERIDAS NA AREIA E A GRAVAR EM PEDRA AS TU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VENTURAS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Dizem que leva um minuto a encontrar uma pessoa especial, uma hora para apreciá-la, um dia para amá-la, mas uma vida inteira para a esquec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nvia isto às pessoas que nunca esqueces e lembra-te de a devolver à pessoa que te  envi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81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Se não a envias a ninguém, significa que  te esqueceste dos teus amig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0000"/>
                </a:solidFill>
                <a:latin typeface="Verdana"/>
              </a:rPr>
              <a:t>APROVEITA O TEMPO PARA V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144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STE DIA FUI HONRADO COM A AMIZADE DE MUITA GENTE MARAVILHO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NTRE ELAS T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CONSIDERA IS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GRAVADO EM PEDR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04812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600" spc="-1" strike="noStrike">
                <a:solidFill>
                  <a:srgbClr val="a603ab"/>
                </a:solidFill>
                <a:latin typeface="Verdana"/>
              </a:rPr>
              <a:t>Muita felicidade para t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447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A certa altura da viagem começaram a discutir e um dos amigos deu uma bofetada ao outr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3716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Angustiado,mas sem nada dizer, escreveu na AREIA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O MEU MELHOR AMIGO DEU-ME HOJE UMA BOFET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90512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Seguiram,caminhando até que chegaram a um oásis, onde decidiram tomar banh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44792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O amigo que havia sido esbofeteado, começou a afogar-se, mas o seu amigo salvou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952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Depois de se recuperar, escreveu  numa pedr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O MEU MELHOR AMIGO HOJE SALVOU A MINH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133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O amigo que havia esbofeteado e salvo o seu melhor amigo pergunto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47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Quando estavas angustiado escreveste na areia e  agora,escreveste numa pedra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¿Porquê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O outro amigo respondeu-lhe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Quando alguém nos faz mal devemos escrever isso na areia para que os ventos do perdão façam desaparecer a fr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8:51:54Z</dcterms:created>
  <dc:creator>IRIS MARITZA MONTES</dc:creator>
  <dc:description/>
  <dc:language>en-US</dc:language>
  <cp:lastModifiedBy>Drª M. Céu Proença</cp:lastModifiedBy>
  <dcterms:modified xsi:type="dcterms:W3CDTF">2006-09-23T15:53:33Z</dcterms:modified>
  <cp:revision>9</cp:revision>
  <dc:subject>PARA MIS AMIGOS CON CARIÑO</dc:subject>
  <dc:title>GRABADO EN PIEDRA</dc:title>
</cp:coreProperties>
</file>