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F65-F0A6-4035-9F05-3C9693F9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476-C553-4ED1-A80B-919E0AA4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940-12A4-4156-9EB8-E9AFFC1F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36D-D31B-427D-AA6A-A2FAB42E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39C-17A9-4075-B3C4-7939BCC5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0DF-D763-4097-B8EC-B54C6A7E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C80-9A97-4677-9CD4-8E154750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F16-D75F-452F-A927-5FB6F259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9C8-9FC1-429B-A08D-B552E145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200-BC35-4E3E-9E92-6E7EEB2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F77-0BA9-4D39-969A-4C56C29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ACC-3E00-4A2C-BB77-5D2F2C3B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2C51-EEB0-4FCD-A9F8-0397FA62F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10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Diz a lenda que dois amigos caminhavam no deser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0020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Mas quando alguém faz algo de bom por nós, devemos gravar isso em pedra para que nenhum vento o faça desaparecer 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60020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52388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APRENDE A ESCREVER AS TUAS FERIDAS NA AREIA E A GRAVAR EM PEDRA AS TU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VENTURAS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Dizem que leva um minuto a encontrar uma pessoa especial, uma hora para apreciá-la, um dia para amá-la, mas uma vida inteira para a esquec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nvia isto às pessoas que nunca esqueces e lembra-te de a devolver à pessoa que te  envi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81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Se não a envias a ninguém, significa que  te esqueceste dos teus amig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0000"/>
                </a:solidFill>
                <a:latin typeface="Verdana"/>
              </a:rPr>
              <a:t>APROVEITA O TEMPO PARA V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144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STE DIA FUI HONRADO COM A AMIZADE DE MUITA GENTE MARAVILHO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ENTRE ELAS T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CONSIDERA IS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GRAVADO EM PEDR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04812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600" spc="-1" strike="noStrike">
                <a:solidFill>
                  <a:srgbClr val="a603ab"/>
                </a:solidFill>
                <a:latin typeface="Verdana"/>
              </a:rPr>
              <a:t>Muita felicidade para t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447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A certa altura da viagem começaram a discutir e um dos amigos deu uma bofetada ao outr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3716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Angustiado,mas sem nada dizer, escreveu na AREIA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O MEU MELHOR AMIGO DEU-ME HOJE UMA BOFET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90512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Seguiram,caminhando até que chegaram a um oásis, onde decidiram tomar banh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44792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Verdana"/>
              </a:rPr>
              <a:t>O amigo que havia sido esbofeteado, começou a afogar-se, mas o seu amigo salvou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952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Depois de se recuperar, escreveu  numa pedr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O MEU MELHOR AMIGO HOJE SALVOU A MINHA VI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133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O amigo que havia esbofeteado e salvo o seu melhor amigo pergunto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47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Quando estavas angustiado escreveste na areia e  agora,escreveste numa pedra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¿Porquê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9144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Verdana"/>
              </a:rPr>
              <a:t>O outro amigo respondeu-lhe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ff"/>
                </a:solidFill>
                <a:latin typeface="Verdana"/>
              </a:rPr>
              <a:t>Quando alguém nos faz mal devemos escrever isso na areia para que os ventos do perdão façam desaparecer a fr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8:51:54Z</dcterms:created>
  <dc:creator>IRIS MARITZA MONTES</dc:creator>
  <dc:description/>
  <dc:language>en-US</dc:language>
  <cp:lastModifiedBy>Drª M. Céu Proença</cp:lastModifiedBy>
  <dcterms:modified xsi:type="dcterms:W3CDTF">2006-09-23T15:53:33Z</dcterms:modified>
  <cp:revision>9</cp:revision>
  <dc:subject>PARA MIS AMIGOS CON CARIÑO</dc:subject>
  <dc:title>GRABADO EN PIEDRA</dc:title>
</cp:coreProperties>
</file>