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_song_for_peac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A8E-1C4F-4DF8-B7F9-02C0CDF1F2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6593-DF04-471C-AC60-0EBD4491CF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9C8-2FFC-4D86-AACF-B43DEA159F0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3E1-BCEA-4C91-BB34-3991B83D9C0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A6A-6DFE-439C-BA84-C305B3DBAA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CAE1-A5E8-4522-AF6C-26178BDE84E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0D6-6E06-4BB3-9EB3-6D999055A6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C24-565F-40A9-A776-45317B8643F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2BA9-5EDA-4404-A4D3-7C244FB8676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AD6-42F7-40C8-B87E-7F636D95415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0243-9099-454C-B54D-D859216F585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0AFD-58FF-475F-9274-5077D68A74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2BD-6DEB-4984-9A43-84C272E2C9C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1DB-4DB2-470D-8521-F0124AD76A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7AA-9D45-4F5F-917A-D87202E5FA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9415-B152-4605-957F-7E8A26E7FE6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7482-3D61-4C25-AA9B-044659466B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1534-9C2B-438B-9545-DF29A53C6D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91A7-2BA9-40A2-9073-7345AB740E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865F-22D7-4F09-8CCD-ACC42B4634E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A5D-31D8-4598-A604-76A9F022E7E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C9E-F608-4FF0-B904-27ECE2FF51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01B-B604-4EAB-AB7C-254217EEE5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8EBF-3610-489D-893F-3070DFD1091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13B-4ABE-4F9B-B934-9ED6D445163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9BA-E82C-4F06-8800-EC7058E1CD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7261-21B2-47DA-976C-F1CB05CD151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EBB8-210A-4FBB-98B8-3AE8692865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2187-E528-4CC8-8F01-26C097D236A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7CA-023B-4C80-8CC6-F6BA73254F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453-6449-492B-BCC7-958A532A3A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35DA-8C79-40A6-9537-74DA406683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8E34-8784-49B7-9DD2-EBE944F8F6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DD33-546F-4297-BC55-028F815D97D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4AF-A35A-461B-AA39-274385AE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9D5-D1EF-45D6-950C-7B0A2AE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543-DA89-4554-ACC4-12355547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155-0524-40F2-849A-7D7306DA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F29-B00B-4700-B0CC-89989713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DEC-EEF8-4FD5-89D8-42EFCDD4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09F-3CA2-42D6-872F-CECCE7D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037-EAB3-4CCB-B679-048A302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D18-03F3-4CF1-82C0-315B2463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24-988F-492D-B30C-A5182042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03F-4EC8-4A26-BAE0-496724A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D773-2CCE-48FE-ACBE-422A301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D098-FB6A-48C9-8A52-C5F35922D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_song_for_peac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tângulo 4"/>
          <p:cNvSpPr/>
          <p:nvPr/>
        </p:nvSpPr>
        <p:spPr>
          <a:xfrm>
            <a:off x="285840" y="507204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 LUA  QUE   NÃO   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ângulo 5"/>
          <p:cNvSpPr/>
          <p:nvPr/>
        </p:nvSpPr>
        <p:spPr>
          <a:xfrm>
            <a:off x="8026560" y="62150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wav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4"/>
          <p:cNvSpPr/>
          <p:nvPr/>
        </p:nvSpPr>
        <p:spPr>
          <a:xfrm>
            <a:off x="324000" y="2421000"/>
            <a:ext cx="67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om ela  junto  ao  peito,                                                 sentia-me o mais  feliz  homem  do  mundo,            andando, cantarolando  cantigas de ninar  em  plena  calç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5"/>
          <p:cNvSpPr/>
          <p:nvPr/>
        </p:nvSpPr>
        <p:spPr>
          <a:xfrm>
            <a:off x="250920" y="48690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  é a plenitude  da  felicidade um  homem  jovem                                 poder  carregar  um filho como  se acariciando  as  próprias  entran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4"/>
          <p:cNvSpPr/>
          <p:nvPr/>
        </p:nvSpPr>
        <p:spPr>
          <a:xfrm>
            <a:off x="250920" y="306864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inha  filha  era  eu,  e  eu  era  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ângulo 5"/>
          <p:cNvSpPr/>
          <p:nvPr/>
        </p:nvSpPr>
        <p:spPr>
          <a:xfrm>
            <a:off x="250920" y="4076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Um  pai  é,  sim,  um  pequeno  Deus,  o  cri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8"/>
          <p:cNvSpPr/>
          <p:nvPr/>
        </p:nvSpPr>
        <p:spPr>
          <a:xfrm>
            <a:off x="250920" y="501336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seu  filho,  a  criatura  bem  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4"/>
          <p:cNvSpPr/>
          <p:nvPr/>
        </p:nvSpPr>
        <p:spPr>
          <a:xfrm>
            <a:off x="324000" y="27813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foi,  então,                                                                               que  conheci  a  impotência  e os  limites 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ângulo 5"/>
          <p:cNvSpPr/>
          <p:nvPr/>
        </p:nvSpPr>
        <p:spPr>
          <a:xfrm>
            <a:off x="250920" y="458136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  a  filhinha  a  quem  eu  prometera  o  mundo                                       ergueu  os bracinhos  para  o  alto e começou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quase  gritar,  assanhada,  deslumbrada: 'Dá, dá, dá..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4"/>
          <p:cNvSpPr/>
          <p:nvPr/>
        </p:nvSpPr>
        <p:spPr>
          <a:xfrm>
            <a:off x="250920" y="2997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la descobrira  a Lua e a queria para  si,                 como  ursinho  de  pelúcia,                                                  uma  luminosa  bola  de brinc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ângulo 5"/>
          <p:cNvSpPr/>
          <p:nvPr/>
        </p:nvSpPr>
        <p:spPr>
          <a:xfrm>
            <a:off x="179280" y="45813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iante  da magia  do  céu enfeitado  de  estrelas  e de  luar, minha  filha  me pediu a Lu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eu  não  lhe  pude  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ângulo 4"/>
          <p:cNvSpPr/>
          <p:nvPr/>
        </p:nvSpPr>
        <p:spPr>
          <a:xfrm>
            <a:off x="250920" y="328464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certeza de meus  limites  permitiu,  porém, criar  um  pacto  entre  pai  e  filh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ângulo 5"/>
          <p:cNvSpPr/>
          <p:nvPr/>
        </p:nvSpPr>
        <p:spPr>
          <a:xfrm>
            <a:off x="250920" y="436572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  eles  quisessem  o  impossível,  fossem  em  busca  d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285840" y="282888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u lhes  dera  a  vida,  asas  de  voar,                          diretrizes,  crença  no amor  e,  portanto,                    estímulo  aos  grandes  son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5"/>
          <p:cNvSpPr/>
          <p:nvPr/>
        </p:nvSpPr>
        <p:spPr>
          <a:xfrm>
            <a:off x="250920" y="472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o  sonho  da  primogênita  começou  a  acontecer,                                num  simbolismo  que,  ainda  hoje, me  amolece  o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324000" y="278136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ois,  ainda  adolescente,                                                         lá se  foi  ela  embora,                                                        querendo  estudar  no 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ângulo 5"/>
          <p:cNvSpPr/>
          <p:nvPr/>
        </p:nvSpPr>
        <p:spPr>
          <a:xfrm>
            <a:off x="324000" y="429264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Vi-a  embarcar,                                                                                                        a alma  sangrando-me  de saudade,                                                                     a  voz  profética  de Kalil Gibran  em  sussurros  de  conso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4"/>
          <p:cNvSpPr/>
          <p:nvPr/>
        </p:nvSpPr>
        <p:spPr>
          <a:xfrm>
            <a:off x="324000" y="22766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Vossos  filhos  não  são  vossos  filhos,                                                              mas  são  os  filhos  e as  filhas  da  âns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 vida por si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ângulo 5"/>
          <p:cNvSpPr/>
          <p:nvPr/>
        </p:nvSpPr>
        <p:spPr>
          <a:xfrm>
            <a:off x="250920" y="3860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les  vêm através  de vós,  mas  não  de  v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ângulo 8"/>
          <p:cNvSpPr/>
          <p:nvPr/>
        </p:nvSpPr>
        <p:spPr>
          <a:xfrm>
            <a:off x="250920" y="472428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embora  vivam  convosco,  não  vos  pert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9"/>
          <p:cNvSpPr/>
          <p:nvPr/>
        </p:nvSpPr>
        <p:spPr>
          <a:xfrm>
            <a:off x="250920" y="54450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Vós  sois  os  arcos  dos  quais vossos  filho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ão  arremessados  como  flechas  viva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ângulo 4"/>
          <p:cNvSpPr/>
          <p:nvPr/>
        </p:nvSpPr>
        <p:spPr>
          <a:xfrm>
            <a:off x="250920" y="30686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Foi  o  que  vivi,                                                                                                 quando  o  avião  decolou,  minha  criança  a  bo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5"/>
          <p:cNvSpPr/>
          <p:nvPr/>
        </p:nvSpPr>
        <p:spPr>
          <a:xfrm>
            <a:off x="324000" y="40766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o  céu,  havia  uma  Lua  enorme,  im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8"/>
          <p:cNvSpPr/>
          <p:nvPr/>
        </p:nvSpPr>
        <p:spPr>
          <a:xfrm>
            <a:off x="250920" y="486900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certeza  da  separação  foi  dilac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9"/>
          <p:cNvSpPr/>
          <p:nvPr/>
        </p:nvSpPr>
        <p:spPr>
          <a:xfrm>
            <a:off x="179280" y="55897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Minha  filha  fôra  buscar  a Lua  que  eu  não  lhe  der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eu precisava conviver com a coerência                     do que  transmitira  aos  filh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ângulo 5"/>
          <p:cNvSpPr/>
          <p:nvPr/>
        </p:nvSpPr>
        <p:spPr>
          <a:xfrm>
            <a:off x="250920" y="43657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'O lar  não  é o lugar  de  se  ficar,  mas  para  onde  voltar.'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4"/>
          <p:cNvSpPr/>
          <p:nvPr/>
        </p:nvSpPr>
        <p:spPr>
          <a:xfrm>
            <a:off x="285840" y="300024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ompreendo  pais ,                                                                     e  me  encanto com  eles ,                                                                    que  desejariam  dar  o  mundo  de  presente  aos  fil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4"/>
          <p:cNvSpPr/>
          <p:nvPr/>
        </p:nvSpPr>
        <p:spPr>
          <a:xfrm>
            <a:off x="285840" y="364320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Que  os  filhos sejam  preparados  para  irem-se,                                            com a certeza de ter  para  onde voltar  quando  o  cansaço, a derrota ou  o desânimo inevitáveis  lhes  machucarem  a  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4"/>
          <p:cNvSpPr/>
          <p:nvPr/>
        </p:nvSpPr>
        <p:spPr>
          <a:xfrm>
            <a:off x="285840" y="213660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Ao  ver  o  avião,                                                                                                como  num  filme  de  Spielberg,                                                                  sombrear  a  Lua,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levando-me  a  filha  querida,                                                                             o salgado  das  lágrimas  se  transformou  em  doçura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de conforto  com  Kalil Gibran:                                                                  como  pai, não  dando  o  mundo  nem  Lua  aos  filhos,                              me senti  arqueiro  e arco,                                                                  arremessando  a  flecha  viva  em  direção  ao  misté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4"/>
          <p:cNvSpPr/>
          <p:nvPr/>
        </p:nvSpPr>
        <p:spPr>
          <a:xfrm>
            <a:off x="285840" y="296712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Ora, mesmo  sendo  avós,                                                        temos,  sim  e  ainda,  filhos  a  criar,                                      pois  família  é  uma  tribo  em  construção  perman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4"/>
          <p:cNvSpPr/>
          <p:nvPr/>
        </p:nvSpPr>
        <p:spPr>
          <a:xfrm>
            <a:off x="324000" y="33577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ais  envelhecem,  filhos  crescem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ão-nos  netos  e  isso é  a  construção,                                                       o  centro  do  mundo  onde  a obra  da  criação  se  renova sem  nunca  completar-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4"/>
          <p:cNvSpPr/>
          <p:nvPr/>
        </p:nvSpPr>
        <p:spPr>
          <a:xfrm>
            <a:off x="250920" y="292428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e guerreiros  que  foram,                                                    pais  se  tornam  paj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5"/>
          <p:cNvSpPr/>
          <p:nvPr/>
        </p:nvSpPr>
        <p:spPr>
          <a:xfrm>
            <a:off x="285840" y="41432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E  mães,  curandeiras  de  alma  e  de 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4"/>
          <p:cNvSpPr/>
          <p:nvPr/>
        </p:nvSpPr>
        <p:spPr>
          <a:xfrm>
            <a:off x="250920" y="27813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É quando a tribo se fortalece com conselheiros, sábios que conhecem os mistérios da grande arquitetura familiar,                                         com régua, esquadro, compasso e fio de pr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5"/>
          <p:cNvSpPr/>
          <p:nvPr/>
        </p:nvSpPr>
        <p:spPr>
          <a:xfrm>
            <a:off x="324000" y="51577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com palmatória moral para ensinar o óbvio:                                              se o dever premia, o erro c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ângulo 4"/>
          <p:cNvSpPr/>
          <p:nvPr/>
        </p:nvSpPr>
        <p:spPr>
          <a:xfrm>
            <a:off x="250920" y="3357720"/>
            <a:ext cx="65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screvo,  pois,  de angústias,                                             acho  que  angústias  de  pajé,  de  índio  ve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4"/>
          <p:cNvSpPr/>
          <p:nvPr/>
        </p:nvSpPr>
        <p:spPr>
          <a:xfrm>
            <a:off x="285840" y="2967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  nossa  construção  está  ruindo,                                  pois  feita  em  areia  movediç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5"/>
          <p:cNvSpPr/>
          <p:nvPr/>
        </p:nvSpPr>
        <p:spPr>
          <a:xfrm>
            <a:off x="250920" y="422100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É minúsculo o mundo que  pais querem dar  aos  filhos:                                  o  dos  shopp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4"/>
          <p:cNvSpPr/>
          <p:nvPr/>
        </p:nvSpPr>
        <p:spPr>
          <a:xfrm>
            <a:off x="395280" y="4005360"/>
            <a:ext cx="702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há  mais  crianças e  adolescentes  desejando a Lua  como  brinquedo  ou  como  conquist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ângulo 4"/>
          <p:cNvSpPr/>
          <p:nvPr/>
        </p:nvSpPr>
        <p:spPr>
          <a:xfrm>
            <a:off x="250920" y="328464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m sonhos,                                                                                                         os  tetos  são  baixos  e o  infinito  pode  ser  comprado  em  l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ângulo 8"/>
          <p:cNvSpPr/>
          <p:nvPr/>
        </p:nvSpPr>
        <p:spPr>
          <a:xfrm>
            <a:off x="324000" y="50133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em sonhos,                                                                                                        não  há  necessidade de  arqueiros  arremessando  flechas 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4"/>
          <p:cNvSpPr/>
          <p:nvPr/>
        </p:nvSpPr>
        <p:spPr>
          <a:xfrm>
            <a:off x="285840" y="285768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, no  entanto,  abomino  os  que,                                                       a cada  fim  de  semana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ão  tudo  o  que  os  filhos  lhes  pedem  nos  shoppings onde  exercitam  arremedos  de  patern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5"/>
          <p:cNvSpPr/>
          <p:nvPr/>
        </p:nvSpPr>
        <p:spPr>
          <a:xfrm>
            <a:off x="285840" y="50007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 não  há  paradoxo  n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ângulo 4"/>
          <p:cNvSpPr/>
          <p:nvPr/>
        </p:nvSpPr>
        <p:spPr>
          <a:xfrm>
            <a:off x="250920" y="357336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a construção  familiar,  temos  erguido  pare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tângulo 5"/>
          <p:cNvSpPr/>
          <p:nvPr/>
        </p:nvSpPr>
        <p:spPr>
          <a:xfrm>
            <a:off x="250920" y="45813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as,  dentro  delas,  haverá  gente  de  ver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ublicada  em  01/08/2008                                        no  'Correio Popular' - Campinas -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tângulo 5"/>
          <p:cNvSpPr/>
          <p:nvPr/>
        </p:nvSpPr>
        <p:spPr>
          <a:xfrm>
            <a:off x="285840" y="42148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Cecílio  Elias  N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(escritor  e  jorna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tângulo 4"/>
          <p:cNvSpPr/>
          <p:nvPr/>
        </p:nvSpPr>
        <p:spPr>
          <a:xfrm>
            <a:off x="285840" y="4214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"A vida é o  filme que você  vê  através  dos  seus  próprios  olhos. Faz  pouca diferença  o que  está  acontecendo. É como  você  percebe  que  conta."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(Denis  Waitle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ixaDeTexto 4"/>
          <p:cNvSpPr/>
          <p:nvPr/>
        </p:nvSpPr>
        <p:spPr>
          <a:xfrm>
            <a:off x="285840" y="58579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apyrus"/>
              </a:rPr>
              <a:t>gilmargss@yahoo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5"/>
          <p:cNvSpPr/>
          <p:nvPr/>
        </p:nvSpPr>
        <p:spPr>
          <a:xfrm>
            <a:off x="2627280" y="47973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Música:  Song  for  Peace. Kita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6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285840" y="292896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r o mundo                                                                          é sentir-se um  pouco  como  Deus,                            que é essa  a  condição  de  um  p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285840" y="450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ar  futilidades                                                                      como  barganha  de  amor   é, penso  eu,                            renunciar  ao  sa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4"/>
          <p:cNvSpPr/>
          <p:nvPr/>
        </p:nvSpPr>
        <p:spPr>
          <a:xfrm>
            <a:off x="285840" y="296712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Papyrus"/>
              </a:rPr>
              <a:t>Volto  a  narrar,                                                                        por  me  parecer  apropriado  à  croniqueta,                            o que me aconteceu  ao  ser  pai  pela  primeira 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5"/>
          <p:cNvSpPr/>
          <p:nvPr/>
        </p:nvSpPr>
        <p:spPr>
          <a:xfrm>
            <a:off x="285840" y="46432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á  se  vão,  pois,  45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ângulo 4"/>
          <p:cNvSpPr/>
          <p:nvPr/>
        </p:nvSpPr>
        <p:spPr>
          <a:xfrm>
            <a:off x="285840" y="269064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eslumbrado  de  paixão,                                                                                   eu  olhava  a  menina  no  berço,                                                                            via-a  sugando  os  seios  da  mãe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sperneando  na  banheira,                                                                          dormindo  como  anjo  de  car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4"/>
          <p:cNvSpPr/>
          <p:nvPr/>
        </p:nvSpPr>
        <p:spPr>
          <a:xfrm>
            <a:off x="285840" y="296712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,  então, eu  me  prometia,  prometendo-lhe: 'Dar-lhe-ei  o  mundo,  meu  amor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5"/>
          <p:cNvSpPr/>
          <p:nvPr/>
        </p:nvSpPr>
        <p:spPr>
          <a:xfrm>
            <a:off x="250920" y="41497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 lhe  d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ângulo 8"/>
          <p:cNvSpPr/>
          <p:nvPr/>
        </p:nvSpPr>
        <p:spPr>
          <a:xfrm>
            <a:off x="250920" y="486900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foi  o  que me  salvou  do  egoísmo,                                              da  tola  pretensão  e  da  estupidez                                                de  confundir  valores  materiais  com  morais  e  espiri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4"/>
          <p:cNvSpPr/>
          <p:nvPr/>
        </p:nvSpPr>
        <p:spPr>
          <a:xfrm>
            <a:off x="285840" y="3105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ão  dei  o  mundo  à minha  filha,                                        mas  ela  quis  a L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5"/>
          <p:cNvSpPr/>
          <p:nvPr/>
        </p:nvSpPr>
        <p:spPr>
          <a:xfrm>
            <a:off x="250920" y="4365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 não  me  esqueço  de  como  ela  pediu  a Lua,                                  há  anos  já  tão  dist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43280" y="214200"/>
            <a:ext cx="4158000" cy="3786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38160">
            <a:solidFill>
              <a:srgbClr val="c4dbe6"/>
            </a:solidFill>
            <a:miter/>
          </a:ln>
          <a:effectLst>
            <a:outerShdw dist="107932" dir="18900000" blurRad="0" rotWithShape="0">
              <a:srgbClr val="4c90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4"/>
          <p:cNvSpPr/>
          <p:nvPr/>
        </p:nvSpPr>
        <p:spPr>
          <a:xfrm>
            <a:off x="285840" y="269064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Eu  a  carregava  nos  braço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pequenina  e  apenas  balbuciante,                                  andando  na  calçada  de  nosso  quarteirão,                               em tempos  mais  amenos,                                                           quando  as  pessoas  conversavam  às  portas  das  ca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23:28:20Z</dcterms:created>
  <dc:creator>Gilmar Schardosim</dc:creator>
  <dc:description/>
  <dc:language>en-US</dc:language>
  <cp:lastModifiedBy>user</cp:lastModifiedBy>
  <dcterms:modified xsi:type="dcterms:W3CDTF">2010-03-04T18:52:07Z</dcterms:modified>
  <cp:revision>113</cp:revision>
  <dc:subject/>
  <dc:title>Slide 1</dc:title>
</cp:coreProperties>
</file>