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_song_for_peac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C77-AFFD-4770-A127-B43CE1C9522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B77-2771-4D8D-A5B9-D900C4AEBC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B353-6AD7-4184-988A-D75D63DC9E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2F3-E60C-4BB7-B461-9DC0D4B1CB7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C18-9A75-42A4-8201-372CC13A9A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EECF-F60C-4AF3-8EA1-D776A6CFE4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F2A-5287-4751-8709-E0E4408B200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170-97DD-4926-9157-21ECC8A683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092-5B96-44EA-82B4-62F088D451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6C3-C03F-4376-9317-6AD3781AE5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06C-EC80-4F4B-8938-EA81AC11B5D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E736-9EB3-45A5-A93F-3C4B49C4D8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14F0-C40A-43BC-BCD3-1021D0B7C0C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200-417E-408D-9AB3-95161DB62F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07A5-C16E-4341-9071-55EE59604A1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3026-00FA-46FC-9CFA-CDD7DB9358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507-D1A1-4044-BC8F-83CC3E46A65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81C-9082-4AF9-B083-B47FAF7DA7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6D5-B19C-4A3C-9F96-446D23930C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23B-5244-496F-8763-7B09A489F1F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2AD9-81FE-4244-ADD0-BBB71D95FBA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767-2B7C-4809-80B3-F137E9492F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50C-42E8-4AAA-A0A0-F5BD4689DEB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CF26-EDEC-4CF0-B305-66B050EE53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3AF-783E-40FB-93B3-ACEE278EE1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E746-0717-42AF-B387-7E0397452B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8674-C4E5-4180-8261-C1F48E5656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0110-C994-4901-BE71-2703BAC56F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0D39-159C-41D9-8D1A-EF07DD1EC7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22A-5D21-4DE5-ADB7-C207901D9A6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0F0-726A-4164-8897-3F36AD264C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22C8-098C-4C52-9D4E-E0011F4DDF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C80-611B-496C-859D-FB2D555A77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04C7-767B-465D-8702-6B8022FB438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2F0-55A3-427F-910B-AF35DB7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AF2-4E1B-4DA0-829C-C9E2031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C4B-7761-4DC4-8F6C-647715D0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FEC-F953-4F8C-9A53-82C90642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94B-D602-4932-B43E-DD4E84F0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006-C44C-4DF5-AEE8-36E260D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EC3-2B6A-47C5-A309-260751D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AD2-3D5E-42E8-B4D3-1B5EA307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A4B-A0D1-41FB-9F5B-3043B27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2BA-8D3C-44D4-BFD3-5F2FC12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ED9-52B9-4946-9311-9F26688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345-BA1F-418E-A8E2-A8229D6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101-55F5-49A0-962C-8F53B9CCC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_song_for_peac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ângulo 4"/>
          <p:cNvSpPr/>
          <p:nvPr/>
        </p:nvSpPr>
        <p:spPr>
          <a:xfrm>
            <a:off x="285840" y="507204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 LUA  QUE   NÃO   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ângulo 5"/>
          <p:cNvSpPr/>
          <p:nvPr/>
        </p:nvSpPr>
        <p:spPr>
          <a:xfrm>
            <a:off x="8026560" y="62150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wav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4"/>
          <p:cNvSpPr/>
          <p:nvPr/>
        </p:nvSpPr>
        <p:spPr>
          <a:xfrm>
            <a:off x="324000" y="2421000"/>
            <a:ext cx="67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om ela  junto  ao  peito,                                                 sentia-me o mais  feliz  homem  do  mundo,            andando, cantarolando  cantigas de ninar  em  plena  calç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5"/>
          <p:cNvSpPr/>
          <p:nvPr/>
        </p:nvSpPr>
        <p:spPr>
          <a:xfrm>
            <a:off x="250920" y="48690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  é a plenitude  da  felicidade um  homem  jovem                                 poder  carregar  um filho como  se acariciando  as  próprias  entran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4"/>
          <p:cNvSpPr/>
          <p:nvPr/>
        </p:nvSpPr>
        <p:spPr>
          <a:xfrm>
            <a:off x="250920" y="306864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inha  filha  era  eu,  e  eu  era  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5"/>
          <p:cNvSpPr/>
          <p:nvPr/>
        </p:nvSpPr>
        <p:spPr>
          <a:xfrm>
            <a:off x="250920" y="4076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Um  pai  é,  sim,  um  pequeno  Deus,  o  cri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8"/>
          <p:cNvSpPr/>
          <p:nvPr/>
        </p:nvSpPr>
        <p:spPr>
          <a:xfrm>
            <a:off x="250920" y="501336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seu  filho,  a  criatura  bem  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4"/>
          <p:cNvSpPr/>
          <p:nvPr/>
        </p:nvSpPr>
        <p:spPr>
          <a:xfrm>
            <a:off x="324000" y="27813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foi,  então,                                                                               que  conheci  a  impotência  e os  limites 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ângulo 5"/>
          <p:cNvSpPr/>
          <p:nvPr/>
        </p:nvSpPr>
        <p:spPr>
          <a:xfrm>
            <a:off x="250920" y="458136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  a  filhinha  a  quem  eu  prometera  o  mundo                                       ergueu  os bracinhos  para  o  alto e começou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quase  gritar,  assanhada,  deslumbrada: 'Dá, dá, dá..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4"/>
          <p:cNvSpPr/>
          <p:nvPr/>
        </p:nvSpPr>
        <p:spPr>
          <a:xfrm>
            <a:off x="250920" y="2997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la descobrira  a Lua e a queria para  si,                 como  ursinho  de  pelúcia,                                                  uma  luminosa  bola  de brin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5"/>
          <p:cNvSpPr/>
          <p:nvPr/>
        </p:nvSpPr>
        <p:spPr>
          <a:xfrm>
            <a:off x="179280" y="45813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iante  da magia  do  céu enfeitado  de  estrelas  e de  luar, minha  filha  me pediu a Lu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eu  não  lhe  pude  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4"/>
          <p:cNvSpPr/>
          <p:nvPr/>
        </p:nvSpPr>
        <p:spPr>
          <a:xfrm>
            <a:off x="250920" y="328464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certeza de meus  limites  permitiu,  porém, criar  um  pacto  entre  pai  e  filh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5"/>
          <p:cNvSpPr/>
          <p:nvPr/>
        </p:nvSpPr>
        <p:spPr>
          <a:xfrm>
            <a:off x="250920" y="436572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  eles  quisessem  o  impossível,  fossem  em  busca 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285840" y="282888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u lhes  dera  a  vida,  asas  de  voar,                          diretrizes,  crença  no amor  e,  portanto,                    estímulo  aos  grandes  son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5"/>
          <p:cNvSpPr/>
          <p:nvPr/>
        </p:nvSpPr>
        <p:spPr>
          <a:xfrm>
            <a:off x="250920" y="472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o  sonho  da  primogênita  começou  a  acontecer,                                num  simbolismo  que,  ainda  hoje, me  amolece 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324000" y="2781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,  ainda  adolescente,                                                         lá se  foi  ela  embora,                                                        querendo  estudar  no 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5"/>
          <p:cNvSpPr/>
          <p:nvPr/>
        </p:nvSpPr>
        <p:spPr>
          <a:xfrm>
            <a:off x="324000" y="429264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Vi-a  embarcar,                                                                                                        a alma  sangrando-me  de saudade,                                                                     a  voz  profética  de Kalil Gibran  em  sussurros  de  cons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4"/>
          <p:cNvSpPr/>
          <p:nvPr/>
        </p:nvSpPr>
        <p:spPr>
          <a:xfrm>
            <a:off x="324000" y="22766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Vossos  filhos  não  são  vossos  filhos,                                                              mas  são  os  filhos  e as  filhas  da  âns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 vida por si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ângulo 5"/>
          <p:cNvSpPr/>
          <p:nvPr/>
        </p:nvSpPr>
        <p:spPr>
          <a:xfrm>
            <a:off x="250920" y="3860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les  vêm através  de vós,  mas  não  de  v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ângulo 8"/>
          <p:cNvSpPr/>
          <p:nvPr/>
        </p:nvSpPr>
        <p:spPr>
          <a:xfrm>
            <a:off x="250920" y="472428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embora  vivam  convosco,  não  vos  pert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9"/>
          <p:cNvSpPr/>
          <p:nvPr/>
        </p:nvSpPr>
        <p:spPr>
          <a:xfrm>
            <a:off x="250920" y="54450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Vós  sois  os  arcos  dos  quais vossos  filh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ão  arremessados  como  flechas  viva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ângulo 4"/>
          <p:cNvSpPr/>
          <p:nvPr/>
        </p:nvSpPr>
        <p:spPr>
          <a:xfrm>
            <a:off x="250920" y="30686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Foi  o  que  vivi,                                                                                                 quando  o  avião  decolou,  minha  criança  a  bo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5"/>
          <p:cNvSpPr/>
          <p:nvPr/>
        </p:nvSpPr>
        <p:spPr>
          <a:xfrm>
            <a:off x="324000" y="4076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o  céu,  havia  uma  Lua  enorme,  im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250920" y="486900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certeza  da  separação  foi  dilac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9"/>
          <p:cNvSpPr/>
          <p:nvPr/>
        </p:nvSpPr>
        <p:spPr>
          <a:xfrm>
            <a:off x="179280" y="55897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Minha  filha  fôra  buscar  a Lua  que  eu  não  lhe  der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eu precisava conviver com a coerência                     do que  transmitira  aos  filh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ângulo 5"/>
          <p:cNvSpPr/>
          <p:nvPr/>
        </p:nvSpPr>
        <p:spPr>
          <a:xfrm>
            <a:off x="250920" y="43657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'O lar  não  é o lugar  de  se  ficar,  mas  para  onde  voltar.'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4"/>
          <p:cNvSpPr/>
          <p:nvPr/>
        </p:nvSpPr>
        <p:spPr>
          <a:xfrm>
            <a:off x="285840" y="300024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ompreendo  pais ,                                                                     e  me  encanto com  eles ,                                                                    que  desejariam  dar  o  mundo  de  presente  aos  fil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4"/>
          <p:cNvSpPr/>
          <p:nvPr/>
        </p:nvSpPr>
        <p:spPr>
          <a:xfrm>
            <a:off x="285840" y="3643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Que  os  filhos sejam  preparados  para  irem-se,                                            com a certeza de ter  para  onde voltar  quando  o  cansaço, a derrota ou  o desânimo inevitáveis  lhes  machucarem  a  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4"/>
          <p:cNvSpPr/>
          <p:nvPr/>
        </p:nvSpPr>
        <p:spPr>
          <a:xfrm>
            <a:off x="285840" y="213660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Ao  ver  o  avião,                                                                                                como  num  filme  de  Spielberg,                                                                  sombrear  a  Lua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levando-me  a  filha  querida,                                                                             o salgado  das  lágrimas  se  transformou  em  doçur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de conforto  com  Kalil Gibran:                                                                  como  pai, não  dando  o  mundo  nem  Lua  aos  filhos,                              me senti  arqueiro  e arco,                                                                  arremessando  a  flecha  viva  em  direção  ao  misté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4"/>
          <p:cNvSpPr/>
          <p:nvPr/>
        </p:nvSpPr>
        <p:spPr>
          <a:xfrm>
            <a:off x="285840" y="296712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Ora, mesmo  sendo  avós,                                                        temos,  sim  e  ainda,  filhos  a  criar,                                      pois  família  é  uma  tribo  em  construção  perman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24000" y="33577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ais  envelhecem,  filhos  crescem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ão-nos  netos  e  isso é  a  construção,                                                       o  centro  do  mundo  onde  a obra  da  criação  se  renova sem  nunca  complet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4"/>
          <p:cNvSpPr/>
          <p:nvPr/>
        </p:nvSpPr>
        <p:spPr>
          <a:xfrm>
            <a:off x="250920" y="292428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e guerreiros  que  foram,                                                    pais  se  tornam  paj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5"/>
          <p:cNvSpPr/>
          <p:nvPr/>
        </p:nvSpPr>
        <p:spPr>
          <a:xfrm>
            <a:off x="285840" y="41432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E  mães,  curandeiras  de  alma  e  de 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4"/>
          <p:cNvSpPr/>
          <p:nvPr/>
        </p:nvSpPr>
        <p:spPr>
          <a:xfrm>
            <a:off x="250920" y="27813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É quando a tribo se fortalece com conselheiros, sábios que conhecem os mistérios da grande arquitetura familiar,                                         com régua, esquadro, compasso e fio de pr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5"/>
          <p:cNvSpPr/>
          <p:nvPr/>
        </p:nvSpPr>
        <p:spPr>
          <a:xfrm>
            <a:off x="324000" y="5157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com palmatória moral para ensinar o óbvio:                                              se o dever premia, o erro c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ângulo 4"/>
          <p:cNvSpPr/>
          <p:nvPr/>
        </p:nvSpPr>
        <p:spPr>
          <a:xfrm>
            <a:off x="250920" y="3357720"/>
            <a:ext cx="65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screvo,  pois,  de angústias,                                             acho  que  angústias  de  pajé,  de  índio  v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4"/>
          <p:cNvSpPr/>
          <p:nvPr/>
        </p:nvSpPr>
        <p:spPr>
          <a:xfrm>
            <a:off x="285840" y="2967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nossa  construção  está  ruindo,                                  pois  feita  em  areia  movediç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5"/>
          <p:cNvSpPr/>
          <p:nvPr/>
        </p:nvSpPr>
        <p:spPr>
          <a:xfrm>
            <a:off x="250920" y="42210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É minúsculo o mundo que  pais querem dar  aos  filhos:                                  o  dos  shopp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4"/>
          <p:cNvSpPr/>
          <p:nvPr/>
        </p:nvSpPr>
        <p:spPr>
          <a:xfrm>
            <a:off x="395280" y="4005360"/>
            <a:ext cx="702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há  mais  crianças e  adolescentes  desejando a Lua  como  brinquedo  ou  como  conquist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ângulo 4"/>
          <p:cNvSpPr/>
          <p:nvPr/>
        </p:nvSpPr>
        <p:spPr>
          <a:xfrm>
            <a:off x="250920" y="32846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m sonhos,                                                                                                         os  tetos  são  baixos  e o  infinito  pode  ser  comprado  em  l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8"/>
          <p:cNvSpPr/>
          <p:nvPr/>
        </p:nvSpPr>
        <p:spPr>
          <a:xfrm>
            <a:off x="324000" y="50133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m sonhos,                                                                                                        não  há  necessidade de  arqueiros  arremessando  flechas 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4"/>
          <p:cNvSpPr/>
          <p:nvPr/>
        </p:nvSpPr>
        <p:spPr>
          <a:xfrm>
            <a:off x="285840" y="285768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, no  entanto,  abomino  os  que,                                                       a cada  fim  de  semana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ão  tudo  o  que  os  filhos  lhes  pedem  nos  shoppings onde  exercitam  arremedos  de  patern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5"/>
          <p:cNvSpPr/>
          <p:nvPr/>
        </p:nvSpPr>
        <p:spPr>
          <a:xfrm>
            <a:off x="285840" y="50007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não  há  paradoxo  n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ângulo 4"/>
          <p:cNvSpPr/>
          <p:nvPr/>
        </p:nvSpPr>
        <p:spPr>
          <a:xfrm>
            <a:off x="250920" y="357336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a construção  familiar,  temos  erguido  pare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tângulo 5"/>
          <p:cNvSpPr/>
          <p:nvPr/>
        </p:nvSpPr>
        <p:spPr>
          <a:xfrm>
            <a:off x="250920" y="45813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as,  dentro  delas,  haverá  gente  de  ver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ublicada  em  01/08/2008                                        no  'Correio Popular' - Campinas -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tângulo 5"/>
          <p:cNvSpPr/>
          <p:nvPr/>
        </p:nvSpPr>
        <p:spPr>
          <a:xfrm>
            <a:off x="285840" y="42148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Cecílio  Elias  N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(escritor  e  jorna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"/>
          <p:cNvSpPr/>
          <p:nvPr/>
        </p:nvSpPr>
        <p:spPr>
          <a:xfrm>
            <a:off x="285840" y="4214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"A vida é o  filme que você  vê  através  dos  seus  próprios  olhos. Faz  pouca diferença  o que  está  acontecendo. É como  você  percebe  que  conta."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(Denis  Waitle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ixaDeTexto 4"/>
          <p:cNvSpPr/>
          <p:nvPr/>
        </p:nvSpPr>
        <p:spPr>
          <a:xfrm>
            <a:off x="285840" y="58579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apyrus"/>
              </a:rPr>
              <a:t>gilmargss@yahoo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5"/>
          <p:cNvSpPr/>
          <p:nvPr/>
        </p:nvSpPr>
        <p:spPr>
          <a:xfrm>
            <a:off x="2627280" y="47973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Música:  Song  for  Peace. Kita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6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285840" y="292896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r o mundo                                                                          é sentir-se um  pouco  como  Deus,                            que é essa  a  condição  de  um  p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285840" y="450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r  futilidades                                                                      como  barganha  de  amor   é, penso  eu,                            renunciar  ao  sa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4"/>
          <p:cNvSpPr/>
          <p:nvPr/>
        </p:nvSpPr>
        <p:spPr>
          <a:xfrm>
            <a:off x="285840" y="296712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Volto  a  narrar,                                                                        por  me  parecer  apropriado  à  croniqueta,                            o que me aconteceu  ao  ser  pai  pela  primeira 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5"/>
          <p:cNvSpPr/>
          <p:nvPr/>
        </p:nvSpPr>
        <p:spPr>
          <a:xfrm>
            <a:off x="285840" y="46432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á  se  vão,  pois,  4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ângulo 4"/>
          <p:cNvSpPr/>
          <p:nvPr/>
        </p:nvSpPr>
        <p:spPr>
          <a:xfrm>
            <a:off x="285840" y="269064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eslumbrado  de  paixão,                                                                                   eu  olhava  a  menina  no  berço,                                                                            via-a  sugando  os  seios  da  mãe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sperneando  na  banheira,                                                                          dormindo  como  anjo  de  car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4"/>
          <p:cNvSpPr/>
          <p:nvPr/>
        </p:nvSpPr>
        <p:spPr>
          <a:xfrm>
            <a:off x="285840" y="2967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,  então, eu  me  prometia,  prometendo-lhe: 'Dar-lhe-ei  o  mundo,  meu  amor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5"/>
          <p:cNvSpPr/>
          <p:nvPr/>
        </p:nvSpPr>
        <p:spPr>
          <a:xfrm>
            <a:off x="250920" y="41497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 lhe  d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ângulo 8"/>
          <p:cNvSpPr/>
          <p:nvPr/>
        </p:nvSpPr>
        <p:spPr>
          <a:xfrm>
            <a:off x="250920" y="486900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foi  o  que me  salvou  do  egoísmo,                                              da  tola  pretensão  e  da  estupidez                                                de  confundir  valores  materiais  com  morais  e  espiri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ão  dei  o  mundo  à minha  filha,                                        mas  ela  quis  a L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5"/>
          <p:cNvSpPr/>
          <p:nvPr/>
        </p:nvSpPr>
        <p:spPr>
          <a:xfrm>
            <a:off x="250920" y="4365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 me  esqueço  de  como  ela  pediu  a Lua,                                  há  anos  já  tão  dis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4"/>
          <p:cNvSpPr/>
          <p:nvPr/>
        </p:nvSpPr>
        <p:spPr>
          <a:xfrm>
            <a:off x="285840" y="269064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u  a  carregava  nos  braço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equenina  e  apenas  balbuciante,                                  andando  na  calçada  de  nosso  quarteirão,                               em tempos  mais  amenos,                                                           quando  as  pessoas  conversavam  às  portas  das  c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23:28:20Z</dcterms:created>
  <dc:creator>Gilmar Schardosim</dc:creator>
  <dc:description/>
  <dc:language>en-US</dc:language>
  <cp:lastModifiedBy>user</cp:lastModifiedBy>
  <dcterms:modified xsi:type="dcterms:W3CDTF">2010-03-04T18:52:07Z</dcterms:modified>
  <cp:revision>113</cp:revision>
  <dc:subject/>
  <dc:title>Slide 1</dc:title>
</cp:coreProperties>
</file>