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1F03-D643-475E-AD26-24D7C4BA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548F-C303-40A8-ABEB-4DF6E552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A826-A600-42F3-8821-68A64477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9502-2196-4860-8A0A-C6B1E0C7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C525-EA39-4CA9-8468-2042C107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938B-E032-48D6-BA30-F4EC6760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5817-E181-457F-BF6A-41DF6AFF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585E-61E6-4F7F-AC3D-22CC9595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18BA-7B28-492F-AD94-F9AA305A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4EC8-DA1F-4B5F-9BCB-B196D144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CA92-C373-4DDE-9DD1-169CF49A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31AF-370D-40CB-81FB-F869E275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F89A-93D8-4292-9EC8-431F737B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23A7-8271-48AE-B2E8-70CD48AB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9944-1ED6-4757-976A-A53E8609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2FE0-6E96-4CB3-859E-4B006AF5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B4CF-71B5-46D5-8BCD-80E14814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4DC-4018-4321-978C-77A8BEE1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63D2-A2B9-47CB-9E13-9043CFA3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BB9-79BF-47CD-8E24-EACD6107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13A1-B945-48B7-8612-4CC8757D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0895-6D6C-45D5-B1A6-C37DE88B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F82B-5A19-49D6-83A6-77AA8AC5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E4E-5909-491D-8816-AA907498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F6FF-BE48-4E0A-9610-122EFABD9E6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8F85-8809-4B07-A94A-22CE6BCD352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alary Increment Surve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s year your Company has decided to give the increment as per your wish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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lease answer the following ques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7162920" y="1143000"/>
            <a:ext cx="17524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162920" y="838080"/>
            <a:ext cx="1828800" cy="762120"/>
          </a:xfrm>
          <a:prstGeom prst="wedgeRoundRectCallout">
            <a:avLst>
              <a:gd name="adj1" fmla="val -119967"/>
              <a:gd name="adj2" fmla="val 2308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y Incremen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lect the Tenure with this company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1 Yea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2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3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>
            <a:hlinkClick r:id="rId4" action="ppaction://hlinksldjump"/>
          </p:cNvPr>
          <p:cNvSpPr/>
          <p:nvPr/>
        </p:nvSpPr>
        <p:spPr>
          <a:xfrm>
            <a:off x="4648320" y="4191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5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>
            <a:hlinkClick r:id="rId5" action="ppaction://hlinksldjump"/>
          </p:cNvPr>
          <p:cNvSpPr/>
          <p:nvPr/>
        </p:nvSpPr>
        <p:spPr>
          <a:xfrm>
            <a:off x="4648320" y="48769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>
            <a:hlinkClick r:id="rId6" action="ppaction://hlinksldjump"/>
          </p:cNvPr>
          <p:cNvSpPr/>
          <p:nvPr/>
        </p:nvSpPr>
        <p:spPr>
          <a:xfrm>
            <a:off x="4648320" y="5562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Greater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rital Statu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ingl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rie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 you have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 of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ore than 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">
            <a:hlinkClick r:id="rId1" action="ppaction://hlinksldjump"/>
          </p:cNvPr>
          <p:cNvSpPr/>
          <p:nvPr/>
        </p:nvSpPr>
        <p:spPr>
          <a:xfrm>
            <a:off x="76212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87692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>
            <a:hlinkClick r:id="rId1" action="ppaction://hlinksldjump"/>
          </p:cNvPr>
          <p:cNvSpPr/>
          <p:nvPr/>
        </p:nvSpPr>
        <p:spPr>
          <a:xfrm>
            <a:off x="60948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 am glad to know that you are happy with your current salary. We will have your increment done next year (with the same survey)……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2666880" y="5334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bmit the Surve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9:01:45Z</dcterms:created>
  <dc:creator>Stephen</dc:creator>
  <dc:description/>
  <dc:language>en-US</dc:language>
  <cp:lastModifiedBy>Stephen</cp:lastModifiedBy>
  <dcterms:modified xsi:type="dcterms:W3CDTF">2008-02-18T19:46:28Z</dcterms:modified>
  <cp:revision>2</cp:revision>
  <dc:subject/>
  <dc:title>Salary Increment</dc:title>
</cp:coreProperties>
</file>