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E72-1439-4BAC-8A1B-1955A326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3F1-D4A5-4027-A2D7-1B130EFB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91B1-2749-4015-B056-F336EC68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AD3-56A1-441C-86ED-C6744C65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70A1-5C2E-456C-BAAA-67CC51F8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FCD5-2A88-477D-AE91-212571AB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D468-051F-4A3E-8D3A-171B18D4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1B92-9DD7-4FF8-9073-94F6C04A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9145-A6D1-4CE1-8E14-F6E42CD7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1FEE-0191-4768-9E5B-183990B8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69B3-091B-4074-8A70-303AEAAB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AA4-84E2-4A1F-A5E7-7BEB756D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1EB7-1001-432E-B2ED-28C54533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47B6-1E3B-4403-BEAD-AA44A47A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B786-0028-4FA6-A482-49CD978D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8FB6-FEA0-4537-86B9-A8F74902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608F-B84B-4595-A9AE-34C64F36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1BF-53A2-44BC-87E6-EA77E32B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60E-9D27-418C-BBEC-F15BF581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1D4-521F-49BA-940F-F3131EE5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58C-C8A0-4128-9205-A03AA630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CE2-DBB7-4B66-8AF5-4A7A56AE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868-EAB5-461D-BFB3-CA3258DE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354-99B5-4CE6-B890-B40B9C3E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101F-A0DD-4A49-9668-72FE52E09AF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4241-3D35-4306-90DD-08F974569EA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lary Increment Surv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year your Company has decided to give the increment as per your wish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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lease answer the following ques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162920" y="1143000"/>
            <a:ext cx="17524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838080"/>
            <a:ext cx="1828800" cy="762120"/>
          </a:xfrm>
          <a:prstGeom prst="wedgeRoundRectCallout">
            <a:avLst>
              <a:gd name="adj1" fmla="val -119967"/>
              <a:gd name="adj2" fmla="val 23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y Incre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ct the Tenure with this company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1 Ye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2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3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4648320" y="4191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5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>
            <a:hlinkClick r:id="rId5" action="ppaction://hlinksldjump"/>
          </p:cNvPr>
          <p:cNvSpPr/>
          <p:nvPr/>
        </p:nvSpPr>
        <p:spPr>
          <a:xfrm>
            <a:off x="4648320" y="48769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4648320" y="5562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reater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rital Stat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rie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you have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 of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re than 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76212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87692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60948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 am glad to know that you are happy with your current salary. We will have your increment done next year (with the same survey)…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5334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mit the Surve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9:01:45Z</dcterms:created>
  <dc:creator>Stephen</dc:creator>
  <dc:description/>
  <dc:language>en-US</dc:language>
  <cp:lastModifiedBy>Stephen</cp:lastModifiedBy>
  <dcterms:modified xsi:type="dcterms:W3CDTF">2008-02-18T19:46:28Z</dcterms:modified>
  <cp:revision>2</cp:revision>
  <dc:subject/>
  <dc:title>Salary Increment</dc:title>
</cp:coreProperties>
</file>