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F4AA-7053-459F-8986-D591B1EB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4682-5879-44BD-B3E7-8E308A06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765E-1010-4911-AD59-F786ABB4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6CE9-EDF9-4248-A8C3-EBDDD9AB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60DE-C2B7-4710-B93F-11ACF424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7238-36C5-4B4C-A8AA-B0E8AAEA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D838-AA73-46EF-97D0-B870FA34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11E7-2D33-4634-9ED5-F4E017F4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DF33-F8B7-44B7-8002-43866478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316D-856B-4F03-8BF6-CD3D1014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D8D2-3B12-4EDE-BBDB-2D5B495A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2536-3EC3-4FAF-8998-BDA6B21C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B2B3-5C89-45AF-8A42-5DFF0C77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6C4B-1874-4987-90D1-3D381A0C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5B65-9D46-43EC-BA6C-B276C1BF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2599-364A-4647-8B95-CFCFDD36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2F75-D1EF-49E5-8745-1D36C269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F506-A844-4736-B078-86B2A784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0F4B-2BFB-46A3-A74B-91662D69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BEE0-C5FC-41A6-B1CC-0CD49BB7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91FF-F0D6-4FDA-BEE5-83C01A7E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1BFB-31E7-4535-B5FE-07DB52CA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695F-5CF9-4BE2-925D-59EF9F56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AB9D-9C81-405B-86C8-874A6D19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AE60-A84C-4D43-874B-3CD7B06A144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F5D7-716C-4E17-9F20-64C68978A3C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alary Increment Surve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s year your Company has decided to give the increment as per your wish</a:t>
            </a:r>
            <a:r>
              <a:rPr b="0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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lease answer the following ques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7162920" y="1143000"/>
            <a:ext cx="17524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162920" y="838080"/>
            <a:ext cx="1828800" cy="762120"/>
          </a:xfrm>
          <a:prstGeom prst="wedgeRoundRectCallout">
            <a:avLst>
              <a:gd name="adj1" fmla="val -119967"/>
              <a:gd name="adj2" fmla="val 2308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y Incremen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lect the Tenure with this company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1 Year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2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>
            <a:hlinkClick r:id="rId3" action="ppaction://hlinksldjump"/>
          </p:cNvPr>
          <p:cNvSpPr/>
          <p:nvPr/>
        </p:nvSpPr>
        <p:spPr>
          <a:xfrm>
            <a:off x="4648320" y="35053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3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>
            <a:hlinkClick r:id="rId4" action="ppaction://hlinksldjump"/>
          </p:cNvPr>
          <p:cNvSpPr/>
          <p:nvPr/>
        </p:nvSpPr>
        <p:spPr>
          <a:xfrm>
            <a:off x="4648320" y="41911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5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>
            <a:hlinkClick r:id="rId5" action="ppaction://hlinksldjump"/>
          </p:cNvPr>
          <p:cNvSpPr/>
          <p:nvPr/>
        </p:nvSpPr>
        <p:spPr>
          <a:xfrm>
            <a:off x="4648320" y="48769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7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>
            <a:hlinkClick r:id="rId6" action="ppaction://hlinksldjump"/>
          </p:cNvPr>
          <p:cNvSpPr/>
          <p:nvPr/>
        </p:nvSpPr>
        <p:spPr>
          <a:xfrm>
            <a:off x="4648320" y="5562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Greater than 7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rital Statu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ingl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ried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 you have children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o of children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n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w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>
            <a:hlinkClick r:id="rId3" action="ppaction://hlinksldjump"/>
          </p:cNvPr>
          <p:cNvSpPr/>
          <p:nvPr/>
        </p:nvSpPr>
        <p:spPr>
          <a:xfrm>
            <a:off x="4648320" y="35053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ore than Tw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">
            <a:hlinkClick r:id="rId1" action="ppaction://hlinksldjump"/>
          </p:cNvPr>
          <p:cNvSpPr/>
          <p:nvPr/>
        </p:nvSpPr>
        <p:spPr>
          <a:xfrm>
            <a:off x="76212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4876920" y="31240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">
            <a:hlinkClick r:id="rId1" action="ppaction://hlinksldjump"/>
          </p:cNvPr>
          <p:cNvSpPr/>
          <p:nvPr/>
        </p:nvSpPr>
        <p:spPr>
          <a:xfrm>
            <a:off x="609480" y="31240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 am glad to know that you are happy with your current salary. We will have your increment done next year (with the same survey)……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/>
          <p:nvPr/>
        </p:nvSpPr>
        <p:spPr>
          <a:xfrm>
            <a:off x="2666880" y="53341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ubmit the Surve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9:01:45Z</dcterms:created>
  <dc:creator>Stephen</dc:creator>
  <dc:description/>
  <dc:language>en-US</dc:language>
  <cp:lastModifiedBy>Stephen</cp:lastModifiedBy>
  <dcterms:modified xsi:type="dcterms:W3CDTF">2008-02-18T19:46:28Z</dcterms:modified>
  <cp:revision>2</cp:revision>
  <dc:subject/>
  <dc:title>Salary Increment</dc:title>
</cp:coreProperties>
</file>