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jpeg" ContentType="image/jpeg"/>
  <Override PartName="/ppt/media/image14.gif" ContentType="image/gif"/>
  <Override PartName="/ppt/media/image16.jpeg" ContentType="image/jpeg"/>
  <Override PartName="/ppt/media/image13.gif" ContentType="image/gif"/>
  <Override PartName="/ppt/media/image4.jpeg" ContentType="image/jpeg"/>
  <Override PartName="/ppt/media/image17.gif" ContentType="image/gif"/>
  <Override PartName="/ppt/media/Elvis%20ificandream.wav" ContentType="audio/x-wav"/>
  <Override PartName="/ppt/media/image6.jpeg" ContentType="image/jpeg"/>
  <Override PartName="/ppt/media/image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6C2-5CD6-40E9-B0EE-6BF7E15C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C14-26FA-42A3-B13B-97055E17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388-D138-4E58-967A-BB447E6C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112-43BC-4B56-A9ED-7367A98D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42C-F00D-4096-8470-7DF32E5D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AEF-428B-4A6D-B29B-7307552E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EE6-0B8B-4B32-A364-585F6836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A31-2B67-4158-B5B4-581E5510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F4A-26B0-46FE-9415-6ECEC410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722-F6FA-48BB-8617-104F4F9B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8F4-FACA-4328-9609-9A30EF0D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7A6-134A-4ECF-BFD2-173B3C17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1345-F7A7-445D-81B7-0B403C8CD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lvis%20ificandream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http://powerpoints.sexlog.nl/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chinesepowerpoints.sexlog.nl/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ppsworld.sexlog.nl/" TargetMode="External"/><Relationship Id="rId7" Type="http://schemas.openxmlformats.org/officeDocument/2006/relationships/image" Target="../media/image17.gif"/><Relationship Id="rId8" Type="http://schemas.openxmlformats.org/officeDocument/2006/relationships/hyperlink" Target="http://x-sky.skynetblogs.be/" TargetMode="External"/><Relationship Id="rId9" Type="http://schemas.openxmlformats.org/officeDocument/2006/relationships/image" Target="../media/image18.jpeg"/><Relationship Id="rId10" Type="http://schemas.openxmlformats.org/officeDocument/2006/relationships/hyperlink" Target="http://www.fotoric.be/" TargetMode="External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042920" y="2421000"/>
            <a:ext cx="655164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6313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Wonton ICG"/>
              </a:rPr>
              <a:t>Yumi Lee ...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6313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Wonton ICG"/>
              <a:ea typeface="Wonton ICG"/>
            </a:endParaRPr>
          </a:p>
        </p:txBody>
      </p:sp>
    </p:spTree>
  </p:cSld>
  <p:transition spd="slow" advTm="7000">
    <p:random/>
    <p:sndAc>
      <p:stSnd>
        <p:snd r:embed="rId2" name="Elvis%20ificandream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340000" y="404640"/>
            <a:ext cx="4392720" cy="6048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428920" y="1343160"/>
            <a:ext cx="4286160" cy="4171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348000" y="5229360"/>
            <a:ext cx="2592360" cy="792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333360"/>
            <a:ext cx="5381640" cy="91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8000" y="1628640"/>
            <a:ext cx="5400720" cy="936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08000" y="2924280"/>
            <a:ext cx="5400720" cy="93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8000" y="4221000"/>
            <a:ext cx="5400720" cy="1008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908000" y="5589720"/>
            <a:ext cx="5400720" cy="10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67160" y="480960"/>
            <a:ext cx="4009680" cy="5896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62120" y="495360"/>
            <a:ext cx="4019760" cy="5867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62120" y="423720"/>
            <a:ext cx="4019760" cy="6010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62120" y="485640"/>
            <a:ext cx="401976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62120" y="419040"/>
            <a:ext cx="4019760" cy="6019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84360" y="549360"/>
            <a:ext cx="4175280" cy="5904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62120" y="419040"/>
            <a:ext cx="4019760" cy="6019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627280" y="476280"/>
            <a:ext cx="396072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1:47:30Z</dcterms:created>
  <dc:creator>Rudi</dc:creator>
  <dc:description/>
  <dc:language>en-US</dc:language>
  <cp:lastModifiedBy>Rudi</cp:lastModifiedBy>
  <dcterms:modified xsi:type="dcterms:W3CDTF">2006-09-17T12:04:15Z</dcterms:modified>
  <cp:revision>2</cp:revision>
  <dc:subject/>
  <dc:title>Dia 1</dc:title>
</cp:coreProperties>
</file>