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South%20Park%20-%20Too%20Sexy.wav" ContentType="audio/x-wav"/>
  <Override PartName="/ppt/media/image14.jpeg" ContentType="image/jpeg"/>
  <Override PartName="/ppt/media/image13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6ACF-8553-4A67-B583-BD257E16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0293-8B97-4D69-B9B3-5E74C82B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AC9-FE66-48D6-80D8-BEB95714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0A7-53C1-45DA-B15C-0A3D909C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2ED-2F79-4A12-A063-20181706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1BCD-596F-4B29-AF2B-D1AC2493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DA7A-E258-4800-A335-69A713F9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F76-A9F8-4499-9097-B8CEDF14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AF1-DF16-4628-99AE-BBDCEB50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4B5-0322-40C5-A4E1-0E05C2CF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9DF-80FD-484E-AB84-7159B277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D32-E3A6-44E2-8642-01436813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BFEF-E7AF-41F4-89E1-20D6CC26B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South%20Park%20-%20Too%20Sexy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65440" y="1827360"/>
            <a:ext cx="4573440" cy="152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BIG </a:t>
            </a:r>
            <a:endParaRPr b="0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89120" y="4267080"/>
            <a:ext cx="69976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illusions ...</a:t>
            </a:r>
            <a:endParaRPr b="0" lang="en-US" sz="4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20760" y="0"/>
            <a:ext cx="4902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71640" y="14400"/>
            <a:ext cx="7200720" cy="682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8:25:57Z</dcterms:created>
  <dc:creator>Rob</dc:creator>
  <dc:description/>
  <dc:language>en-US</dc:language>
  <cp:lastModifiedBy>sf</cp:lastModifiedBy>
  <dcterms:modified xsi:type="dcterms:W3CDTF">2008-09-27T17:54:44Z</dcterms:modified>
  <cp:revision>14</cp:revision>
  <dc:subject/>
  <dc:title>Power point presentatie</dc:title>
</cp:coreProperties>
</file>