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53640" y="685440"/>
            <a:ext cx="49532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E074-7383-4AC8-A956-F6FA70B95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94D6-D6B7-45C6-8003-3E0157998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54000" y="685800"/>
            <a:ext cx="495324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ear Ladies and Gentle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ear G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ank you very much for giving me the opportunity to speak here for the 75th anniversary of Turkish women obtaining the right for voting. The right for voting was obtained in 1934,  a date much earlier than a lot of Europea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 am the last speaker and that is a very unthankful job, so I will try to catch your interest with some interesting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hen we came I came in June with the EU Harmonization Commission of the TOBB to visit the newly elected EU Parliament, a member told me to give good news from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ell ladies and gentlemen, here are the good news. And it comes from the woman entrepeneurs which are on board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onight we watched a short film, we had input from women representing arts and litereature as well as politics, I am representing the business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ince I am here to speak representatively for the business world, I have brought facts and figures with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oting, participating in elections, being candidate for a position and then being elected means ‘’BEING ON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6863-C820-4AEE-8773-E8B18F391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54000" y="685800"/>
            <a:ext cx="495324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 am proud to say that the Izmir Commodity Exchange, one of the oldest and largest in Turkey, is now headed by a woman entrepeneu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2344-3F09-403F-A9B6-61098ABFF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54000" y="685800"/>
            <a:ext cx="495324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ere again a map of Turkey showing the provinces after the last chamber elections. The provinces in which women entrepeneurs have been elected into the assemblies are marked in red. Blue and green show the provinces in which women have been elected either to the board or as presid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EE0D-9CEF-478F-93FE-6730C348B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54000" y="685800"/>
            <a:ext cx="495324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esides our regular program of fostering women entrepeneurs I would like to show you also some good practice samples of various TOBB W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t is also noteworthy that also men have applied to the education program in Samsun for the education program ‘’Care for elderly and sick peo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6348-FFE5-47F4-B612-856A5F16C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54000" y="685800"/>
            <a:ext cx="495324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00C0-1B36-486E-9E9B-F317657AC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54000" y="685800"/>
            <a:ext cx="495324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taturk said this as early as 1923, today it is still actual. It is up to us to seek for a better society with the women on bo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A38B-2D31-4970-9F6F-2249FB33B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54000" y="685800"/>
            <a:ext cx="495324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13E5-92F2-4FF1-9F82-36C8B415D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54000" y="685800"/>
            <a:ext cx="495324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urkish women never really had to fight for obatining their rights unlike the women in the USA or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e right for participating in elections was given to us by the founder of modern Turkey, Mustafa Kemal Atatü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imilar to that, the encouragement for Turkish women entrepeneurs to get organised was initiated by the TOBB, the Union of Chambers and Commodity Exchanges of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 would like to explain briefly the type of organisation that TOBB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B773-FE9E-4B60-B44B-6C739CE8F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54000" y="685800"/>
            <a:ext cx="495324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aving this power and background of the business world, it was only natural for us to get organiz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A395-4FAB-467D-973D-57E0FF782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54000" y="685800"/>
            <a:ext cx="495324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hat makes the TOBB WEC so interesting to work for is the fact that it is cooperating with women and men of various platfor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DD40-757F-494A-A83A-46D138EC0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54000" y="685800"/>
            <a:ext cx="495324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hat differentiates the TOBB WEC from other women entrepeneur associations is the fact that there is only one criteria for membership: the membership with a chamber or commodity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o we have businesswomen or women entrepeneurs which own a boutique, maybe a pastry shop, a kindergarden or have a well-going tourism agency in our TOBB W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 am proud to say that we as the Kayseri TOBB WEC count besides typically female entrepeneurial efforts also many ladies which are in the industry. Just to name a few og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ere is our friend Berna exporting every month mattresses of about 1 million USD which her company is manufactu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nd there is Zuhal owning the only private production facility for the defence industry in Kayser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 will show you later on the map where Kayseri is, it is in the middle of Turkey and some Kayserians say that it is the middle of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076D-64FC-4F4A-97C2-899D606B4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54000" y="685800"/>
            <a:ext cx="495324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is is the map of Turkey , each province which has a TOBB WEC is marked in red, only the provinces not having set up a TOBB WEC are marked in white. In those provinces we either don’t have any women entrpeneurs or their number is not enough to found a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ere is the proof that the TOBB WEC is the most wide spread businesswoman organis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ABE1-EA21-478A-8B27-3772804CD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54000" y="685800"/>
            <a:ext cx="495324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ver 700 women met during the first TOBB WEC congress in August 2008, here a photo showing them altogether during the visit of Ataturk’a Mausoleu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89D9-7D2E-41BD-8AC8-0BA083883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54000" y="685800"/>
            <a:ext cx="495324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ntrepeneur is entrepeneur, whether female or male, it should not make a dif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ut it does !! That is why the TOBB WEC concentrated on 2 main issues during its first ter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r promoting the products of companies run byt or owned by woman entrepeneurs it achieved to get exhibition suppor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econd, the fostering of woman entrepeneurs during the chamber elece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E46A-87C6-414A-B7DA-3A2722D99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54000" y="685800"/>
            <a:ext cx="495324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stering paid out as you can see, we tripled the number of women on board in chambers and commodity exchanges this term compared to the last ter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240E9-6703-42A9-AB84-E439F989B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8C659-CFCF-4692-8547-8EC124F1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8C469-3D63-4E4A-A86D-DC2CB0F63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6027-416E-4B42-9F73-E5131CC00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3E87C-83F5-48F6-BB27-325FE4F95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E455-809C-4A67-8F2A-DFB9DD0B5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43B7-91FC-41BC-A6AD-AD0507B4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0189A-5E44-4802-B6C4-4A75A026D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7A0B9-AFD7-4771-BE19-4AE148D88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3D03-7834-4431-85D8-49ED89517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B874-4A82-4292-BE92-FDAD1FFA7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9FFD-B190-4528-B8D4-25B600579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CCI  1. WEC Meeting, Istanbul, 31 March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9A96-94BB-44AF-BB7D-517F9CC70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6"/>
          <p:cNvSpPr/>
          <p:nvPr/>
        </p:nvSpPr>
        <p:spPr>
          <a:xfrm>
            <a:off x="660240" y="4191120"/>
            <a:ext cx="8585280" cy="1413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TURKEY’S WOMEN</a:t>
            </a:r>
            <a:endParaRPr b="0" lang="en-US" sz="36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Brussels, 09 December 2009</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51" name="Text Box 7"/>
          <p:cNvSpPr/>
          <p:nvPr/>
        </p:nvSpPr>
        <p:spPr>
          <a:xfrm>
            <a:off x="1073160" y="2627280"/>
            <a:ext cx="7594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8"/>
          <p:cNvSpPr/>
          <p:nvPr/>
        </p:nvSpPr>
        <p:spPr>
          <a:xfrm>
            <a:off x="0" y="2590920"/>
            <a:ext cx="990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MAN ENTREPENEURS ON BOARD</a:t>
            </a:r>
            <a:endParaRPr b="0" lang="en-US" sz="3600" spc="-1" strike="noStrike">
              <a:solidFill>
                <a:srgbClr val="000000"/>
              </a:solidFill>
              <a:latin typeface="Arial"/>
            </a:endParaRPr>
          </a:p>
        </p:txBody>
      </p:sp>
      <p:sp>
        <p:nvSpPr>
          <p:cNvPr id="53" name="10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77CD-89AE-4494-9CC7-AA3555D5A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Text Box 6"/>
          <p:cNvSpPr/>
          <p:nvPr/>
        </p:nvSpPr>
        <p:spPr>
          <a:xfrm>
            <a:off x="247680" y="2362320"/>
            <a:ext cx="94107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ut of 149 wo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2 are presidents of the chamber or commodity Exchange bo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1 is president of the chamber of commodity Exchange assemb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5 are deputy presidents of the chamber or commodity Exchange bo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5 are deputy presidents of the chamber of commodity Exchange assembl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13 are members of chamber of commodity Exchange bo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123 are members of the chamber of commodity Exchange assemblies</a:t>
            </a:r>
            <a:endParaRPr b="0" lang="en-US" sz="1800" spc="-1" strike="noStrike">
              <a:solidFill>
                <a:srgbClr val="000000"/>
              </a:solidFill>
              <a:latin typeface="Arial"/>
            </a:endParaRPr>
          </a:p>
        </p:txBody>
      </p:sp>
      <p:sp>
        <p:nvSpPr>
          <p:cNvPr id="104"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A59E-0C17-4DC8-BB5F-344C0A223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7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FD18-7BD3-4084-91E5-590BD0680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8" name="7 Resim" descr="meclis harita.JPG"/>
          <p:cNvPicPr/>
          <p:nvPr/>
        </p:nvPicPr>
        <p:blipFill>
          <a:blip r:embed="rId2"/>
          <a:stretch/>
        </p:blipFill>
        <p:spPr>
          <a:xfrm>
            <a:off x="0" y="1752480"/>
            <a:ext cx="9906120" cy="4256280"/>
          </a:xfrm>
          <a:prstGeom prst="rect">
            <a:avLst/>
          </a:prstGeom>
          <a:ln w="0">
            <a:noFill/>
          </a:ln>
        </p:spPr>
      </p:pic>
      <p:sp>
        <p:nvSpPr>
          <p:cNvPr id="109"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 Box 6"/>
          <p:cNvSpPr/>
          <p:nvPr/>
        </p:nvSpPr>
        <p:spPr>
          <a:xfrm>
            <a:off x="660240" y="1828800"/>
            <a:ext cx="8337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ood Practice Samples of Various WE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yseri</a:t>
            </a:r>
            <a:r>
              <a:rPr b="0" lang="tr-TR" sz="1800" spc="-1" strike="noStrike">
                <a:solidFill>
                  <a:srgbClr val="000000"/>
                </a:solidFill>
                <a:latin typeface="Arial"/>
              </a:rPr>
              <a:t>: the first WEC to be founded, signed a protocol with the Erciyes University for giving entrepeneur classes and changing experiences, name of the program : “On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Eskisehi</a:t>
            </a:r>
            <a:r>
              <a:rPr b="0" lang="tr-TR" sz="1800" spc="-1" strike="noStrike">
                <a:solidFill>
                  <a:srgbClr val="000000"/>
                </a:solidFill>
                <a:latin typeface="Arial"/>
              </a:rPr>
              <a:t>r: Close cooperation with ABIGEM (EU Business Development Units), strategy plan for 2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utahya</a:t>
            </a:r>
            <a:r>
              <a:rPr b="0" lang="tr-TR" sz="1800" spc="-1" strike="noStrike">
                <a:solidFill>
                  <a:srgbClr val="000000"/>
                </a:solidFill>
                <a:latin typeface="Arial"/>
              </a:rPr>
              <a:t>: computer literacy education for woman entrepene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amsun</a:t>
            </a:r>
            <a:r>
              <a:rPr b="0" lang="tr-TR" sz="1800" spc="-1" strike="noStrike">
                <a:solidFill>
                  <a:srgbClr val="000000"/>
                </a:solidFill>
                <a:latin typeface="Arial"/>
              </a:rPr>
              <a:t>: Education program for sick and old people, a total of 70 women jo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Diyarbakir</a:t>
            </a:r>
            <a:r>
              <a:rPr b="0" lang="tr-TR" sz="1800" spc="-1" strike="noStrike">
                <a:solidFill>
                  <a:srgbClr val="000000"/>
                </a:solidFill>
                <a:latin typeface="Arial"/>
              </a:rPr>
              <a:t>: Revival program fort he local Pushi production.</a:t>
            </a:r>
            <a:endParaRPr b="0" lang="en-US" sz="1800" spc="-1" strike="noStrike">
              <a:solidFill>
                <a:srgbClr val="000000"/>
              </a:solidFill>
              <a:latin typeface="Arial"/>
            </a:endParaRPr>
          </a:p>
        </p:txBody>
      </p:sp>
      <p:sp>
        <p:nvSpPr>
          <p:cNvPr id="111"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21FA-CFF0-49FE-BCAD-1B3AA8945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6"/>
          <p:cNvSpPr/>
          <p:nvPr/>
        </p:nvSpPr>
        <p:spPr>
          <a:xfrm>
            <a:off x="660240" y="2514600"/>
            <a:ext cx="8420400" cy="234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Objectives of the TOBB W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To become established in all provinces of Tur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To play a major role in the coordination of WEC’s, misc. Business woman associations, organisations dealing with women iss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To cooperate closely with international woman entrepeneur organisations</a:t>
            </a:r>
            <a:endParaRPr b="0" lang="en-US" sz="1800" spc="-1" strike="noStrike">
              <a:solidFill>
                <a:srgbClr val="000000"/>
              </a:solidFill>
              <a:latin typeface="Arial"/>
            </a:endParaRPr>
          </a:p>
        </p:txBody>
      </p:sp>
      <p:sp>
        <p:nvSpPr>
          <p:cNvPr id="114"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106F-1556-4021-B53E-4199FCFF7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7371-6D2F-418E-99EE-709835860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10 Metin kutusu"/>
          <p:cNvSpPr/>
          <p:nvPr/>
        </p:nvSpPr>
        <p:spPr>
          <a:xfrm flipH="1">
            <a:off x="1108080" y="2666880"/>
            <a:ext cx="7642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66"/>
                </a:solidFill>
                <a:latin typeface="Arial"/>
              </a:rPr>
              <a:t>“</a:t>
            </a:r>
            <a:r>
              <a:rPr b="1" lang="tr-TR" sz="3600" spc="-1" strike="noStrike">
                <a:solidFill>
                  <a:srgbClr val="ff0066"/>
                </a:solidFill>
                <a:latin typeface="Arial"/>
              </a:rPr>
              <a:t>The reason for failure in the society lays in the negligence and mistakes which we have shown towards our wome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Mustafa Kemal Ataturk, 1923</a:t>
            </a:r>
            <a:endParaRPr b="0" lang="en-US" sz="3600" spc="-1" strike="noStrike">
              <a:solidFill>
                <a:srgbClr val="000000"/>
              </a:solidFill>
              <a:latin typeface="Arial"/>
            </a:endParaRPr>
          </a:p>
        </p:txBody>
      </p:sp>
      <p:sp>
        <p:nvSpPr>
          <p:cNvPr id="120"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ext Box 6"/>
          <p:cNvSpPr/>
          <p:nvPr/>
        </p:nvSpPr>
        <p:spPr>
          <a:xfrm>
            <a:off x="660240" y="2514600"/>
            <a:ext cx="8420400" cy="24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Thank you….</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Şafak Çivici</a:t>
            </a:r>
            <a:endParaRPr b="0" lang="en-US" sz="2000" spc="-1" strike="noStrike">
              <a:solidFill>
                <a:srgbClr val="000000"/>
              </a:solidFill>
              <a:latin typeface="Arial"/>
            </a:endParaRPr>
          </a:p>
        </p:txBody>
      </p:sp>
      <p:sp>
        <p:nvSpPr>
          <p:cNvPr id="124"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3D55-46E5-4E37-BF10-C353C55A8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6"/>
          <p:cNvSpPr/>
          <p:nvPr/>
        </p:nvSpPr>
        <p:spPr>
          <a:xfrm>
            <a:off x="1486080" y="1066680"/>
            <a:ext cx="709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8"/>
          <p:cNvSpPr/>
          <p:nvPr/>
        </p:nvSpPr>
        <p:spPr>
          <a:xfrm>
            <a:off x="1238400" y="2133720"/>
            <a:ext cx="7677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Union of Chambers and Commodity Exchanges of Turkey (TOBB) is the highest legal entity in Turkey representing the private sec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milar to the patterns of guilds and syndicates, which traditionally organized and represented tradesmen and producers throughout the Turkish History, TOBB, too, adopted a representative role in a democratic and modern socie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oday, TOBB has 365 members in the form of local chambers of commerce, industry, commerce and industry, maritime commerce and commodity exchanges.</a:t>
            </a:r>
            <a:endParaRPr b="0" lang="en-US" sz="1800" spc="-1" strike="noStrike">
              <a:solidFill>
                <a:srgbClr val="000000"/>
              </a:solidFill>
              <a:latin typeface="Arial"/>
            </a:endParaRPr>
          </a:p>
        </p:txBody>
      </p:sp>
      <p:sp>
        <p:nvSpPr>
          <p:cNvPr id="59" name="11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88F5-1FC7-47DC-97D2-4CF09F976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8" descr=""/>
          <p:cNvPicPr/>
          <p:nvPr/>
        </p:nvPicPr>
        <p:blipFill>
          <a:blip r:embed="rId2"/>
          <a:stretch/>
        </p:blipFill>
        <p:spPr>
          <a:xfrm>
            <a:off x="6273720" y="2362320"/>
            <a:ext cx="3095640" cy="2819160"/>
          </a:xfrm>
          <a:prstGeom prst="rect">
            <a:avLst/>
          </a:prstGeom>
          <a:ln w="0">
            <a:noFill/>
          </a:ln>
        </p:spPr>
      </p:pic>
      <p:sp>
        <p:nvSpPr>
          <p:cNvPr id="64" name="Text Box 9"/>
          <p:cNvSpPr/>
          <p:nvPr/>
        </p:nvSpPr>
        <p:spPr>
          <a:xfrm>
            <a:off x="412920" y="2209680"/>
            <a:ext cx="4622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1"/>
          <p:cNvSpPr/>
          <p:nvPr/>
        </p:nvSpPr>
        <p:spPr>
          <a:xfrm>
            <a:off x="495360" y="2438280"/>
            <a:ext cx="49528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Woman Entrepeneurs Committee, offciailly founded on 29 October 2007, is an advisory committee under the TOBB developing general policies for  the support of woman entrepeneu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Its aims are also the education of woman entrepeneurs, supporting the development of their capacities and fostering entrepeneurial initiatives.</a:t>
            </a:r>
            <a:endParaRPr b="0" lang="en-US" sz="1800" spc="-1" strike="noStrike">
              <a:solidFill>
                <a:srgbClr val="000000"/>
              </a:solidFill>
              <a:latin typeface="Arial"/>
            </a:endParaRPr>
          </a:p>
        </p:txBody>
      </p:sp>
      <p:sp>
        <p:nvSpPr>
          <p:cNvPr id="66" name="10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B5CA-EC93-40AC-9215-F62DA9A5F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Text Box 6"/>
          <p:cNvSpPr/>
          <p:nvPr/>
        </p:nvSpPr>
        <p:spPr>
          <a:xfrm>
            <a:off x="247680" y="2133720"/>
            <a:ext cx="9410760" cy="381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ORGANISATION OF THE TOBB WE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committee’s chairwoman is Mrs. Aynur Bek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TOBB WEC consists of 42 memb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19 are woman entrepeneu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9 are of misc. NG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6 are TOBB permanent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5 are of TOBB ETÜ Univers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2 are coordinating members within the TOB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1 member is from the Prime Ministry’s Directorate for the Social Status of the Woman</a:t>
            </a:r>
            <a:endParaRPr b="0" lang="en-US" sz="2000" spc="-1" strike="noStrike">
              <a:solidFill>
                <a:srgbClr val="000000"/>
              </a:solidFill>
              <a:latin typeface="Arial"/>
            </a:endParaRPr>
          </a:p>
        </p:txBody>
      </p:sp>
      <p:sp>
        <p:nvSpPr>
          <p:cNvPr id="70" name="7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655F-57F7-475C-874D-31D1482AC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 descr=""/>
          <p:cNvPicPr/>
          <p:nvPr/>
        </p:nvPicPr>
        <p:blipFill>
          <a:blip r:embed="rId2"/>
          <a:stretch/>
        </p:blipFill>
        <p:spPr>
          <a:xfrm>
            <a:off x="495000" y="1600200"/>
            <a:ext cx="8915400" cy="4525920"/>
          </a:xfrm>
          <a:prstGeom prst="rect">
            <a:avLst/>
          </a:prstGeom>
          <a:ln w="0">
            <a:noFill/>
          </a:ln>
        </p:spPr>
      </p:pic>
      <p:sp>
        <p:nvSpPr>
          <p:cNvPr id="72"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Text Box 6"/>
          <p:cNvSpPr/>
          <p:nvPr/>
        </p:nvSpPr>
        <p:spPr>
          <a:xfrm>
            <a:off x="990720" y="2209680"/>
            <a:ext cx="80071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mbership in the Province WEC’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Woman entrepeneurs and/or woman in managing pos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Member of either a chamber of commerce 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 chamber of industry 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In provinces where the chamber is a chamber of industry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commer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Members of commodity exchanges </a:t>
            </a:r>
            <a:endParaRPr b="0" lang="en-US" sz="2000" spc="-1" strike="noStrike">
              <a:solidFill>
                <a:srgbClr val="000000"/>
              </a:solidFill>
              <a:latin typeface="Arial"/>
            </a:endParaRPr>
          </a:p>
        </p:txBody>
      </p:sp>
      <p:sp>
        <p:nvSpPr>
          <p:cNvPr id="75" name="7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C540-8B92-4158-A646-5DE6E19552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6" name="" descr=""/>
          <p:cNvPicPr/>
          <p:nvPr/>
        </p:nvPicPr>
        <p:blipFill>
          <a:blip r:embed="rId2"/>
          <a:stretch/>
        </p:blipFill>
        <p:spPr>
          <a:xfrm>
            <a:off x="495000" y="1600200"/>
            <a:ext cx="8915400" cy="4525920"/>
          </a:xfrm>
          <a:prstGeom prst="rect">
            <a:avLst/>
          </a:prstGeom>
          <a:ln w="0">
            <a:noFill/>
          </a:ln>
        </p:spPr>
      </p:pic>
      <p:sp>
        <p:nvSpPr>
          <p:cNvPr id="77"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Text Box 6"/>
          <p:cNvSpPr/>
          <p:nvPr/>
        </p:nvSpPr>
        <p:spPr>
          <a:xfrm>
            <a:off x="1486080" y="1981080"/>
            <a:ext cx="718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ut of 81 provinces, 73 have established their W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embers totalling these WEC’s: 1.277.</a:t>
            </a:r>
            <a:endParaRPr b="0" lang="en-US" sz="1800" spc="-1" strike="noStrike">
              <a:solidFill>
                <a:srgbClr val="000000"/>
              </a:solidFill>
              <a:latin typeface="Arial"/>
            </a:endParaRPr>
          </a:p>
        </p:txBody>
      </p:sp>
      <p:sp>
        <p:nvSpPr>
          <p:cNvPr id="81" name="9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2889-C13D-4C6A-BA8F-BC165596E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11" descr="harita"/>
          <p:cNvPicPr/>
          <p:nvPr/>
        </p:nvPicPr>
        <p:blipFill>
          <a:blip r:embed="rId2"/>
          <a:stretch/>
        </p:blipFill>
        <p:spPr>
          <a:xfrm>
            <a:off x="825480" y="2895480"/>
            <a:ext cx="8007480" cy="3380040"/>
          </a:xfrm>
          <a:prstGeom prst="rect">
            <a:avLst/>
          </a:prstGeom>
          <a:ln w="0">
            <a:noFill/>
          </a:ln>
        </p:spPr>
      </p:pic>
      <p:sp>
        <p:nvSpPr>
          <p:cNvPr id="83"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ext Box 7"/>
          <p:cNvSpPr/>
          <p:nvPr/>
        </p:nvSpPr>
        <p:spPr>
          <a:xfrm>
            <a:off x="312840" y="2093760"/>
            <a:ext cx="9015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8"/>
          <p:cNvSpPr/>
          <p:nvPr/>
        </p:nvSpPr>
        <p:spPr>
          <a:xfrm>
            <a:off x="495360" y="2514600"/>
            <a:ext cx="833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rst WEC Congress on August 25, 2008</a:t>
            </a:r>
            <a:endParaRPr b="0" lang="en-US" sz="1800" spc="-1" strike="noStrike">
              <a:solidFill>
                <a:srgbClr val="000000"/>
              </a:solidFill>
              <a:latin typeface="Arial"/>
            </a:endParaRPr>
          </a:p>
        </p:txBody>
      </p:sp>
      <p:pic>
        <p:nvPicPr>
          <p:cNvPr id="88" name="Picture 9" descr=""/>
          <p:cNvPicPr/>
          <p:nvPr/>
        </p:nvPicPr>
        <p:blipFill>
          <a:blip r:embed="rId2"/>
          <a:stretch/>
        </p:blipFill>
        <p:spPr>
          <a:xfrm>
            <a:off x="1486080" y="2971800"/>
            <a:ext cx="7099200" cy="3314880"/>
          </a:xfrm>
          <a:prstGeom prst="rect">
            <a:avLst/>
          </a:prstGeom>
          <a:ln w="0">
            <a:noFill/>
          </a:ln>
        </p:spPr>
      </p:pic>
      <p:sp>
        <p:nvSpPr>
          <p:cNvPr id="89" name="10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FB79-38EF-4BBB-BA5D-DBBD236B4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Text Box 6"/>
          <p:cNvSpPr/>
          <p:nvPr/>
        </p:nvSpPr>
        <p:spPr>
          <a:xfrm>
            <a:off x="1073160" y="2514600"/>
            <a:ext cx="75945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chievements of the TOBB WE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Exhibition support for woman entrepeneurs on international fai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Fostering of woman entrepeneurs during the elections to the assembly and boards of chambers and commodity exchanges </a:t>
            </a:r>
            <a:endParaRPr b="0" lang="en-US" sz="2400" spc="-1" strike="noStrike">
              <a:solidFill>
                <a:srgbClr val="000000"/>
              </a:solidFill>
              <a:latin typeface="Arial"/>
            </a:endParaRPr>
          </a:p>
        </p:txBody>
      </p:sp>
      <p:sp>
        <p:nvSpPr>
          <p:cNvPr id="94"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DD06-9674-4130-9305-37908B3870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ext Box 6"/>
          <p:cNvSpPr/>
          <p:nvPr/>
        </p:nvSpPr>
        <p:spPr>
          <a:xfrm>
            <a:off x="660240" y="2362320"/>
            <a:ext cx="87505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uring the term 2004-2008 a total of 51 women had been elected to the assemblies and boards of various chambers and commodity ex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lections for the assemblies and boards of 365 chambers and commodity exchanges under the TOBB have taken place from January to the end of February 20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s a result of these elections 149 women have been elected to the assemblies and boards of various chambers and commodity exchanges to serve for the term 2009-2013 </a:t>
            </a:r>
            <a:endParaRPr b="0" lang="en-US" sz="2000" spc="-1" strike="noStrike">
              <a:solidFill>
                <a:srgbClr val="000000"/>
              </a:solidFill>
              <a:latin typeface="Arial"/>
            </a:endParaRPr>
          </a:p>
        </p:txBody>
      </p:sp>
      <p:sp>
        <p:nvSpPr>
          <p:cNvPr id="99" name="8 Slayt Numarası Yer Tutucusu"/>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62E9-29C1-4338-B602-387AEF4C3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11 Altbilgi Yer Tutucusu"/>
          <p:cNvSpPr/>
          <p:nvPr/>
        </p:nvSpPr>
        <p:spPr>
          <a:xfrm>
            <a:off x="3054240" y="6381720"/>
            <a:ext cx="4292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EU Parliament, Brussels, 09 Decemb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3:38:14Z</dcterms:created>
  <dc:creator>ts</dc:creator>
  <dc:description/>
  <dc:language>en-US</dc:language>
  <cp:lastModifiedBy>Safak-PC</cp:lastModifiedBy>
  <dcterms:modified xsi:type="dcterms:W3CDTF">2009-12-15T10:39:54Z</dcterms:modified>
  <cp:revision>24</cp:revision>
  <dc:subject/>
  <dc:title>Slayt 1</dc:title>
</cp:coreProperties>
</file>