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41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42.png" ContentType="image/png"/>
  <Override PartName="/ppt/media/image30.wmf" ContentType="image/x-wmf"/>
  <Override PartName="/ppt/media/image1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5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ACD-904A-475F-87A5-490F85DC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CDB-4676-408D-B982-5135B51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95B-7B06-4683-8166-0F6805E4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18B-C601-42DD-9C24-93DD1D96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B4D-FAC6-41CA-B64F-D1C505CE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09E-7F7B-4F96-BA77-DA1E424C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14F-D5A9-4164-B1F9-49BC1498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FF8-3951-4C90-B8C3-D2115B1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C41-ECC7-4180-87ED-E04ACFEA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CDB-C471-4FE9-93AF-45AAE0CD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04A-3577-40E8-B307-0580A8D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65A-431B-4612-97E4-C6E224B7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8672-ED65-435A-A0C2-657A8BB2AB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43000" y="685800"/>
            <a:ext cx="7086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ff"/>
                </a:solidFill>
                <a:latin typeface="Times New Roman"/>
              </a:rPr>
              <a:t>Perkembangan Kine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id-ID" sz="3200" spc="-1" strike="noStrike">
                <a:solidFill>
                  <a:srgbClr val="0000ff"/>
                </a:solidFill>
                <a:latin typeface="Times New Roman"/>
              </a:rPr>
              <a:t>umah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id-ID" sz="3200" spc="-1" strike="noStrike">
                <a:solidFill>
                  <a:srgbClr val="0000ff"/>
                </a:solidFill>
                <a:latin typeface="Times New Roman"/>
              </a:rPr>
              <a:t>aki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Permata Pamu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mulang ,  Minggu –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16 Agustus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rcRect l="7600" t="0" r="0" b="0"/>
          <a:stretch/>
        </p:blipFill>
        <p:spPr>
          <a:xfrm>
            <a:off x="4197240" y="4876920"/>
            <a:ext cx="762120" cy="707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47480" y="571500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UMAH SAKIT PERMATA PAMUL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Jln. Raya Siliwangi I A, Pamulang, Tangerang Selatan – 154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elp. 021-74704999 Fax. 021-7470907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480" y="3241800"/>
            <a:ext cx="9144000" cy="8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9360" y="3409920"/>
            <a:ext cx="9144000" cy="8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480" y="3578400"/>
            <a:ext cx="9144000" cy="8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480" y="3746520"/>
            <a:ext cx="9144000" cy="8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hart 6" descr=""/>
          <p:cNvPicPr/>
          <p:nvPr/>
        </p:nvPicPr>
        <p:blipFill>
          <a:blip r:embed="rId1"/>
          <a:stretch/>
        </p:blipFill>
        <p:spPr>
          <a:xfrm>
            <a:off x="0" y="0"/>
            <a:ext cx="4273560" cy="5645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033880" y="5867280"/>
            <a:ext cx="3810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Britannic Bold"/>
              </a:rPr>
              <a:t>Data Rawat In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4952880" y="6477120"/>
            <a:ext cx="4038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hart 10" descr=""/>
          <p:cNvPicPr/>
          <p:nvPr/>
        </p:nvPicPr>
        <p:blipFill>
          <a:blip r:embed="rId2"/>
          <a:stretch/>
        </p:blipFill>
        <p:spPr>
          <a:xfrm>
            <a:off x="0" y="0"/>
            <a:ext cx="87660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80880" y="152280"/>
          <a:ext cx="6096240" cy="6583320"/>
        </p:xfrm>
        <a:graphic>
          <a:graphicData uri="http://schemas.openxmlformats.org/drawingml/2006/table">
            <a:tbl>
              <a:tblPr/>
              <a:tblGrid>
                <a:gridCol w="662040"/>
                <a:gridCol w="2233800"/>
                <a:gridCol w="1743120"/>
                <a:gridCol w="145728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V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P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/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6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t /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/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i Se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i Sak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la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76" name="TextBox 4"/>
          <p:cNvSpPr/>
          <p:nvPr/>
        </p:nvSpPr>
        <p:spPr>
          <a:xfrm>
            <a:off x="7696080" y="685800"/>
            <a:ext cx="457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Britannic Bold"/>
              </a:rPr>
              <a:t>DA T 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Britannic Bold"/>
              </a:rPr>
              <a:t>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Britannic Bold"/>
              </a:rPr>
              <a:t>RU A N G A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3" descr=""/>
          <p:cNvPicPr/>
          <p:nvPr/>
        </p:nvPicPr>
        <p:blipFill>
          <a:blip r:embed="rId1"/>
          <a:stretch/>
        </p:blipFill>
        <p:spPr>
          <a:xfrm>
            <a:off x="73080" y="1060560"/>
            <a:ext cx="4943520" cy="3133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7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Diagram 5" descr=""/>
          <p:cNvPicPr/>
          <p:nvPr/>
        </p:nvPicPr>
        <p:blipFill>
          <a:blip r:embed="rId2"/>
          <a:stretch/>
        </p:blipFill>
        <p:spPr>
          <a:xfrm>
            <a:off x="3041640" y="3700440"/>
            <a:ext cx="6645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iagram 4" descr=""/>
          <p:cNvPicPr/>
          <p:nvPr/>
        </p:nvPicPr>
        <p:blipFill>
          <a:blip r:embed="rId1"/>
          <a:stretch/>
        </p:blipFill>
        <p:spPr>
          <a:xfrm>
            <a:off x="23760" y="1163520"/>
            <a:ext cx="8871120" cy="2500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gram 7" descr=""/>
          <p:cNvPicPr/>
          <p:nvPr/>
        </p:nvPicPr>
        <p:blipFill>
          <a:blip r:embed="rId2"/>
          <a:stretch/>
        </p:blipFill>
        <p:spPr>
          <a:xfrm>
            <a:off x="-12600" y="3718080"/>
            <a:ext cx="877860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4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Diagram 5" descr=""/>
          <p:cNvPicPr/>
          <p:nvPr/>
        </p:nvPicPr>
        <p:blipFill>
          <a:blip r:embed="rId1"/>
          <a:stretch/>
        </p:blipFill>
        <p:spPr>
          <a:xfrm>
            <a:off x="103320" y="1292400"/>
            <a:ext cx="4981320" cy="4584600"/>
          </a:xfrm>
          <a:prstGeom prst="rect">
            <a:avLst/>
          </a:prstGeom>
          <a:ln w="0">
            <a:noFill/>
          </a:ln>
        </p:spPr>
      </p:pic>
      <p:pic>
        <p:nvPicPr>
          <p:cNvPr id="88" name="Diagram 6" descr=""/>
          <p:cNvPicPr/>
          <p:nvPr/>
        </p:nvPicPr>
        <p:blipFill>
          <a:blip r:embed="rId2"/>
          <a:stretch/>
        </p:blipFill>
        <p:spPr>
          <a:xfrm>
            <a:off x="5254560" y="378000"/>
            <a:ext cx="3780000" cy="3133440"/>
          </a:xfrm>
          <a:prstGeom prst="rect">
            <a:avLst/>
          </a:prstGeom>
          <a:ln w="0">
            <a:noFill/>
          </a:ln>
        </p:spPr>
      </p:pic>
      <p:pic>
        <p:nvPicPr>
          <p:cNvPr id="89" name="Diagram 7" descr=""/>
          <p:cNvPicPr/>
          <p:nvPr/>
        </p:nvPicPr>
        <p:blipFill>
          <a:blip r:embed="rId3"/>
          <a:stretch/>
        </p:blipFill>
        <p:spPr>
          <a:xfrm>
            <a:off x="5370480" y="2968560"/>
            <a:ext cx="36273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9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Diagram 10" descr=""/>
          <p:cNvPicPr/>
          <p:nvPr/>
        </p:nvPicPr>
        <p:blipFill>
          <a:blip r:embed="rId1"/>
          <a:stretch/>
        </p:blipFill>
        <p:spPr>
          <a:xfrm>
            <a:off x="60480" y="1212840"/>
            <a:ext cx="8718480" cy="3286080"/>
          </a:xfrm>
          <a:prstGeom prst="rect">
            <a:avLst/>
          </a:prstGeom>
          <a:ln w="0">
            <a:noFill/>
          </a:ln>
        </p:spPr>
      </p:pic>
      <p:pic>
        <p:nvPicPr>
          <p:cNvPr id="93" name="Diagram 11" descr=""/>
          <p:cNvPicPr/>
          <p:nvPr/>
        </p:nvPicPr>
        <p:blipFill>
          <a:blip r:embed="rId2"/>
          <a:stretch/>
        </p:blipFill>
        <p:spPr>
          <a:xfrm>
            <a:off x="-12600" y="4363920"/>
            <a:ext cx="87548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4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iagram 6" descr=""/>
          <p:cNvPicPr/>
          <p:nvPr/>
        </p:nvPicPr>
        <p:blipFill>
          <a:blip r:embed="rId1"/>
          <a:stretch/>
        </p:blipFill>
        <p:spPr>
          <a:xfrm>
            <a:off x="96840" y="1060560"/>
            <a:ext cx="89247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3092760" y="3244680"/>
            <a:ext cx="51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Analis</a:t>
            </a:r>
            <a:r>
              <a:rPr b="1" lang="id-ID" sz="3600" spc="-1" strike="noStrike" u="sng">
                <a:solidFill>
                  <a:srgbClr val="000000"/>
                </a:solidFill>
                <a:uFillTx/>
                <a:latin typeface="Arial Narrow"/>
              </a:rPr>
              <a:t>i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id-ID" sz="3600" spc="-1" strike="noStrike" u="sng">
                <a:solidFill>
                  <a:srgbClr val="000000"/>
                </a:solidFill>
                <a:uFillTx/>
                <a:latin typeface="Arial Narrow"/>
              </a:rPr>
              <a:t>L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aporan </a:t>
            </a:r>
            <a:r>
              <a:rPr b="1" lang="id-ID" sz="3600" spc="-1" strike="noStrike" u="sng">
                <a:solidFill>
                  <a:srgbClr val="000000"/>
                </a:solidFill>
                <a:uFillTx/>
                <a:latin typeface="Arial Narrow"/>
              </a:rPr>
              <a:t>K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euan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20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dahulu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Horizontal Scroll 5"/>
          <p:cNvSpPr/>
          <p:nvPr/>
        </p:nvSpPr>
        <p:spPr>
          <a:xfrm>
            <a:off x="2590920" y="1676520"/>
            <a:ext cx="6019560" cy="205740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MS PGothic"/>
              </a:rPr>
              <a:t>Analisis kondisi keuangan  Rumah Sakit Permata Pamul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iped Right Arrow 6"/>
          <p:cNvSpPr/>
          <p:nvPr/>
        </p:nvSpPr>
        <p:spPr>
          <a:xfrm>
            <a:off x="228600" y="1684440"/>
            <a:ext cx="2286000" cy="1973160"/>
          </a:xfrm>
          <a:prstGeom prst="pie">
            <a:avLst/>
          </a:prstGeom>
          <a:solidFill>
            <a:srgbClr val="00206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u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7" descr=""/>
          <p:cNvPicPr/>
          <p:nvPr/>
        </p:nvPicPr>
        <p:blipFill>
          <a:blip r:embed="rId1"/>
          <a:stretch/>
        </p:blipFill>
        <p:spPr>
          <a:xfrm>
            <a:off x="2584440" y="4029120"/>
            <a:ext cx="5803920" cy="2597040"/>
          </a:xfrm>
          <a:prstGeom prst="rect">
            <a:avLst/>
          </a:prstGeom>
          <a:ln w="0">
            <a:noFill/>
          </a:ln>
        </p:spPr>
      </p:pic>
      <p:sp>
        <p:nvSpPr>
          <p:cNvPr id="102" name="Striped Right Arrow 8"/>
          <p:cNvSpPr/>
          <p:nvPr/>
        </p:nvSpPr>
        <p:spPr>
          <a:xfrm>
            <a:off x="141120" y="3886200"/>
            <a:ext cx="2525760" cy="2201760"/>
          </a:xfrm>
          <a:prstGeom prst="pie">
            <a:avLst/>
          </a:prstGeom>
          <a:solidFill>
            <a:srgbClr val="00206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Calibri"/>
              </a:rPr>
              <a:t>Data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aporan Keua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391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isis laporan keuang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4" descr=""/>
          <p:cNvPicPr/>
          <p:nvPr/>
        </p:nvPicPr>
        <p:blipFill>
          <a:blip r:embed="rId1"/>
          <a:stretch/>
        </p:blipFill>
        <p:spPr>
          <a:xfrm>
            <a:off x="1023840" y="1652760"/>
            <a:ext cx="7053480" cy="314460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19F6-DACC-44F3-917F-2E8488C0328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haroni"/>
                <a:ea typeface="Aharoni"/>
              </a:rPr>
              <a:t>RUMAH SAKIT PERMATA PAMUL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 4" descr=""/>
          <p:cNvPicPr/>
          <p:nvPr/>
        </p:nvPicPr>
        <p:blipFill>
          <a:blip r:embed="rId1"/>
          <a:stretch/>
        </p:blipFill>
        <p:spPr>
          <a:xfrm>
            <a:off x="858960" y="4784760"/>
            <a:ext cx="3921120" cy="163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E:\My Pictures\LogoRS_MainMenu_proc.jpg"/>
          <p:cNvPicPr/>
          <p:nvPr/>
        </p:nvPicPr>
        <p:blipFill>
          <a:blip r:embed="rId2"/>
          <a:stretch/>
        </p:blipFill>
        <p:spPr>
          <a:xfrm>
            <a:off x="514440" y="1568520"/>
            <a:ext cx="4572000" cy="2819160"/>
          </a:xfrm>
          <a:prstGeom prst="rect">
            <a:avLst/>
          </a:prstGeom>
          <a:ln w="0">
            <a:noFill/>
          </a:ln>
        </p:spPr>
      </p:pic>
      <p:pic>
        <p:nvPicPr>
          <p:cNvPr id="51" name="Diagram 6" descr=""/>
          <p:cNvPicPr/>
          <p:nvPr/>
        </p:nvPicPr>
        <p:blipFill>
          <a:blip r:embed="rId3"/>
          <a:stretch/>
        </p:blipFill>
        <p:spPr>
          <a:xfrm>
            <a:off x="5546880" y="1852560"/>
            <a:ext cx="3389040" cy="231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1143000" y="272880"/>
            <a:ext cx="9144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a Rugi 2012 - 201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66840" y="838080"/>
            <a:ext cx="8410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era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012 - 201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96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sis Vertik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Diagram 4" descr=""/>
          <p:cNvPicPr/>
          <p:nvPr/>
        </p:nvPicPr>
        <p:blipFill>
          <a:blip r:embed="rId1"/>
          <a:stretch/>
        </p:blipFill>
        <p:spPr>
          <a:xfrm>
            <a:off x="1060560" y="1504800"/>
            <a:ext cx="66452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291960" y="73080"/>
            <a:ext cx="6956640" cy="104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42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511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sis Horizo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4" descr=""/>
          <p:cNvPicPr/>
          <p:nvPr/>
        </p:nvPicPr>
        <p:blipFill>
          <a:blip r:embed="rId1"/>
          <a:stretch/>
        </p:blipFill>
        <p:spPr>
          <a:xfrm>
            <a:off x="835200" y="1109520"/>
            <a:ext cx="709596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291960" y="73080"/>
            <a:ext cx="6956640" cy="104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95360" y="9907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oyeksi Laba Rugi Tahun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id-ID" sz="2000" spc="-1" strike="noStrike">
                <a:solidFill>
                  <a:srgbClr val="000000"/>
                </a:solidFill>
                <a:latin typeface="Calibri"/>
              </a:rPr>
              <a:t>royeksi Laba Rugi Tahun 2015 - 2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52280" y="1012680"/>
          <a:ext cx="8839440" cy="5629320"/>
        </p:xfrm>
        <a:graphic>
          <a:graphicData uri="http://schemas.openxmlformats.org/drawingml/2006/table">
            <a:tbl>
              <a:tblPr/>
              <a:tblGrid>
                <a:gridCol w="1473480"/>
                <a:gridCol w="2455560"/>
                <a:gridCol w="2552760"/>
                <a:gridCol w="235764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lengkapan S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Radiologi (Fulltime), Dokter Sp Peny. Dalam, Dokter Sp THT dan Dokter Sp 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Obsgyn (Fulltime), Dokter SpJP, Dokter Bedah Syaraf, Dokter Bedah Urologi dan Dokter SpK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Rehab Medik, Dokter Sp Bedah Digestive, Dokter Gigi dan Dokter Gigi Ana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Spesialis Bedah Mul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lengkapan Fasili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d, 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adaan Rontgen Gigi, KSO CT Scan dan Endos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d, Pengadaan Alat Autorefraktometer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O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t Echocardiography, Mikroskop Op Mata, Alat Treadmill dan USG 4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d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: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oramic,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lat Reh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dik, Alat Audiometri dan Alat Laparas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adaan alat ventilator dewasa &amp; bay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Layan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Ranap Kls I &amp; VIP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anan Bedah dan Orthopedidengan kerjasama  BPJS tenaga kerj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anan MCU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erta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ayanan psikologi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fokus pada anak sekola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p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t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anan 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JS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ls 1, 2 dan 3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anan Home Care, Sunday Clinic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B Paru (DO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Ruang Poli Gigi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ICU &amp; HCU, Pengembangan NICU &amp; PIC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MCU On Site utk Perusaha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in - 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iapan Ujian Akreditasi Std Nas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jian Akreditasi RS Std Nasional, Perapihan Deepwell, pengadaan Ruang Serbaguna dan Perapihan RS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6932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Perkembangan RS (5 Tahu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14"/>
          <p:cNvSpPr/>
          <p:nvPr/>
        </p:nvSpPr>
        <p:spPr>
          <a:xfrm>
            <a:off x="152280" y="866880"/>
            <a:ext cx="66294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2280" y="990720"/>
          <a:ext cx="8839440" cy="4092480"/>
        </p:xfrm>
        <a:graphic>
          <a:graphicData uri="http://schemas.openxmlformats.org/drawingml/2006/table">
            <a:tbl>
              <a:tblPr/>
              <a:tblGrid>
                <a:gridCol w="1473480"/>
                <a:gridCol w="3479760"/>
                <a:gridCol w="388620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lengkapan S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Peny. Dalam Konsultan Ginjal Hipertensi (utk PJ HD), Sub Spesialis Bedah Vaskuler, Sub Spesialis Endokrinologi, Metabolik dan Diabe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Gizi Klinik, Sub Spesialis Hematolo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lengkapan Fasili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d (4 Bed utk H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)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: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lat 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 CT Scan, Upgrade USG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O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t Broncoscopy,M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Layan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layanan 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Ranap ( VVIP, VIP &amp; Kls I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Layanan Diabetes &amp; Lip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ruang 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CU Execu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in - 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panjangan ijin Operasional 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reditasi RS ( Paripurna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6932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Perkembangan RS (5 Tahu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10"/>
          <p:cNvSpPr/>
          <p:nvPr/>
        </p:nvSpPr>
        <p:spPr>
          <a:xfrm>
            <a:off x="152280" y="866880"/>
            <a:ext cx="66294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iagram 1" descr=""/>
          <p:cNvPicPr/>
          <p:nvPr/>
        </p:nvPicPr>
        <p:blipFill>
          <a:blip r:embed="rId1"/>
          <a:stretch/>
        </p:blipFill>
        <p:spPr>
          <a:xfrm>
            <a:off x="517680" y="743040"/>
            <a:ext cx="81388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Sekian, terimakasi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E:\My Documents\nitip LOGISTIK\Team-Work-300x225.jpg"/>
          <p:cNvPicPr/>
          <p:nvPr/>
        </p:nvPicPr>
        <p:blipFill>
          <a:blip r:embed="rId1"/>
          <a:stretch/>
        </p:blipFill>
        <p:spPr>
          <a:xfrm>
            <a:off x="1258920" y="1484280"/>
            <a:ext cx="66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96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sis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Keuan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19240" y="1066680"/>
            <a:ext cx="8467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Likuid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040" y="8380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Analisis ini dilakukan untuk menilai kemampuan perusahaan dalam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melunasi hutang jangka pendekny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 dengan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aset lancar yang dimilik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Jika perusahaan memiliki masalah dalam likuiditas dalam jangka pendek maka kemampuan perusahaan untuk terus berjalan dipertanyak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165480"/>
          </a:xfrm>
          <a:prstGeom prst="rect">
            <a:avLst/>
          </a:prstGeom>
          <a:ln w="0">
            <a:noFill/>
          </a:ln>
        </p:spPr>
      </p:pic>
      <p:sp>
        <p:nvSpPr>
          <p:cNvPr id="135" name="Pentagon 5"/>
          <p:cNvSpPr/>
          <p:nvPr/>
        </p:nvSpPr>
        <p:spPr>
          <a:xfrm>
            <a:off x="990720" y="5791320"/>
            <a:ext cx="1704960" cy="60948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39" y="0"/>
                </a:lnTo>
                <a:lnTo>
                  <a:pt x="21600" y="10800"/>
                </a:lnTo>
                <a:lnTo>
                  <a:pt x="177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2971800" y="5715000"/>
            <a:ext cx="589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ondisi rasio Lancar, Cepat, dan Kas membaik ditahun 2012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, dan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ikuiditas yang baik adalah jika rasionya &gt;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Aktiv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040" y="8380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Mengevaluasi seberapa cepat sebuah aset lancar dapat dirubah menjadi penjualan atau ka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Mengevaluasi kemampuan dalam menggunakan aset yang dimilikinya untuk mengahasilkan pendapa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Rasio ini mengukur pada Aset piutang dan persedia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entagon 5"/>
          <p:cNvSpPr/>
          <p:nvPr/>
        </p:nvSpPr>
        <p:spPr>
          <a:xfrm>
            <a:off x="990720" y="5410080"/>
            <a:ext cx="1704960" cy="68580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56" y="0"/>
                </a:lnTo>
                <a:lnTo>
                  <a:pt x="21600" y="10800"/>
                </a:lnTo>
                <a:lnTo>
                  <a:pt x="1725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2971800" y="5410080"/>
            <a:ext cx="589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Kemampuan mengelola Piutang dan Aset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dari tahun ke tahun semakin meningkat/ 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memba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025960" y="2313000"/>
            <a:ext cx="3838680" cy="27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1035000" y="2313000"/>
            <a:ext cx="36892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Solvabil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040" y="8380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Analisis ini memperlihatkan kemampuan perusahaan dalam melunasi hutang yang dimilik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entagon 5"/>
          <p:cNvSpPr/>
          <p:nvPr/>
        </p:nvSpPr>
        <p:spPr>
          <a:xfrm>
            <a:off x="990720" y="5334120"/>
            <a:ext cx="1704960" cy="76176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3" y="0"/>
                </a:lnTo>
                <a:lnTo>
                  <a:pt x="21600" y="10800"/>
                </a:lnTo>
                <a:lnTo>
                  <a:pt x="167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2971800" y="4876920"/>
            <a:ext cx="589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asio Hutang terhadap modal dan rasio hutang terhadap aset terjadi trend penurunan. Menunjukkan bahwa semakin lama perusahaan akan semakin tidak bergantung pada utang dalam menjalankan operasionaln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Gill Sans MT"/>
                <a:ea typeface="MS PGothic"/>
              </a:rPr>
              <a:t>Atau,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MS PGothic"/>
              </a:rPr>
              <a:t>Rasio hutang/aset masih rendah menandakan perusahaan masih bisa berhutang untuk melakukan ekspans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2680" y="1344600"/>
            <a:ext cx="54576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Rentabil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040" y="8380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Analisis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Rentabilita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 menilai kemampuan perusahaan untuk menghasilkan laba dan beroperasi secara efisien dan efek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entagon 5"/>
          <p:cNvSpPr/>
          <p:nvPr/>
        </p:nvSpPr>
        <p:spPr>
          <a:xfrm>
            <a:off x="990720" y="5334120"/>
            <a:ext cx="1704960" cy="76176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3" y="0"/>
                </a:lnTo>
                <a:lnTo>
                  <a:pt x="21600" y="10800"/>
                </a:lnTo>
                <a:lnTo>
                  <a:pt x="167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2971800" y="4876920"/>
            <a:ext cx="589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Meskipun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 laba 2012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, 2013, dan 2014 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masih negatif, namun trendnya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meningkat, 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menunjukan perbaikan yang terlihat dari penurunan rugi yang signifikan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Demikian juga halnya, meskipun tingkat pengembalian atas aset dan modal masih minus, namun terjadi trend peningkatan. Sehingga potensi pengembalian atas modal/aset di tahun-tahun yang akan datang akan terjad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009800" y="1600200"/>
            <a:ext cx="371448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Chart 8" descr=""/>
          <p:cNvPicPr/>
          <p:nvPr/>
        </p:nvPicPr>
        <p:blipFill>
          <a:blip r:embed="rId2"/>
          <a:stretch/>
        </p:blipFill>
        <p:spPr>
          <a:xfrm>
            <a:off x="4889520" y="158436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Z S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040" y="837720"/>
            <a:ext cx="7162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metode Z-Score (Altman) adalah suatu alat yang memperhitungkan dan menggabungkan beberapa rasio-rasio keuangan tertentu dalam perusahaan dalam suatu persamaan diskriminan yang akan menghasilkan skor tertentu yang akan menunjukkan tingkat kemungkinan kebangkrutan perusahaa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Dalam model tersebut perusahaan yang mempunyai skor Z &gt; 2,99 diklasifikasikan sebagai perusahaan sehat, sedangkan perusahaan yang mempunyai skor Z &lt; 1,81 diklasifikasikan sebagai perusahaan potensial bangkrut. Selanjutnya skor 1,81 sampai 2,99 diklasifikasikan sebagai perusahaan pada grey area atau daerah kelabu (Muslich, 2000:6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entagon 5"/>
          <p:cNvSpPr/>
          <p:nvPr/>
        </p:nvSpPr>
        <p:spPr>
          <a:xfrm>
            <a:off x="1028880" y="5931000"/>
            <a:ext cx="1704960" cy="76176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3" y="0"/>
                </a:lnTo>
                <a:lnTo>
                  <a:pt x="21600" y="10800"/>
                </a:lnTo>
                <a:lnTo>
                  <a:pt x="167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2971800" y="5905440"/>
            <a:ext cx="589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RS berada di area grey (2,45). Akan tetapi melihat trend dari tahun 2012 sd tahun 2014, RS memiliki potensi untuk diklasifikasikan sebagai perusahaan sehat (&gt;2,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5623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33880" y="5867280"/>
            <a:ext cx="3810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Britannic Bold"/>
              </a:rPr>
              <a:t>Struktur Organis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Diagram 5" descr=""/>
          <p:cNvPicPr/>
          <p:nvPr/>
        </p:nvPicPr>
        <p:blipFill>
          <a:blip r:embed="rId1"/>
          <a:stretch/>
        </p:blipFill>
        <p:spPr>
          <a:xfrm>
            <a:off x="493560" y="530280"/>
            <a:ext cx="8180640" cy="493704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2"/>
          <p:cNvSpPr/>
          <p:nvPr/>
        </p:nvSpPr>
        <p:spPr>
          <a:xfrm>
            <a:off x="5029200" y="6477120"/>
            <a:ext cx="380988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095280" y="3244680"/>
            <a:ext cx="54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K</a:t>
            </a:r>
            <a:r>
              <a:rPr b="1" lang="id-ID" sz="3600" spc="-1" strike="noStrike" u="sng">
                <a:solidFill>
                  <a:srgbClr val="000000"/>
                </a:solidFill>
                <a:uFillTx/>
                <a:latin typeface="Arial Narrow"/>
              </a:rPr>
              <a:t>inerja Layanan Rumah Sa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304920"/>
          <a:ext cx="8305920" cy="61261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28400">
                <a:tc>
                  <a:txBody>
                    <a:bodyPr lIns="90000" rIns="9000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97720">
                <a:tc>
                  <a:txBody>
                    <a:bodyPr lIns="90000" rIns="900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IGD 24 j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Rawat Jalan / Polikl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U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Pa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Penyakit Dal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Bed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M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Kulit &amp; Kela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Orthope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ObsGy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Gi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An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1" lang="id-ID" sz="20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</a:rPr>
                        <a:t>Poliklinik Tumbuh Kembang An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1" lang="id-ID" sz="20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</a:rPr>
                        <a:t>Poliklinik Bedah Onkologi Kandun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1" lang="id-ID" sz="20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</a:rPr>
                        <a:t>Poliklinik Berhenti Merok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Penunjang Med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Radiolo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Laborato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Farmasi / Apo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Fisioter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Kamar Oper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Rawat In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74800" y="263520"/>
            <a:ext cx="410868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Alokasi B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46240" y="1143000"/>
          <a:ext cx="4325760" cy="5202360"/>
        </p:xfrm>
        <a:graphic>
          <a:graphicData uri="http://schemas.openxmlformats.org/drawingml/2006/table">
            <a:tbl>
              <a:tblPr/>
              <a:tblGrid>
                <a:gridCol w="515880"/>
                <a:gridCol w="1523880"/>
                <a:gridCol w="1066680"/>
                <a:gridCol w="1219320"/>
              </a:tblGrid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. Peraw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p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V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P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/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t /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724280" y="1143000"/>
          <a:ext cx="4267440" cy="5202360"/>
        </p:xfrm>
        <a:graphic>
          <a:graphicData uri="http://schemas.openxmlformats.org/drawingml/2006/table">
            <a:tbl>
              <a:tblPr/>
              <a:tblGrid>
                <a:gridCol w="457200"/>
                <a:gridCol w="1676520"/>
                <a:gridCol w="990720"/>
                <a:gridCol w="1143000"/>
              </a:tblGrid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. Peraw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p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/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i Se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i Sak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l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Straight Connector 3"/>
          <p:cNvSpPr/>
          <p:nvPr/>
        </p:nvSpPr>
        <p:spPr>
          <a:xfrm>
            <a:off x="5943600" y="914400"/>
            <a:ext cx="29718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8" descr=""/>
          <p:cNvPicPr/>
          <p:nvPr/>
        </p:nvPicPr>
        <p:blipFill>
          <a:blip r:embed="rId1"/>
          <a:stretch/>
        </p:blipFill>
        <p:spPr>
          <a:xfrm>
            <a:off x="0" y="0"/>
            <a:ext cx="4352760" cy="5565600"/>
          </a:xfrm>
          <a:prstGeom prst="rect">
            <a:avLst/>
          </a:prstGeom>
          <a:ln w="0">
            <a:noFill/>
          </a:ln>
        </p:spPr>
      </p:pic>
      <p:sp>
        <p:nvSpPr>
          <p:cNvPr id="64" name="Text Placeholder 4"/>
          <p:cNvSpPr/>
          <p:nvPr/>
        </p:nvSpPr>
        <p:spPr>
          <a:xfrm>
            <a:off x="365040" y="5816520"/>
            <a:ext cx="586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Britannic Bold"/>
              </a:rPr>
              <a:t>Kunjungan IGD dan P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8" descr=""/>
          <p:cNvPicPr/>
          <p:nvPr/>
        </p:nvPicPr>
        <p:blipFill>
          <a:blip r:embed="rId2"/>
          <a:stretch/>
        </p:blipFill>
        <p:spPr>
          <a:xfrm>
            <a:off x="0" y="0"/>
            <a:ext cx="8997840" cy="564516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7"/>
          <p:cNvSpPr/>
          <p:nvPr/>
        </p:nvSpPr>
        <p:spPr>
          <a:xfrm>
            <a:off x="228600" y="6581880"/>
            <a:ext cx="48006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7" descr=""/>
          <p:cNvPicPr/>
          <p:nvPr/>
        </p:nvPicPr>
        <p:blipFill>
          <a:blip r:embed="rId1"/>
          <a:stretch/>
        </p:blipFill>
        <p:spPr>
          <a:xfrm>
            <a:off x="0" y="0"/>
            <a:ext cx="4346640" cy="6711840"/>
          </a:xfrm>
          <a:prstGeom prst="rect">
            <a:avLst/>
          </a:prstGeom>
          <a:ln w="0">
            <a:noFill/>
          </a:ln>
        </p:spPr>
      </p:pic>
      <p:pic>
        <p:nvPicPr>
          <p:cNvPr id="68" name="Chart 5" descr=""/>
          <p:cNvPicPr/>
          <p:nvPr/>
        </p:nvPicPr>
        <p:blipFill>
          <a:blip r:embed="rId2"/>
          <a:stretch/>
        </p:blipFill>
        <p:spPr>
          <a:xfrm>
            <a:off x="0" y="0"/>
            <a:ext cx="8766000" cy="6675480"/>
          </a:xfrm>
          <a:prstGeom prst="rect">
            <a:avLst/>
          </a:prstGeom>
          <a:ln w="0">
            <a:noFill/>
          </a:ln>
        </p:spPr>
      </p:pic>
      <p:sp>
        <p:nvSpPr>
          <p:cNvPr id="69" name="Text Placeholder 4"/>
          <p:cNvSpPr/>
          <p:nvPr/>
        </p:nvSpPr>
        <p:spPr>
          <a:xfrm>
            <a:off x="396252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Britannic Bold"/>
              </a:rPr>
              <a:t>Kunjungan Penunjang Me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3962520" y="838080"/>
            <a:ext cx="48006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4:06:41Z</dcterms:created>
  <dc:creator>Thinke335</dc:creator>
  <dc:description/>
  <dc:language>en-US</dc:language>
  <cp:lastModifiedBy>Admin</cp:lastModifiedBy>
  <dcterms:modified xsi:type="dcterms:W3CDTF">2015-08-14T04:55:24Z</dcterms:modified>
  <cp:revision>193</cp:revision>
  <dc:subject/>
  <dc:title>Slide 1</dc:title>
</cp:coreProperties>
</file>