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323-76D0-4866-BEAD-9D1B8C9F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A9F-5E1A-4F0B-82E3-F0B0985A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956-8274-41C0-AF4B-BF894574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D94-1A51-4F5F-827B-6CB46000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ACC-82CD-46A6-9987-603544CD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3AF-F877-4E41-AC25-E1EDE42C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C98-BD9A-4CF6-9F4F-64784071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7C8-FBD8-4023-93B9-0A3CF33B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A5E-3B45-4071-B868-58563A1F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B27-A406-432D-B4E2-100E17A8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E67-348E-4D3D-90FD-B878084C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EFF-D1B2-44FF-8C74-C830CA60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CF7E-5ABC-4D96-B519-09CC804D8E7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293"/>
                </a:solidFill>
                <a:uFillTx/>
                <a:latin typeface="Arial"/>
              </a:rPr>
              <a:t>A Língua Portuguesa agradece  e nossos ouvidos também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Da mesma forma é incorreto perguntar: 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COM QUEM VOCÊ QUER ESTAR FALANDO?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Veja como é o correto e mais simples: COM QUEM VOCÊ QUER FALAR?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 Ao telefone não use: Quem gostaria? É de matar..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 Não use: peraí, aguenta aí, só um pouquinho   (prefira: Aguarde um momento, por favor)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Por último, e talvez a pior de todas : Por favor, arranquem os malditos SEJE e ESTEJE do seu vocabulário. (estas palavras não existem)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Não é elegante você tratar por telefone, pessoas que não conhece, utilizando termos como: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querido (a), meu filho (a), meu bem, amigo (a)...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Utilize o nome da pessoa ou Senhor, Senhora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Mande aos seus amigo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"Se circula tanta bobagem pela internet, porque não circular coisa útil?" 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5950080"/>
            <a:ext cx="284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iviane.lopes@uol.com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www.vivianelopes.zip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esmo que você saiba de todas essas formas corretas, passe adiante, pode ser útil para outras pessoa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A Língua Portuguesa agradece</a:t>
            </a:r>
            <a:r>
              <a:rPr b="0" i="1" lang="en-US" sz="4000" spc="-1" strike="noStrike">
                <a:solidFill>
                  <a:srgbClr val="dfd293"/>
                </a:solidFill>
                <a:latin typeface="Arial"/>
              </a:rPr>
              <a:t> 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Não diga: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Menas (sempre menos)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Iorgute (iogurte)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Mortandela (mortadela)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Mendingo ( mendigo )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Trabisseiro (travesseiro )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Trezentas gramas (é O grama e não A grama)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Di menor, di maior (é simplesmente maior ou menor de idade)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Cardaço ( cadarço)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Asterístico (asterisco)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Beneficiente ( beneficente - lembre-se de Beneficência Portuguesa) 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Meia cansada (meio cansada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E lembre-se também :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Mal - Bem</a:t>
            </a: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Mau - Bom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A casa é GEMINADA (do latim geminare = duplicar)e não GERMINADA que vem de germinar, nascer, brotar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O certo é CUSPIR e não GOSPIR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O certo é BASCULANTE e não VASCULHANTE, aquela janela do banheiro ou da cozinha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-Se v. estiver com muito calor, poderá dizer que está "suando" (com u) e não "soando", pois quem "soa" é sino !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-O peixe tem ESPINHA (espinha dorsal) e não ESPINHO. Plantas têm espinho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-Homens dizem OBRIGADO e mulheres OBRIGADA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-O certo é HAJA VISTA (que se oferece à vista) e não HAJA VISTO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"-FAZ dois anos que não o vejo" e não " FAZEM dois anos"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- POR ISSO e não PORISSO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-"HAVIA muitas pessoas no local" e não " HAVIAM"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-"PODE HAVER problemas" e não "PODEM HAVER...."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-PROBLEMA e não POBLEMA ou POBREMA (deixe isso para o Zé Dirceu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-A PARTIR e não À PARTIR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-Para EU fazer, para EU comprar, para EU comer  e não para MIM fazer, para mim comprar ou para mim comer.  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(mim não conjuga verbo; apenas "eu, tu, eles, nós, vós, eles")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Você pode ficar com dó (ou com um dó) de alguém, mas nunca com "uma dó"; a palavra dó no feminino é só a nota musical (do, ré, mi, etc etc.)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dfd293"/>
                </a:solidFill>
                <a:latin typeface="Arial"/>
              </a:rPr>
              <a:t>-As pronúncias: CD-ROM é igual a ROMA sem o A. Não é CD-RUM (nem CD-pinga, CD-vodka, etc).  ROM é abreviatura de Read Only Memory - memória apenas para leitura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dfd2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HALL é RÓL não RAU, nem AU. </a:t>
            </a:r>
            <a:br>
              <a:rPr sz="28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E agora, o horror divulgado pelo pessoal do TELEMARKETING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-Não é eu vou ESTAR mandando, vou ESTAR passando, vou ESTAR verificando e sim eu vou MANDAR , vou PASSAR e vou VERIFICAR (muito mais simples, mais elegante e CORRETO)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5:52:38Z</dcterms:created>
  <dc:creator>VIVIANE LOPES</dc:creator>
  <dc:description/>
  <dc:language>en-US</dc:language>
  <cp:lastModifiedBy>Cliente</cp:lastModifiedBy>
  <dcterms:modified xsi:type="dcterms:W3CDTF">2006-09-29T03:05:50Z</dcterms:modified>
  <cp:revision>4</cp:revision>
  <dc:subject/>
  <dc:title>A Língua Portuguesa agradece  e nossos ouvidos também.</dc:title>
</cp:coreProperties>
</file>