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473-6ADB-45AE-B582-9871D8D6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53C7-751C-48B6-B961-62C1346F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CE75-82BA-4657-B34E-447ABB10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98A-62B5-4454-A84E-E88741C3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FEE-11AB-47E9-9041-ECE0EE26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0AA-999B-46D0-AD91-15A17A78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2C0-DDE1-4571-AC18-C1B8681E6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076-EA1F-4D38-A60C-B7F262E0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375-4764-48F9-8C4E-3447EFF0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7BD7-251A-473B-8790-10FBB364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C2CD-24B9-440A-81C2-E4D6D31E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39800"/>
            <a:ext cx="54864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8A4-43C2-4ACB-99A6-56A1D92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39E-6301-4441-AA7C-C211496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47C-2593-4DAA-B2AA-5638A709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AA5-C278-4D3F-AD09-824D4357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4FB-E492-4953-A2F8-D505BBB5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AA28-333E-49C7-A176-690A1BF4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E83-A2BC-420F-917C-AA7051F3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8FA3-07C4-4F42-8703-C3A4596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690C-278C-48AD-B14C-3C18439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8482-9B6B-497F-83BC-38DBD61F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4BD5-C983-47E4-A608-C864959D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153-0052-4B54-B22C-9896B93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3D6-7236-4F0A-88F6-5597FED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8E9-DD17-42B5-AA4A-19D960F4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E7A1-F277-469B-9793-4C10DEE7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767-38BA-4034-9BF7-8BC22C2F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06A5-5367-410B-BDAC-2CB17BFF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542-A996-48F7-9A16-7B8C1E4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AD5-85B1-444A-8190-10835DC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D94-0D20-4340-9BB9-246EF1C0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9E6-F7C3-4146-9ADC-28362A6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935-6C8E-4E05-91AC-9D2F202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EAF-C485-40EB-BA2E-7CD461F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9E0-0140-4A03-87F5-5AF3920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007-E3BB-41BD-9DAA-86AA6D2B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350532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HCL Logo"/>
          <p:cNvPicPr/>
          <p:nvPr/>
        </p:nvPicPr>
        <p:blipFill>
          <a:blip r:embed="rId2"/>
          <a:srcRect l="0" t="25245" r="0" b="28924"/>
          <a:stretch/>
        </p:blipFill>
        <p:spPr>
          <a:xfrm>
            <a:off x="6950160" y="6324480"/>
            <a:ext cx="2193840" cy="355680"/>
          </a:xfrm>
          <a:prstGeom prst="rect">
            <a:avLst/>
          </a:prstGeom>
          <a:ln w="0">
            <a:noFill/>
          </a:ln>
        </p:spPr>
      </p:pic>
      <p:sp>
        <p:nvSpPr>
          <p:cNvPr id="7" name="TextBox 7"/>
          <p:cNvSpPr/>
          <p:nvPr/>
        </p:nvSpPr>
        <p:spPr>
          <a:xfrm>
            <a:off x="228600" y="6489720"/>
            <a:ext cx="312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99"/>
                </a:solidFill>
                <a:latin typeface="Arial"/>
              </a:rPr>
              <a:t>Technology that touches l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all three"/>
          <p:cNvPicPr/>
          <p:nvPr/>
        </p:nvPicPr>
        <p:blipFill>
          <a:blip r:embed="rId3"/>
          <a:srcRect l="0" t="71950" r="0" b="17998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350532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all three"/>
          <p:cNvPicPr/>
          <p:nvPr/>
        </p:nvPicPr>
        <p:blipFill>
          <a:blip r:embed="rId2"/>
          <a:stretch/>
        </p:blipFill>
        <p:spPr>
          <a:xfrm>
            <a:off x="0" y="0"/>
            <a:ext cx="914076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A8D-15EF-4E1D-B64D-E6C69D2F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image" Target="../media/image16.jpeg"/><Relationship Id="rId17" Type="http://schemas.openxmlformats.org/officeDocument/2006/relationships/image" Target="../media/image20.png"/><Relationship Id="rId18" Type="http://schemas.openxmlformats.org/officeDocument/2006/relationships/image" Target="../media/image21.jpeg"/><Relationship Id="rId19" Type="http://schemas.openxmlformats.org/officeDocument/2006/relationships/image" Target="../media/image15.jpe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jpeg"/><Relationship Id="rId24" Type="http://schemas.openxmlformats.org/officeDocument/2006/relationships/hyperlink" Target="http://www.hitachi.com/index.html" TargetMode="External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9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CL Infosystems Ltd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0854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cc0000"/>
                </a:solidFill>
                <a:latin typeface="Arial Narrow"/>
              </a:rPr>
              <a:t>Welcomes You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60480" y="3625920"/>
            <a:ext cx="73468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re- Placement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Narrow"/>
              </a:rPr>
              <a:t>R Su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Regional CIG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Bang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s.1.2 Lakhs per an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g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/ B Tech in CS/ IT/ E&amp;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ssed out in 200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minimum 60% marks in SSLC/ PUC/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ten test (technical, aptitude and communic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oup discus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 students selected have to undergo 4 months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induction train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t HCL’s Training Campus at Hyderabad on </a:t>
            </a:r>
            <a:r>
              <a:rPr b="0" i="1" lang="en-US" sz="3200" spc="-1" strike="noStrike">
                <a:solidFill>
                  <a:srgbClr val="cc0000"/>
                </a:solidFill>
                <a:latin typeface="Verdana"/>
              </a:rPr>
              <a:t>self support b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2590920" y="3624120"/>
            <a:ext cx="58579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Service Management (Desktop, Portable &amp; Server)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36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Communication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24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working Management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8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(Solaris) System &amp; Security Administrator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6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Storage Management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2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echnology Infrastructure Library (ITIL)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4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echnology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40 H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 -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Training - 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s.1,00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Inclusive of  Boarding &amp; Lodging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s.20,000 /– after selection to enroll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Balance 1 week before commencement of induction training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l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384640" y="419112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b0f0"/>
                </a:solidFill>
                <a:latin typeface="Arial"/>
              </a:rPr>
              <a:t>cigblr2@hclcdc.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Services – Futur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T Infrastructur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ird wave in IT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in the IT infrastructure management outsourcing – close to $138 bill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Mark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ement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stalled base of PCs in India grew to more than 22 million           –   i.e., a PC for approximately every 50 India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nly being Indian, but also “be in India” is exci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an Domestic market – fastest growing in the Asia Pacific region – predicted growth in 2008:21.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7320" y="59436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the good news…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 IT Market Predi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 will lead the pack as the next IT market opportunity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ajor wave of IT investments seen place across banks, financial services, telecom, manufacturing, government, education, aviation etc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security concerns will drive the enterprise security solutions 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313040" y="586728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scan0001"/>
          <p:cNvPicPr/>
          <p:nvPr/>
        </p:nvPicPr>
        <p:blipFill>
          <a:blip r:embed="rId1"/>
          <a:srcRect l="7060" t="6153" r="12941" b="67291"/>
          <a:stretch/>
        </p:blipFill>
        <p:spPr>
          <a:xfrm rot="331200">
            <a:off x="3733560" y="1450440"/>
            <a:ext cx="51814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CL Financial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76320" y="1467000"/>
            <a:ext cx="8912160" cy="4787640"/>
            <a:chOff x="76320" y="1467000"/>
            <a:chExt cx="8912160" cy="4787640"/>
          </a:xfrm>
        </p:grpSpPr>
        <p:sp>
          <p:nvSpPr>
            <p:cNvPr id="100" name="AutoShape 2"/>
            <p:cNvSpPr/>
            <p:nvPr/>
          </p:nvSpPr>
          <p:spPr>
            <a:xfrm>
              <a:off x="3151080" y="2330280"/>
              <a:ext cx="2895840" cy="1244880"/>
            </a:xfrm>
            <a:prstGeom prst="roundRect">
              <a:avLst>
                <a:gd name="adj" fmla="val 837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3227400" y="2622600"/>
              <a:ext cx="2739960" cy="88884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AutoShape 14"/>
            <p:cNvCxnSpPr>
              <a:stCxn id="103" idx="1"/>
            </p:cNvCxnSpPr>
            <p:nvPr/>
          </p:nvCxnSpPr>
          <p:spPr>
            <a:xfrm flipV="1" rot="10800000">
              <a:off x="1496160" y="1796040"/>
              <a:ext cx="2193120" cy="533880"/>
            </a:xfrm>
            <a:prstGeom prst="bentConnector2">
              <a:avLst/>
            </a:prstGeom>
            <a:ln w="9360">
              <a:solidFill>
                <a:srgbClr val="003399"/>
              </a:solidFill>
              <a:miter/>
            </a:ln>
          </p:spPr>
        </p:cxnSp>
        <p:cxnSp>
          <p:nvCxnSpPr>
            <p:cNvPr id="104" name="AutoShape 15"/>
            <p:cNvCxnSpPr>
              <a:stCxn id="103" idx="3"/>
            </p:cNvCxnSpPr>
            <p:nvPr/>
          </p:nvCxnSpPr>
          <p:spPr>
            <a:xfrm>
              <a:off x="5686200" y="1796760"/>
              <a:ext cx="2089800" cy="533880"/>
            </a:xfrm>
            <a:prstGeom prst="bentConnector2">
              <a:avLst/>
            </a:prstGeom>
            <a:ln w="9360">
              <a:solidFill>
                <a:srgbClr val="003399"/>
              </a:solidFill>
              <a:miter/>
            </a:ln>
          </p:spPr>
        </p:cxnSp>
        <p:sp>
          <p:nvSpPr>
            <p:cNvPr id="103" name="AutoShape 16"/>
            <p:cNvSpPr/>
            <p:nvPr/>
          </p:nvSpPr>
          <p:spPr>
            <a:xfrm>
              <a:off x="3689280" y="1467000"/>
              <a:ext cx="1997280" cy="66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3803760" y="3813120"/>
              <a:ext cx="165096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"/>
                </a:rPr>
                <a:t>6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3343320" y="2317680"/>
              <a:ext cx="245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Financi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96840" y="5175360"/>
              <a:ext cx="2013120" cy="1079280"/>
            </a:xfrm>
            <a:prstGeom prst="roundRect">
              <a:avLst>
                <a:gd name="adj" fmla="val 8375"/>
              </a:avLst>
            </a:prstGeom>
            <a:solidFill>
              <a:srgbClr val="27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>
              <a:off x="150840" y="5438880"/>
              <a:ext cx="1893960" cy="70776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4200" y="5486400"/>
              <a:ext cx="178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Operations spanning 23 coun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4"/>
            <p:cNvSpPr/>
            <p:nvPr/>
          </p:nvSpPr>
          <p:spPr>
            <a:xfrm>
              <a:off x="76320" y="5210280"/>
              <a:ext cx="2054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Global Pres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5"/>
            <p:cNvGrpSpPr/>
            <p:nvPr/>
          </p:nvGrpSpPr>
          <p:grpSpPr>
            <a:xfrm>
              <a:off x="2209680" y="5168880"/>
              <a:ext cx="2362320" cy="1079280"/>
              <a:chOff x="2209680" y="5168880"/>
              <a:chExt cx="2362320" cy="1079280"/>
            </a:xfrm>
          </p:grpSpPr>
          <p:sp>
            <p:nvSpPr>
              <p:cNvPr id="112" name="AutoShape 26"/>
              <p:cNvSpPr/>
              <p:nvPr/>
            </p:nvSpPr>
            <p:spPr>
              <a:xfrm>
                <a:off x="2246040" y="5168880"/>
                <a:ext cx="2313720" cy="1079280"/>
              </a:xfrm>
              <a:prstGeom prst="roundRect">
                <a:avLst>
                  <a:gd name="adj" fmla="val 8375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>
                <a:off x="2307240" y="5445000"/>
                <a:ext cx="2178720" cy="708120"/>
              </a:xfrm>
              <a:prstGeom prst="roundRect">
                <a:avLst>
                  <a:gd name="adj" fmla="val 8375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8"/>
              <p:cNvSpPr/>
              <p:nvPr/>
            </p:nvSpPr>
            <p:spPr>
              <a:xfrm>
                <a:off x="2365200" y="5492520"/>
                <a:ext cx="2056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"/>
                  </a:rPr>
                  <a:t>USA, UK, Poland, Puerto Rico, Brazil, China, Malaysia, Singapore and Ind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9"/>
              <p:cNvSpPr/>
              <p:nvPr/>
            </p:nvSpPr>
            <p:spPr>
              <a:xfrm>
                <a:off x="2209680" y="520380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"/>
                  </a:rPr>
                  <a:t>Delivery Facil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31"/>
            <p:cNvSpPr/>
            <p:nvPr/>
          </p:nvSpPr>
          <p:spPr>
            <a:xfrm>
              <a:off x="1841400" y="3579840"/>
              <a:ext cx="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1841400" y="4079880"/>
              <a:ext cx="180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3"/>
            <p:cNvGrpSpPr/>
            <p:nvPr/>
          </p:nvGrpSpPr>
          <p:grpSpPr>
            <a:xfrm>
              <a:off x="5506920" y="3541680"/>
              <a:ext cx="2151360" cy="537840"/>
              <a:chOff x="5506920" y="3541680"/>
              <a:chExt cx="2151360" cy="53784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7643880" y="3541680"/>
                <a:ext cx="0" cy="53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5"/>
              <p:cNvSpPr/>
              <p:nvPr/>
            </p:nvSpPr>
            <p:spPr>
              <a:xfrm flipH="1">
                <a:off x="5506920" y="4079520"/>
                <a:ext cx="215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Picture 36" descr=""/>
            <p:cNvPicPr/>
            <p:nvPr/>
          </p:nvPicPr>
          <p:blipFill>
            <a:blip r:embed="rId1"/>
            <a:stretch/>
          </p:blipFill>
          <p:spPr>
            <a:xfrm>
              <a:off x="3727440" y="1538280"/>
              <a:ext cx="19191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40"/>
            <p:cNvSpPr/>
            <p:nvPr/>
          </p:nvSpPr>
          <p:spPr>
            <a:xfrm>
              <a:off x="4681440" y="5105520"/>
              <a:ext cx="2089080" cy="107928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1"/>
            <p:cNvSpPr/>
            <p:nvPr/>
          </p:nvSpPr>
          <p:spPr>
            <a:xfrm>
              <a:off x="4737240" y="5381640"/>
              <a:ext cx="1966680" cy="70812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4737240" y="5448240"/>
              <a:ext cx="200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Offices in 170 cities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505 points of presence reaching 4,000 tow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3"/>
            <p:cNvSpPr/>
            <p:nvPr/>
          </p:nvSpPr>
          <p:spPr>
            <a:xfrm>
              <a:off x="4648320" y="5140440"/>
              <a:ext cx="213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India Pres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4"/>
            <p:cNvSpPr/>
            <p:nvPr/>
          </p:nvSpPr>
          <p:spPr>
            <a:xfrm>
              <a:off x="6888240" y="5105520"/>
              <a:ext cx="1865160" cy="107928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5"/>
            <p:cNvSpPr/>
            <p:nvPr/>
          </p:nvSpPr>
          <p:spPr>
            <a:xfrm>
              <a:off x="6937200" y="5486400"/>
              <a:ext cx="1756080" cy="60336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6"/>
            <p:cNvSpPr/>
            <p:nvPr/>
          </p:nvSpPr>
          <p:spPr>
            <a:xfrm>
              <a:off x="6937200" y="5514840"/>
              <a:ext cx="1785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92,000  outlets in o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10,000 tow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6858000" y="5148360"/>
              <a:ext cx="1905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Distribution 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3394080" y="2666880"/>
              <a:ext cx="2473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Total Revenues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  $  5     B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BITDA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  $ 550  M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1378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2"/>
            <p:cNvSpPr/>
            <p:nvPr/>
          </p:nvSpPr>
          <p:spPr>
            <a:xfrm>
              <a:off x="208080" y="2330280"/>
              <a:ext cx="2644560" cy="1555920"/>
            </a:xfrm>
            <a:prstGeom prst="roundRect">
              <a:avLst>
                <a:gd name="adj" fmla="val 8375"/>
              </a:avLst>
            </a:prstGeom>
            <a:solidFill>
              <a:srgbClr val="27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3"/>
            <p:cNvSpPr/>
            <p:nvPr/>
          </p:nvSpPr>
          <p:spPr>
            <a:xfrm>
              <a:off x="287280" y="2622600"/>
              <a:ext cx="2489400" cy="95868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54"/>
            <p:cNvGrpSpPr/>
            <p:nvPr/>
          </p:nvGrpSpPr>
          <p:grpSpPr>
            <a:xfrm>
              <a:off x="2853000" y="2660760"/>
              <a:ext cx="271080" cy="761760"/>
              <a:chOff x="2853000" y="2660760"/>
              <a:chExt cx="271080" cy="761760"/>
            </a:xfrm>
          </p:grpSpPr>
          <p:sp>
            <p:nvSpPr>
              <p:cNvPr id="134" name="AutoShape 55"/>
              <p:cNvSpPr/>
              <p:nvPr/>
            </p:nvSpPr>
            <p:spPr>
              <a:xfrm rot="5400000">
                <a:off x="2643840" y="2942280"/>
                <a:ext cx="761760" cy="198720"/>
              </a:xfrm>
              <a:prstGeom prst="triangle">
                <a:avLst>
                  <a:gd name="adj" fmla="val 50000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56"/>
              <p:cNvSpPr/>
              <p:nvPr/>
            </p:nvSpPr>
            <p:spPr>
              <a:xfrm rot="5400000">
                <a:off x="2680200" y="2941920"/>
                <a:ext cx="543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276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57"/>
            <p:cNvSpPr/>
            <p:nvPr/>
          </p:nvSpPr>
          <p:spPr>
            <a:xfrm>
              <a:off x="157320" y="2317680"/>
              <a:ext cx="245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HCL Techn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0"/>
            <p:cNvSpPr/>
            <p:nvPr/>
          </p:nvSpPr>
          <p:spPr>
            <a:xfrm>
              <a:off x="457200" y="3581280"/>
              <a:ext cx="2216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"/>
                </a:rPr>
                <a:t>Global Market Foc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1"/>
            <p:cNvSpPr/>
            <p:nvPr/>
          </p:nvSpPr>
          <p:spPr>
            <a:xfrm>
              <a:off x="6400800" y="2330280"/>
              <a:ext cx="2575080" cy="1555920"/>
            </a:xfrm>
            <a:prstGeom prst="roundRect">
              <a:avLst>
                <a:gd name="adj" fmla="val 8375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2"/>
            <p:cNvSpPr/>
            <p:nvPr/>
          </p:nvSpPr>
          <p:spPr>
            <a:xfrm>
              <a:off x="6477120" y="2622600"/>
              <a:ext cx="2422440" cy="958680"/>
            </a:xfrm>
            <a:prstGeom prst="roundRect">
              <a:avLst>
                <a:gd name="adj" fmla="val 83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63"/>
            <p:cNvGrpSpPr/>
            <p:nvPr/>
          </p:nvGrpSpPr>
          <p:grpSpPr>
            <a:xfrm>
              <a:off x="6095880" y="2660760"/>
              <a:ext cx="271080" cy="761760"/>
              <a:chOff x="6095880" y="2660760"/>
              <a:chExt cx="271080" cy="761760"/>
            </a:xfrm>
          </p:grpSpPr>
          <p:sp>
            <p:nvSpPr>
              <p:cNvPr id="141" name="AutoShape 64"/>
              <p:cNvSpPr/>
              <p:nvPr/>
            </p:nvSpPr>
            <p:spPr>
              <a:xfrm rot="16200000">
                <a:off x="5814360" y="2942280"/>
                <a:ext cx="761760" cy="19872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5"/>
              <p:cNvSpPr/>
              <p:nvPr/>
            </p:nvSpPr>
            <p:spPr>
              <a:xfrm rot="16200000">
                <a:off x="5995800" y="2942640"/>
                <a:ext cx="543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 Box 66"/>
            <p:cNvSpPr/>
            <p:nvPr/>
          </p:nvSpPr>
          <p:spPr>
            <a:xfrm>
              <a:off x="6537240" y="2317680"/>
              <a:ext cx="2451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HCL Infosyste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9"/>
            <p:cNvSpPr/>
            <p:nvPr/>
          </p:nvSpPr>
          <p:spPr>
            <a:xfrm>
              <a:off x="6553080" y="3581280"/>
              <a:ext cx="2216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"/>
                </a:rPr>
                <a:t>Indian Market Foc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6372360" y="2803680"/>
              <a:ext cx="2466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Hardware, System Integration, Networking Solutions, Managed ISP Services, Homeland Security &amp; ICT Distribu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185760" y="2727360"/>
              <a:ext cx="26668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"/>
                </a:rPr>
                <a:t>Product Engineering &amp; R&amp;D, Enterprise &amp; Custom Applications, Enterprise Transformation Services Infrastructure Management,  &amp; BPO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n IT Mark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ement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4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6-2011:Estimated CAG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Domestic IT market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- 16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Verdana"/>
              </a:rPr>
              <a:t>Domestic ITES market- 40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Overall Domestic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IT+ITES market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- 19.7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Export Revenues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- 17.4%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Significantly 2006-07 happened to be th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first year where domestic market growth rat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has been more than the export revenue 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  <a:p>
            <a:pPr lvl="1" marL="6314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rowth</a:t>
            </a:r>
            <a:endParaRPr b="0" lang="en-US" sz="2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338800" y="2486160"/>
            <a:ext cx="1428840" cy="5331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389360" y="586728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urce: IDC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No. of Positions: 3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ment could be in any organisation- with whom HCL has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Subsidi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Com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Infi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CL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Affili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2143080"/>
          <a:ext cx="4038480" cy="362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i Infotech Lt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n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M Technolo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ion Syste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ble &amp; Wire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ebay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ture Business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648320" y="2143080"/>
          <a:ext cx="4038480" cy="3178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land 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S Information technolo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chesys IT 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ladion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 Image Media Technol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now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h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Infosystems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nue (LTM) of $2.7 billion (Rs. 12,445 cr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premier information enabling and ICT System Integration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s a wide spectrum of ICT products that includes Computing, Storage, Networking, Security, Telecom, Imaging and Retai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eading System Integration and Infrastructure Management Services Organizati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s in 170 citi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5 points of presence reaching 4,000 tow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CL Infosystems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ise across verticals including Telecom, BFSI, E-Governance &amp; Po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argest distribution and retail networ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 with leading global ICT brands - including Apple, Cisco, Ericsson, Kingston, Kodak, Konica Minolta, Microsoft, Nokia, Toshiba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's largest vertically integrated computer manufacturing fac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L desktops is the largest selling brand into the enterprise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133720" y="1066680"/>
            <a:ext cx="4952880" cy="3581640"/>
          </a:xfrm>
          <a:prstGeom prst="rect">
            <a:avLst/>
          </a:prstGeom>
          <a:solidFill>
            <a:srgbClr val="62a9f0"/>
          </a:solidFill>
          <a:ln w="0">
            <a:noFill/>
          </a:ln>
          <a:effectLst>
            <a:outerShdw dist="17819" dir="2700000" blurRad="0" rotWithShape="0">
              <a:srgbClr val="3b65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imSun"/>
              </a:rPr>
              <a:t>India’s No.1 System Integration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162920" y="1066680"/>
            <a:ext cx="1904760" cy="1295640"/>
          </a:xfrm>
          <a:prstGeom prst="rect">
            <a:avLst/>
          </a:prstGeom>
          <a:solidFill>
            <a:srgbClr val="9bc8f5"/>
          </a:solidFill>
          <a:ln w="0">
            <a:noFill/>
          </a:ln>
          <a:effectLst>
            <a:outerShdw dist="17819" dir="2700000" blurRad="0" rotWithShape="0">
              <a:srgbClr val="5d7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859aa"/>
                </a:solidFill>
                <a:latin typeface="SimSun"/>
              </a:rPr>
              <a:t>India’s Largest Distribution &amp; Retail Network </a:t>
            </a:r>
            <a:r>
              <a:rPr b="1" lang="en-US" sz="1000" spc="-1" strike="noStrike">
                <a:solidFill>
                  <a:srgbClr val="0859aa"/>
                </a:solidFill>
                <a:latin typeface="SimSun"/>
              </a:rPr>
              <a:t>( 45 DLS, 3000 franchise, 50k+ retail outle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280" y="1066680"/>
            <a:ext cx="1905120" cy="1143000"/>
          </a:xfrm>
          <a:prstGeom prst="rect">
            <a:avLst/>
          </a:prstGeom>
          <a:solidFill>
            <a:srgbClr val="62a9f0"/>
          </a:solidFill>
          <a:ln w="0">
            <a:noFill/>
          </a:ln>
          <a:effectLst>
            <a:outerShdw dist="17819" dir="2700000" blurRad="0" rotWithShape="0">
              <a:srgbClr val="3b65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859aa"/>
                </a:solidFill>
                <a:latin typeface="SimSun"/>
              </a:rPr>
              <a:t>India’s Largest Direct Sales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2280" y="2209680"/>
            <a:ext cx="1905120" cy="4191120"/>
          </a:xfrm>
          <a:prstGeom prst="rect">
            <a:avLst/>
          </a:prstGeom>
          <a:solidFill>
            <a:srgbClr val="addef9"/>
          </a:solidFill>
          <a:ln w="0">
            <a:noFill/>
          </a:ln>
          <a:effectLst>
            <a:outerShdw dist="17819" dir="2700000" blurRad="0" rotWithShape="0">
              <a:srgbClr val="688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omputing &amp;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Networking &amp;        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Enterpris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OS (Retail)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52280" y="1127160"/>
            <a:ext cx="1905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59aa"/>
                </a:solidFill>
                <a:latin typeface="SimSun"/>
              </a:rPr>
              <a:t>B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7162920" y="2362320"/>
            <a:ext cx="1904760" cy="4038480"/>
          </a:xfrm>
          <a:prstGeom prst="rect">
            <a:avLst/>
          </a:prstGeom>
          <a:solidFill>
            <a:srgbClr val="addef9"/>
          </a:solidFill>
          <a:ln w="0">
            <a:noFill/>
          </a:ln>
          <a:effectLst>
            <a:outerShdw dist="17819" dir="2700000" blurRad="0" rotWithShape="0">
              <a:srgbClr val="688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ompu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Desk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maging &amp; Printing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CL Digilif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CL Laptops &amp; Desk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Cas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King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lantr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oshi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ita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n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57400" y="1066680"/>
            <a:ext cx="5105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imSun"/>
              </a:rPr>
              <a:t>SI, Roll Out &amp; Infr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17188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E-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16224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BF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15296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14368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134040" y="1752480"/>
            <a:ext cx="914400" cy="106704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Media &amp; 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66688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Infrast-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65760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464832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133720" y="5943600"/>
            <a:ext cx="4952880" cy="45720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Manufactu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mSun"/>
              </a:rPr>
              <a:t>ISO-14001,9001; ISO-13485-2003; TS 16949-2002; TUV - Accred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2133720" y="4724280"/>
            <a:ext cx="4952880" cy="76212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India’s Largest Service Support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mSun"/>
              </a:rPr>
              <a:t>Multi-location Project Services, Network Security &amp; Management Services, FM Services, Multi Vendor &amp; System Integration Support, IT/BPO Outsourcing Services, Copy &amp; Printing Services Spot Maintenance Services, Document Management Services &amp; Branch Rollout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162920" y="1066680"/>
            <a:ext cx="1904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59aa"/>
                </a:solidFill>
                <a:latin typeface="SimSun"/>
              </a:rPr>
              <a:t>B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5638680" y="2286000"/>
            <a:ext cx="914400" cy="533520"/>
          </a:xfrm>
          <a:prstGeom prst="rect">
            <a:avLst/>
          </a:prstGeom>
          <a:solidFill>
            <a:srgbClr val="bbe0e3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imSun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171880" y="3114720"/>
            <a:ext cx="4876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s;  Laptops;  Workstations;  Thin Client;  Peripherals;  Racks; Kiosk; Software; Servers; Blade Server; Storage;  Backup Solutions; Active &amp; Passive Networking; Equipments; Security Solutions; Enterprise VPN; Hosting; ASP Services; Bandwidth Boos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ing Produc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Copiers; Multimedia Projectors; Plasma / LCD Display Panels Audio Visual System Integration; Laser Printers (Mono / Color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com Produc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P Phones; TDM / IP PBX; Video Conferencing; Call Centre Solutions; TV Broadcasting; FM Broadcasting; GPS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133720" y="2819520"/>
            <a:ext cx="4952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imSun"/>
              </a:rPr>
              <a:t>Complete ICT Solutions from 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2133720" y="5562720"/>
            <a:ext cx="4952880" cy="304560"/>
          </a:xfrm>
          <a:prstGeom prst="rect">
            <a:avLst/>
          </a:prstGeom>
          <a:solidFill>
            <a:srgbClr val="80b9f2"/>
          </a:solidFill>
          <a:ln w="0">
            <a:noFill/>
          </a:ln>
          <a:effectLst>
            <a:outerShdw dist="17819" dir="2700000" blurRad="0" rotWithShape="0">
              <a:srgbClr val="4d6f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imSun"/>
              </a:rPr>
              <a:t>ICT Training &amp;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-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52280" y="1981080"/>
            <a:ext cx="32004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taranchal 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352680" y="1482840"/>
            <a:ext cx="5486400" cy="2028600"/>
          </a:xfrm>
          <a:prstGeom prst="rect">
            <a:avLst/>
          </a:pr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Uttaranchal facility commences commercial production for Desktops,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aptops, Servers, Monito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ong facility base in both Southern &amp; Northern India, allowing to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ffer mo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nhanced value through better logistic efficiency &amp; lower time to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akes overall capacity to 1.3 million PCs per annum, making HCL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argest  ICT manufacturing fac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r001-0331"/>
          <p:cNvPicPr/>
          <p:nvPr/>
        </p:nvPicPr>
        <p:blipFill>
          <a:blip r:embed="rId1"/>
          <a:stretch/>
        </p:blipFill>
        <p:spPr>
          <a:xfrm>
            <a:off x="4876920" y="3816360"/>
            <a:ext cx="3962160" cy="2133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52280" y="3511440"/>
            <a:ext cx="4724640" cy="2862360"/>
          </a:xfrm>
          <a:prstGeom prst="rect">
            <a:avLst/>
          </a:prstGeom>
          <a:solidFill>
            <a:srgbClr val="99cc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ther Manufacturing facilities includ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at Pondicherry &amp; Chenna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Quality Certifi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at Pondicherry &amp; Uttaranchal ISO 9001 and ISO 14001 certifi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ducts Manufactured at Pondicherry &amp; Chenna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s, Business Servers, Workstations, Keyboards, Color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s, Terminals &amp; Thin cli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C Racks, Cabinets, Information Kio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ax Benefits at both the plants: Pondicherry &amp; Uttaranch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876920" y="3962520"/>
            <a:ext cx="39621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dicherry 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6320" y="831960"/>
            <a:ext cx="8839080" cy="850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riven by a strong Manufacturing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all deliver defect-free products, services and solutions to meet the Requirements of our external and internal customers, the first time, every tim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Picture 013"/>
          <p:cNvPicPr/>
          <p:nvPr/>
        </p:nvPicPr>
        <p:blipFill>
          <a:blip r:embed="rId2"/>
          <a:stretch/>
        </p:blipFill>
        <p:spPr>
          <a:xfrm>
            <a:off x="152280" y="191124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CL – Production Fac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533520" y="1371600"/>
            <a:ext cx="914400" cy="4800600"/>
          </a:xfrm>
          <a:prstGeom prst="rightArrow">
            <a:avLst>
              <a:gd name="adj1" fmla="val 48880"/>
              <a:gd name="adj2" fmla="val 59722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ntel"/>
          <p:cNvPicPr/>
          <p:nvPr/>
        </p:nvPicPr>
        <p:blipFill>
          <a:blip r:embed="rId1"/>
          <a:stretch/>
        </p:blipFill>
        <p:spPr>
          <a:xfrm>
            <a:off x="1600200" y="1481040"/>
            <a:ext cx="762120" cy="42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amdlogo"/>
          <p:cNvPicPr/>
          <p:nvPr/>
        </p:nvPicPr>
        <p:blipFill>
          <a:blip r:embed="rId2"/>
          <a:stretch/>
        </p:blipFill>
        <p:spPr>
          <a:xfrm>
            <a:off x="2514600" y="1523880"/>
            <a:ext cx="1050840" cy="27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eagate"/>
          <p:cNvPicPr/>
          <p:nvPr/>
        </p:nvPicPr>
        <p:blipFill>
          <a:blip r:embed="rId3"/>
          <a:stretch/>
        </p:blipFill>
        <p:spPr>
          <a:xfrm>
            <a:off x="3613320" y="1447920"/>
            <a:ext cx="958680" cy="406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gigabyte"/>
          <p:cNvPicPr/>
          <p:nvPr/>
        </p:nvPicPr>
        <p:blipFill>
          <a:blip r:embed="rId4"/>
          <a:stretch/>
        </p:blipFill>
        <p:spPr>
          <a:xfrm>
            <a:off x="6477120" y="1523880"/>
            <a:ext cx="1147680" cy="30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ynix"/>
          <p:cNvPicPr/>
          <p:nvPr/>
        </p:nvPicPr>
        <p:blipFill>
          <a:blip r:embed="rId5"/>
          <a:stretch/>
        </p:blipFill>
        <p:spPr>
          <a:xfrm>
            <a:off x="4648320" y="1523880"/>
            <a:ext cx="685800" cy="34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nfocuslogo_big"/>
          <p:cNvPicPr/>
          <p:nvPr/>
        </p:nvPicPr>
        <p:blipFill>
          <a:blip r:embed="rId6"/>
          <a:stretch/>
        </p:blipFill>
        <p:spPr>
          <a:xfrm>
            <a:off x="2133720" y="4952880"/>
            <a:ext cx="9144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Picture 10" descr="duplologo"/>
          <p:cNvPicPr/>
          <p:nvPr/>
        </p:nvPicPr>
        <p:blipFill>
          <a:blip r:embed="rId7"/>
          <a:stretch/>
        </p:blipFill>
        <p:spPr>
          <a:xfrm>
            <a:off x="4267080" y="4952880"/>
            <a:ext cx="889200" cy="381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ericssonlogo"/>
          <p:cNvPicPr/>
          <p:nvPr/>
        </p:nvPicPr>
        <p:blipFill>
          <a:blip r:embed="rId8"/>
          <a:stretch/>
        </p:blipFill>
        <p:spPr>
          <a:xfrm>
            <a:off x="3581280" y="5638680"/>
            <a:ext cx="990720" cy="381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samsung"/>
          <p:cNvPicPr/>
          <p:nvPr/>
        </p:nvPicPr>
        <p:blipFill>
          <a:blip r:embed="rId9"/>
          <a:stretch/>
        </p:blipFill>
        <p:spPr>
          <a:xfrm>
            <a:off x="3124080" y="4952880"/>
            <a:ext cx="990720" cy="35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nokialogo"/>
          <p:cNvPicPr/>
          <p:nvPr/>
        </p:nvPicPr>
        <p:blipFill>
          <a:blip r:embed="rId10"/>
          <a:stretch/>
        </p:blipFill>
        <p:spPr>
          <a:xfrm>
            <a:off x="2286000" y="5678640"/>
            <a:ext cx="1031760" cy="341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533520" y="185904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533520" y="41702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Lifestyl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533520" y="5715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33520" y="50292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533520" y="4800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533520" y="5562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 rot="16200000">
            <a:off x="-2125440" y="3587400"/>
            <a:ext cx="49532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2" descr=""/>
          <p:cNvPicPr/>
          <p:nvPr/>
        </p:nvPicPr>
        <p:blipFill>
          <a:blip r:embed="rId11"/>
          <a:stretch/>
        </p:blipFill>
        <p:spPr>
          <a:xfrm>
            <a:off x="1905120" y="4145040"/>
            <a:ext cx="630000" cy="51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"/>
          <p:cNvPicPr/>
          <p:nvPr/>
        </p:nvPicPr>
        <p:blipFill>
          <a:blip r:embed="rId12"/>
          <a:stretch/>
        </p:blipFill>
        <p:spPr>
          <a:xfrm>
            <a:off x="5334120" y="4952880"/>
            <a:ext cx="990360" cy="401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"/>
          <p:cNvPicPr/>
          <p:nvPr/>
        </p:nvPicPr>
        <p:blipFill>
          <a:blip r:embed="rId13"/>
          <a:stretch/>
        </p:blipFill>
        <p:spPr>
          <a:xfrm>
            <a:off x="2743200" y="1905120"/>
            <a:ext cx="1066680" cy="31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"/>
          <p:cNvPicPr/>
          <p:nvPr/>
        </p:nvPicPr>
        <p:blipFill>
          <a:blip r:embed="rId14"/>
          <a:stretch/>
        </p:blipFill>
        <p:spPr>
          <a:xfrm>
            <a:off x="2819520" y="4294080"/>
            <a:ext cx="99036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microsoft"/>
          <p:cNvPicPr/>
          <p:nvPr/>
        </p:nvPicPr>
        <p:blipFill>
          <a:blip r:embed="rId15"/>
          <a:stretch/>
        </p:blipFill>
        <p:spPr>
          <a:xfrm>
            <a:off x="4051440" y="4202280"/>
            <a:ext cx="1303200" cy="34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nokialogo"/>
          <p:cNvPicPr/>
          <p:nvPr/>
        </p:nvPicPr>
        <p:blipFill>
          <a:blip r:embed="rId16"/>
          <a:stretch/>
        </p:blipFill>
        <p:spPr>
          <a:xfrm>
            <a:off x="5673600" y="4130640"/>
            <a:ext cx="1032120" cy="44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8" descr=""/>
          <p:cNvPicPr/>
          <p:nvPr/>
        </p:nvPicPr>
        <p:blipFill>
          <a:blip r:embed="rId17"/>
          <a:stretch/>
        </p:blipFill>
        <p:spPr>
          <a:xfrm>
            <a:off x="5334120" y="1523880"/>
            <a:ext cx="1143000" cy="392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logo_2"/>
          <p:cNvPicPr/>
          <p:nvPr/>
        </p:nvPicPr>
        <p:blipFill>
          <a:blip r:embed="rId18"/>
          <a:stretch/>
        </p:blipFill>
        <p:spPr>
          <a:xfrm>
            <a:off x="7696080" y="1523880"/>
            <a:ext cx="1067040" cy="39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0" descr="samsung"/>
          <p:cNvPicPr/>
          <p:nvPr/>
        </p:nvPicPr>
        <p:blipFill>
          <a:blip r:embed="rId19"/>
          <a:stretch/>
        </p:blipFill>
        <p:spPr>
          <a:xfrm>
            <a:off x="1676520" y="1905120"/>
            <a:ext cx="990360" cy="353880"/>
          </a:xfrm>
          <a:prstGeom prst="rect">
            <a:avLst/>
          </a:prstGeom>
          <a:ln w="0">
            <a:noFill/>
          </a:ln>
        </p:spPr>
      </p:pic>
      <p:sp>
        <p:nvSpPr>
          <p:cNvPr id="210" name="Line 31"/>
          <p:cNvSpPr/>
          <p:nvPr/>
        </p:nvSpPr>
        <p:spPr>
          <a:xfrm>
            <a:off x="53352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"/>
          <p:cNvPicPr/>
          <p:nvPr/>
        </p:nvPicPr>
        <p:blipFill>
          <a:blip r:embed="rId20"/>
          <a:stretch/>
        </p:blipFill>
        <p:spPr>
          <a:xfrm>
            <a:off x="1752480" y="3352680"/>
            <a:ext cx="905040" cy="381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"/>
          <p:cNvPicPr/>
          <p:nvPr/>
        </p:nvPicPr>
        <p:blipFill>
          <a:blip r:embed="rId21"/>
          <a:stretch/>
        </p:blipFill>
        <p:spPr>
          <a:xfrm>
            <a:off x="2819520" y="3429000"/>
            <a:ext cx="1495440" cy="276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symantec logo"/>
          <p:cNvPicPr/>
          <p:nvPr/>
        </p:nvPicPr>
        <p:blipFill>
          <a:blip r:embed="rId22"/>
          <a:stretch/>
        </p:blipFill>
        <p:spPr>
          <a:xfrm>
            <a:off x="6934320" y="3352680"/>
            <a:ext cx="1218960" cy="4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konica-minolta_logo"/>
          <p:cNvPicPr/>
          <p:nvPr/>
        </p:nvPicPr>
        <p:blipFill>
          <a:blip r:embed="rId23"/>
          <a:stretch/>
        </p:blipFill>
        <p:spPr>
          <a:xfrm>
            <a:off x="6400800" y="4952880"/>
            <a:ext cx="1219320" cy="53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go GLOBAL HITACHI Home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620120" y="49528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216" name="Line 37"/>
          <p:cNvSpPr/>
          <p:nvPr/>
        </p:nvSpPr>
        <p:spPr>
          <a:xfrm>
            <a:off x="533520" y="2438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533520" y="3352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9" descr="CASIO"/>
          <p:cNvPicPr/>
          <p:nvPr/>
        </p:nvPicPr>
        <p:blipFill>
          <a:blip r:embed="rId26"/>
          <a:stretch/>
        </p:blipFill>
        <p:spPr>
          <a:xfrm>
            <a:off x="7162920" y="4038480"/>
            <a:ext cx="1523880" cy="609840"/>
          </a:xfrm>
          <a:prstGeom prst="rect">
            <a:avLst/>
          </a:prstGeom>
          <a:ln w="0">
            <a:noFill/>
          </a:ln>
        </p:spPr>
      </p:pic>
      <p:sp>
        <p:nvSpPr>
          <p:cNvPr id="219" name="Line 40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1" descr="microsoft"/>
          <p:cNvPicPr/>
          <p:nvPr/>
        </p:nvPicPr>
        <p:blipFill>
          <a:blip r:embed="rId27"/>
          <a:stretch/>
        </p:blipFill>
        <p:spPr>
          <a:xfrm>
            <a:off x="1676520" y="2590920"/>
            <a:ext cx="1303200" cy="347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redhat"/>
          <p:cNvPicPr/>
          <p:nvPr/>
        </p:nvPicPr>
        <p:blipFill>
          <a:blip r:embed="rId28"/>
          <a:stretch/>
        </p:blipFill>
        <p:spPr>
          <a:xfrm>
            <a:off x="5562720" y="2590920"/>
            <a:ext cx="1214280" cy="36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3" descr="novelllogo"/>
          <p:cNvPicPr/>
          <p:nvPr/>
        </p:nvPicPr>
        <p:blipFill>
          <a:blip r:embed="rId29"/>
          <a:stretch/>
        </p:blipFill>
        <p:spPr>
          <a:xfrm>
            <a:off x="3124080" y="2590920"/>
            <a:ext cx="1067040" cy="36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4" descr="oracle"/>
          <p:cNvPicPr/>
          <p:nvPr/>
        </p:nvPicPr>
        <p:blipFill>
          <a:blip r:embed="rId30"/>
          <a:stretch/>
        </p:blipFill>
        <p:spPr>
          <a:xfrm>
            <a:off x="4267080" y="2590920"/>
            <a:ext cx="1143000" cy="38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24" name="Text Box 45"/>
          <p:cNvSpPr/>
          <p:nvPr/>
        </p:nvSpPr>
        <p:spPr>
          <a:xfrm>
            <a:off x="533520" y="266688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>
            <a:off x="457200" y="6172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7" descr=""/>
          <p:cNvPicPr/>
          <p:nvPr/>
        </p:nvPicPr>
        <p:blipFill>
          <a:blip r:embed="rId31"/>
          <a:stretch/>
        </p:blipFill>
        <p:spPr>
          <a:xfrm>
            <a:off x="6858000" y="2666880"/>
            <a:ext cx="1143000" cy="303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8" descr=""/>
          <p:cNvPicPr/>
          <p:nvPr/>
        </p:nvPicPr>
        <p:blipFill>
          <a:blip r:embed="rId32"/>
          <a:stretch/>
        </p:blipFill>
        <p:spPr>
          <a:xfrm>
            <a:off x="8305920" y="320040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9" descr=""/>
          <p:cNvPicPr/>
          <p:nvPr/>
        </p:nvPicPr>
        <p:blipFill>
          <a:blip r:embed="rId33"/>
          <a:stretch/>
        </p:blipFill>
        <p:spPr>
          <a:xfrm>
            <a:off x="4267080" y="3124080"/>
            <a:ext cx="104796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0" descr=""/>
          <p:cNvPicPr/>
          <p:nvPr/>
        </p:nvPicPr>
        <p:blipFill>
          <a:blip r:embed="rId34"/>
          <a:stretch/>
        </p:blipFill>
        <p:spPr>
          <a:xfrm>
            <a:off x="5343480" y="3333600"/>
            <a:ext cx="1514520" cy="400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"/>
          <p:cNvPicPr/>
          <p:nvPr/>
        </p:nvPicPr>
        <p:blipFill>
          <a:blip r:embed="rId35"/>
          <a:stretch/>
        </p:blipFill>
        <p:spPr>
          <a:xfrm>
            <a:off x="3962520" y="19051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2" descr=""/>
          <p:cNvPicPr/>
          <p:nvPr/>
        </p:nvPicPr>
        <p:blipFill>
          <a:blip r:embed="rId36"/>
          <a:stretch/>
        </p:blipFill>
        <p:spPr>
          <a:xfrm>
            <a:off x="5029200" y="5595840"/>
            <a:ext cx="762120" cy="544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69920" y="2174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iances &amp; Partner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ruitment for the position 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/ System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base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urity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te Infrastructure Administ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Pa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838080" y="1600200"/>
            <a:ext cx="7391520" cy="4267080"/>
            <a:chOff x="838080" y="1600200"/>
            <a:chExt cx="7391520" cy="4267080"/>
          </a:xfrm>
        </p:grpSpPr>
        <p:sp>
          <p:nvSpPr>
            <p:cNvPr id="237" name="Rectangle 4"/>
            <p:cNvSpPr/>
            <p:nvPr/>
          </p:nvSpPr>
          <p:spPr>
            <a:xfrm>
              <a:off x="838080" y="495288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Network/ System/ Database/ Security/ Remote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Administrato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838080" y="327672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Network/ System/ Database/ Security/ Remote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Archite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838080" y="1600200"/>
              <a:ext cx="7391520" cy="91440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IT Manag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V="1">
              <a:off x="4572000" y="4191120"/>
              <a:ext cx="0" cy="761760"/>
            </a:xfrm>
            <a:prstGeom prst="line">
              <a:avLst/>
            </a:prstGeom>
            <a:ln w="7632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V="1">
              <a:off x="4572000" y="2514240"/>
              <a:ext cx="0" cy="762120"/>
            </a:xfrm>
            <a:prstGeom prst="line">
              <a:avLst/>
            </a:prstGeom>
            <a:ln w="7632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sh Manne</dc:creator>
  <dc:description/>
  <dc:language>en-US</dc:language>
  <cp:lastModifiedBy>kishore</cp:lastModifiedBy>
  <dcterms:modified xsi:type="dcterms:W3CDTF">2009-12-15T06:08:1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